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2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7516FA-6F2F-4DFF-8A18-1AF676A41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DB2DA8-E8DF-4B93-B159-47C4A62D8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468C71-4020-4442-8E5D-4C4224CC5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39FB71-9D04-4C7C-90EA-6EC3E07B6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9F506E-F2E7-4411-AE77-44DBBBE54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589FC4-9474-4413-A1EE-E80294105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0EDD7F-A78F-43A1-8623-F3C4A7047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7E7225-B32D-4CFE-81C2-D0631DC3B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E5FD9D-A980-468B-8192-18C7B1115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8C0E8C-A265-4617-A9EE-E1B70509A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949162-C071-4542-B1B0-D16410186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A4F198-B1E4-48FF-A8B0-E6B8973D6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9CAF6F-530A-4313-80FD-4E151CF1F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EF0028-44D2-4237-8FB3-FBA72DC2A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0B662D-96B6-4951-8A62-7C544B3DE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6337EB-C7A4-4475-9717-41C387518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239C67-6267-4152-A530-A0DAA32AE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8008A7-E6D1-4C3E-BB59-1A1E3B4F5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574B33-6787-4AA8-8D33-470709E59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C5EE49-2BD1-4253-B818-903BE543F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CB97B5-4B86-4A65-B033-76596CBE2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9459E3-ECF8-46F9-97B4-943990E8D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4B7452-7993-46FC-B720-4A4113A68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ADB0AA-D739-49B9-9FCD-01A6294AE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0CECD4-83F4-48D1-9E88-804D64230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60E724-83F7-44EA-9CAB-6D7EE40CC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741145-2B64-46E2-B01C-8F9D442E0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39D90C-0B4E-4E5E-9ED6-92E1D42A6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C969F5-0A14-4DD2-A649-1F25CC91C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26BBC8-8F82-4E9D-A146-FA0AA6D69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0A99BF-0A2F-41CD-8515-A1BFC4F7C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A64A73-2A60-4DDB-8CF9-6CDFF6E0C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05F049-0E31-4A1A-9FD7-A1C46FF60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91D90B-66B4-4B12-9094-D519D5C81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8D01AB-E108-4295-9CAF-405F391F2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17CCE6-4FB7-4B72-AE71-AD8245FD6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4719C2-71D2-4AC4-A9CC-241AC7AD0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72E319-2AD5-449D-88BD-CA94AE2A3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E4D98-CB7D-4BFC-823E-62E7A3723D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61AE-9F6E-46A4-B753-35524196CA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674AF-DC8F-4E7A-A5CD-0CA59356BD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733D6-ED8B-477B-8927-2155868498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E423F-C574-4B30-973D-8FA680D58C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93CD7-7793-42ED-8B42-EA57BE8620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31CA0-D7D4-47EA-83AA-3BD1747AD4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A16F5-293C-46D6-9C95-3F898664BA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1CD5F-CAE0-4838-89F7-3E346C7F9B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82BB4-0827-425A-88FB-D464AABB89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FDACF-ECFB-4E87-B1D6-4D33D4B307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8CB29-2738-450E-BC8A-8F94A57930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logotr2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D9DD-3CF6-4642-ACE7-325D3AA200F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logotr2"/>
          <p:cNvPicPr/>
          <p:nvPr/>
        </p:nvPicPr>
        <p:blipFill>
          <a:blip r:embed="rId3"/>
          <a:stretch/>
        </p:blipFill>
        <p:spPr>
          <a:xfrm>
            <a:off x="8321760" y="6021360"/>
            <a:ext cx="82224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9"/>
          <p:cNvSpPr/>
          <p:nvPr/>
        </p:nvSpPr>
        <p:spPr>
          <a:xfrm>
            <a:off x="20520" y="3198960"/>
            <a:ext cx="914400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Ekonomide ve Bankacılık Sektörü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Gelişm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Hüseyin Aydı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Yönetim Kurulu Başkan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Mayı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7A92-E833-4E41-9179-3AB89B33F9B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0" y="33480"/>
            <a:ext cx="8893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Proje</a:t>
            </a: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redil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008000" y="1338120"/>
            <a:ext cx="70596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D6D8-9458-405B-99DA-A69A91327B9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-20520" y="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redi kalite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302400" y="459252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DK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-28440" y="1297080"/>
            <a:ext cx="4600440" cy="285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" descr=""/>
          <p:cNvPicPr/>
          <p:nvPr/>
        </p:nvPicPr>
        <p:blipFill>
          <a:blip r:embed="rId2"/>
          <a:stretch/>
        </p:blipFill>
        <p:spPr>
          <a:xfrm>
            <a:off x="4560840" y="1297080"/>
            <a:ext cx="4583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3A2F-EDDE-4A3D-8A75-B45A3867F7A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-20520" y="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Yapılandırılan kred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200" y="1268280"/>
            <a:ext cx="4546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Küresel, bölgesel veya jeopolitik nedenler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fon akımı bozu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ireysel ve kurum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sa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l müşterile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gerekli kolaylıklar sağlanmaktadı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ca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mali durumu sürekli sorunlu ve iyileşemeyecek müşteriler için kurallar uygulanmakta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4597560" y="1700280"/>
            <a:ext cx="4565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D245-3819-4883-B8E8-1A7AF88447E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56320" y="463392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0" y="0"/>
            <a:ext cx="91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Mevduat daha sınırl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4575240" cy="288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4610160" y="1268280"/>
            <a:ext cx="4568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B48C-A268-4492-A185-FB67E40759F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-20520" y="-270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Mevduat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ın seyri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400680" y="56149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552920" y="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…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üyüme farkı azal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"/>
          <p:cNvPicPr/>
          <p:nvPr/>
        </p:nvPicPr>
        <p:blipFill>
          <a:blip r:embed="rId1"/>
          <a:stretch/>
        </p:blipFill>
        <p:spPr>
          <a:xfrm>
            <a:off x="0" y="1365120"/>
            <a:ext cx="4560840" cy="2711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"/>
          <p:cNvPicPr/>
          <p:nvPr/>
        </p:nvPicPr>
        <p:blipFill>
          <a:blip r:embed="rId2"/>
          <a:stretch/>
        </p:blipFill>
        <p:spPr>
          <a:xfrm>
            <a:off x="4560840" y="1309680"/>
            <a:ext cx="45831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4005-2996-47CB-98F1-46CA6199F23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4551840" y="4635360"/>
            <a:ext cx="30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zine Müsteşarlığı, BDDK,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610160" y="0"/>
            <a:ext cx="45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TL kredi büyümesin</a:t>
            </a: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in üçte biri Hazine itfasın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0" y="0"/>
            <a:ext cx="45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Mevduatı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oranı düşü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43560" y="1266840"/>
            <a:ext cx="4600440" cy="2954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0" y="1266840"/>
            <a:ext cx="4572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C56E-B8FC-44B7-9C68-9F506BAB36A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610160" y="0"/>
            <a:ext cx="45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Yurtdışı finansman önem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0" y="0"/>
            <a:ext cx="45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Mevduat dışı kaynakların sey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4594320" y="1281240"/>
            <a:ext cx="4576680" cy="2868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0" y="1281240"/>
            <a:ext cx="45943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237E-CCF0-4A39-9032-EF95D25DB18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Yabancı para kred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1440" y="1341360"/>
            <a:ext cx="4559400" cy="2820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4560840" y="1177920"/>
            <a:ext cx="458316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D39E-A03B-46ED-80E3-326508E09EC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 büyümesi yavaşlad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-20520" y="1268280"/>
            <a:ext cx="4592520" cy="295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2"/>
          <a:stretch/>
        </p:blipFill>
        <p:spPr>
          <a:xfrm>
            <a:off x="4579920" y="1247760"/>
            <a:ext cx="45640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E6A9-B002-4BB1-AA3C-BFA41597E73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Sermaye yeterlil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-11160" y="1260360"/>
            <a:ext cx="4572000" cy="293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4560840" y="1260360"/>
            <a:ext cx="458316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3CEB-F962-4E03-A92E-BBF057FE66D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onuşmanın içer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1270080"/>
            <a:ext cx="840744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Dünyada ve Türkiye’de ekonomik gelişme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ankacılık sektöründeki gelişme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Özkaynaklar ve sektörün talep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62D5-8361-429A-B89E-9200C599608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Fiili sermaye yeterliliği yüzde 13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1225440"/>
            <a:ext cx="6084720" cy="39895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084360" y="1017720"/>
            <a:ext cx="302292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Mevcut eğili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devam eder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2018’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fiili sınıra ulaşılac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ya d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kredi büyüm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yavaşlayac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3E3B-F6B6-4212-981D-B0674C9B1FA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076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ları sınırlandıran neden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2240" y="1017720"/>
            <a:ext cx="456876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adec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piyasalardaki dalgalanmaları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neden olduğu riskler vey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yönetim kararları değild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570560" y="1017720"/>
            <a:ext cx="456876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Düzenleme değişiklikle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Sürdürülebilir karlılığı sınırlandıran yük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Maliyet arttıran ek yük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Gelir azaltan düzenlem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Gri alanlarda cezalandırıcı yaklaşı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Tahsili gecikmiş alacaklarda artı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4302-FF01-4A23-B8CB-F2744913286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-20520" y="-270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marjı düşerk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4548240" y="0"/>
            <a:ext cx="45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dış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m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arj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ın katkısı da aza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0" y="1289160"/>
            <a:ext cx="4560840" cy="2860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2"/>
          <a:stretch/>
        </p:blipFill>
        <p:spPr>
          <a:xfrm>
            <a:off x="4572000" y="1316160"/>
            <a:ext cx="45720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259E-B0F9-43FC-AD06-CB60E9B0BD8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120" y="-19080"/>
            <a:ext cx="4538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marjının düşmesi beklenen bir du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578480" y="0"/>
            <a:ext cx="4538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Risk için ayrılan karşı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0" y="1482840"/>
            <a:ext cx="453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Faiz oranları yükselir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sağlıklı ve faize duyarlı müşterilerin kredi talebi azalı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büyüme hızı yava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kredi kalitesi düşer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riskler için karşılıklar artar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4572000" y="1187280"/>
            <a:ext cx="4572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18B0-4162-402C-98BA-0751587FA58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120" y="-19080"/>
            <a:ext cx="4538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Net özkaynak karlılığı düşü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578480" y="0"/>
            <a:ext cx="45385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Sermayenin getirisi maliyet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-33480" y="1303200"/>
            <a:ext cx="4577040" cy="2846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"/>
          <p:cNvPicPr/>
          <p:nvPr/>
        </p:nvPicPr>
        <p:blipFill>
          <a:blip r:embed="rId2"/>
          <a:stretch/>
        </p:blipFill>
        <p:spPr>
          <a:xfrm>
            <a:off x="4578480" y="1303200"/>
            <a:ext cx="45655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C64C-9727-4E5D-84AD-29DEDECD724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0"/>
            <a:ext cx="9136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Sermayeye sahip çıkma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ekonominin geleceğine sahip çıkmaktı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9360" y="1494000"/>
            <a:ext cx="913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b050"/>
                </a:solidFill>
                <a:latin typeface="Arial"/>
              </a:rPr>
              <a:t>Net karın tamamı özkaynağa ekleniyor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b050"/>
                </a:solidFill>
                <a:latin typeface="Arial"/>
              </a:rPr>
              <a:t>krediye ve büyümeye dönüşüy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50920" y="3451320"/>
            <a:ext cx="864216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C7DE-4873-42A9-B760-F49959C95F3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ların ön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-360" y="1267920"/>
            <a:ext cx="456876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Kredi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 büyümesinin </a:t>
            </a: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ürdürülm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Uluslararası rekabet gücünün artmas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Şoklara dayanma gücünün korunmas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ıkılaşan uluslararası kurallara uy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641840" y="1268280"/>
            <a:ext cx="456876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70c0"/>
                </a:solidFill>
                <a:latin typeface="Arial"/>
              </a:rPr>
              <a:t>Özkaynakların güçlendirilmesi gerek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5769-F271-4743-B96C-305BD06D2E2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Piyasa değ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248040" y="4592520"/>
            <a:ext cx="222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-11160" y="1276200"/>
            <a:ext cx="4583160" cy="2873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4559400" y="1262160"/>
            <a:ext cx="45846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12E6-0DA9-4E84-BC7D-89DBA8E1246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83600" y="4581360"/>
            <a:ext cx="184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-3240" y="44280"/>
            <a:ext cx="4568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ankalar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da 1’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0" y="1333440"/>
            <a:ext cx="4568760" cy="2857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" descr=""/>
          <p:cNvPicPr/>
          <p:nvPr/>
        </p:nvPicPr>
        <p:blipFill>
          <a:blip r:embed="rId2"/>
          <a:stretch/>
        </p:blipFill>
        <p:spPr>
          <a:xfrm>
            <a:off x="4572000" y="1306440"/>
            <a:ext cx="4572000" cy="2884680"/>
          </a:xfrm>
          <a:prstGeom prst="rect">
            <a:avLst/>
          </a:prstGeom>
          <a:ln w="0">
            <a:noFill/>
          </a:ln>
        </p:spPr>
      </p:pic>
      <p:sp>
        <p:nvSpPr>
          <p:cNvPr id="245" name="Title 1"/>
          <p:cNvSpPr/>
          <p:nvPr/>
        </p:nvSpPr>
        <p:spPr>
          <a:xfrm>
            <a:off x="4575240" y="47520"/>
            <a:ext cx="45687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Karlılık bankalar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daha yüksek değ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4530240" y="4568760"/>
            <a:ext cx="25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İSO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4A09-5F62-480E-B480-EC6D84491A6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Düzenlemeler etkili ve maliyet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9880" y="1196640"/>
            <a:ext cx="886284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Gelişmişlik farkı gözetilm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ankaların yapısını, davranışını ve maliyetin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üşterileri ve ekonomiy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ürekli değişiklik uyum sürecini, iş modellerin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4572000" y="1197000"/>
            <a:ext cx="43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D2ED-789B-46A0-A92F-C445D1E119A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üresel r</a:t>
            </a: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iskler yüksek ve dalgal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40" y="808200"/>
            <a:ext cx="454032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Belirsizlik ve riskler yüksek, risk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iştahı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 dalg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üyüme ve ticaret hacmi artışı yava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Gelişmiş ülkelerde farklılaşan para politikas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GOÜ’den s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ermaye 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çıkış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Küresel para ve sermaye piyasaları dalg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Risk primleri yükse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62640" y="692280"/>
            <a:ext cx="45417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573440" y="765000"/>
            <a:ext cx="432144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CE68-9255-41E6-9CF7-DB35734D4EB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0" y="1197000"/>
            <a:ext cx="43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-74520" y="0"/>
            <a:ext cx="92185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TBB’nin tale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909720"/>
            <a:ext cx="91504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DDK’nın görüşü alınmalı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koordinasyon sağlan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Olağanüstü durumlar tanımlan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asit, uygulanabilir, tutarl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ol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Sektörü büyütmeli, rekabet gücünü destekl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Özkaynakları güçlendir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Teknolojik ürün ve hizmetleri destekl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AEC6-C546-4150-8147-5A81E2DC9AC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TBB’nin tale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480" y="879480"/>
            <a:ext cx="889632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Alacakların tahsilatını hızlandır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Kredi verme iştahını düşürm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Risk yönetiminde rehber olmalı, riskin alınmasına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müdahale etm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Risk primini düşür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Güven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sağla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Piyasaları büyütmeli ve derinleştiril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13D4-4FF6-4EE7-A041-963164C916A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789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Finansal istikrar ve büyü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5840" y="1268280"/>
            <a:ext cx="4592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şletme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birey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kredi ve bankacılık hiz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taleplerinin karşılanmas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finansal istikrarı tanım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Mevcut kredilerin çev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alacakların zamanında tahsil edilmesine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yeni kredilerin ve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ekonomide büyümenin sürekliliğine bağlıd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E952-0DB8-4394-B9F0-AF5468A366B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789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Reform; </a:t>
            </a:r>
            <a:br>
              <a:rPr sz="3600"/>
            </a:b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rekabet, büyüme ve refah artışı demekt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5840" y="1268280"/>
            <a:ext cx="4592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Sağlam makro d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Hızlanan refor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Sağlıklı bankacı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Öngörülebilirl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Büyüme potansiy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Refah artış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AE60-B2AF-4A7A-8823-50D8AC1484F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789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Ülkemizin geleceğine </a:t>
            </a:r>
            <a:br>
              <a:rPr sz="3600"/>
            </a:b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inanıyor ve güveniyoru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15840" y="1268280"/>
            <a:ext cx="4556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yimser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Beklentilerimiz olum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htiyatlıyı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Gerçekçi bir yaklaşım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riskleri 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fırsatlar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birlik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değerlendiriyor, yönetiyor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B4B6-8871-4438-938D-EB08A86C0B8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Türkiye’nin geleceğine yatırıma dev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6640" y="942480"/>
            <a:ext cx="89377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İstikrardan ve büyümeden güç alan bankacılı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zorluklara ve giderek sıkılaşan kurallara rağm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htiyatlı bir yaklaşım için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redileri reel olarak arttıra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Türkiye’nin geleceğine yatırım  yapıyor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0B14-64CF-4A3C-B28D-6E62B435BF0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Şükran ve teşekkü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39760" y="836640"/>
            <a:ext cx="43275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Bankacılık sektörü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büyüme potansiyel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sağlıklı bilanço yapısı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ürün ve hizmet kalites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yönetim tecrübes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iyi eğitimli insan kaynağı 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istikrara ve büyümeye katkı verd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4567320" y="836640"/>
            <a:ext cx="45766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Emeği geçen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kişi ve kuruluşlar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bankalarımız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sermayedarlarımız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yöneticilerimiz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çalışanlarımız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şükranlarımızı sunar</a:t>
            </a:r>
            <a:r>
              <a:rPr b="1" lang="en-US" sz="2700" spc="-1" strike="noStrike">
                <a:solidFill>
                  <a:srgbClr val="0070c0"/>
                </a:solidFill>
                <a:latin typeface="Arial"/>
              </a:rPr>
              <a:t>ız.</a:t>
            </a: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F728-B397-40E6-8312-0BE01956548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itle 1"/>
          <p:cNvSpPr/>
          <p:nvPr/>
        </p:nvSpPr>
        <p:spPr>
          <a:xfrm>
            <a:off x="971640" y="2421000"/>
            <a:ext cx="7200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2060"/>
                </a:solidFill>
                <a:latin typeface="Arial"/>
              </a:rPr>
              <a:t>Teşekkür eder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1373-5746-4506-B513-5A2EB266A7F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Türkiye’de büyüme hızland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7000" y="942480"/>
            <a:ext cx="45720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Gsyh yüzde 4 büyü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Tasarruf oranı</a:t>
            </a: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yüksel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Bütçe disiplini sür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Kamunun borç stoku/gsyh oranı düşt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Net sermaye girişi ol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Finansal sektör işlevini sürdür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99000" y="942840"/>
            <a:ext cx="385128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Gıda fiyatları ve zayıf TL nedeniyle e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nflasyon yüksek kald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TL reel olarak değer kaybet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Likidite sıkılaştırıld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Faiz oranları yüksel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EA5A-1E1B-4CD0-B58B-BB2AE038B29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Bilanço büyümesi yavaşlıy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760" y="4437000"/>
            <a:ext cx="176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DD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UİK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1440" y="1268280"/>
            <a:ext cx="4570560" cy="288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57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0785-1938-451B-9DEB-E1DE52B89CF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Ölçek küç</a:t>
            </a: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ü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1697400" y="4437000"/>
            <a:ext cx="187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lbanks.com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738440" y="1238400"/>
            <a:ext cx="57132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452D-0092-4539-8FFB-9CF3E0CFC8B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-2700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Bilanço yapısında değiş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668600" y="1268280"/>
            <a:ext cx="5783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A43C-AF56-4EA2-ADAE-3BFE97CADA4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Kredilerin sey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93040" y="4938840"/>
            <a:ext cx="140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BDDK, TB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0" y="1303200"/>
            <a:ext cx="4572000" cy="284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20520" y="1270080"/>
            <a:ext cx="4551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A7EF-5B40-4211-980F-8ADB820933D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5840" y="439596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4503600" y="0"/>
            <a:ext cx="45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Kurumsal kred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14400"/>
            <a:ext cx="4586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ireysel kredi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p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ayı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 öngörülen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572000" cy="28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0" y="1268280"/>
            <a:ext cx="457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Sirin Mutluturk</dc:creator>
  <dc:description/>
  <dc:language>en-US</dc:language>
  <cp:lastModifiedBy>Ekrem Keskin</cp:lastModifiedBy>
  <cp:lastPrinted>2016-05-24T10:29:15Z</cp:lastPrinted>
  <dcterms:modified xsi:type="dcterms:W3CDTF">2016-05-25T06:48:50Z</dcterms:modified>
  <cp:revision>638</cp:revision>
  <dc:subject/>
  <dc:title>Slide 1</dc:title>
</cp:coreProperties>
</file>