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746875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464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2068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07560" y="739800"/>
            <a:ext cx="49294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936288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20680" y="936288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623D-7BC0-4E79-B53D-D20A33885471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B62E-B9FA-4433-9A89-FE5FE551C45D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5BBD-ED03-49AF-B93D-77CA630234A7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DCDB-885B-4F17-A1BE-5C3EB4D81EA5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D31D-FB54-4FAA-A898-07E46F903CB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15DC-FF49-46B1-849A-F7C94CDD158B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C692-A186-4D25-A534-2355F594D778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EA94-71D8-4CCF-977F-F17C46BA477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CAD5-C551-44A4-8C6E-25B08A16C8A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3F5D-10A9-4230-B225-9850A474905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E2CD-B093-4BAE-B0D0-B3E138B54F5C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DBCD-F70A-4F49-9679-DA891841495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E0EB-567E-479C-B921-720FB65085B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14C0-10F3-4DFB-AEF1-B5D1A9C9F10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66F6-942A-432F-9915-9580CE205584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1C1A-732F-4758-8AE1-70F6EEA6619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6F0B-CD52-41A3-B077-C1D02B7A894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D644-87F8-4F07-A43B-07740E206F8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21040" y="936324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6B14-F41F-43EE-BBB4-8843C2EF1A2A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9480" cy="3695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81080"/>
            <a:ext cx="4948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75CC-4411-4EBA-BA01-5F69B61B98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99BF-5779-4CFB-A7ED-3A143DFB58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8F39-7B1D-417C-8D46-127F777A36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5031-7732-44B5-B3B9-F4D5A241BC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F1A3-6769-4625-A962-4A56C6220E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F9C9-C909-411C-B022-865D1355B4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7FC90-84BC-4A31-BD31-C1E95B925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229C-20C3-4C55-8B14-BC9CF8960C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8DDC-5B61-47F5-A309-351C40B01B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4226-B354-4EBA-AD5B-36EC900EA5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63B3-8C1F-42AE-BCC8-3C04B7956F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8FBE-262E-48DF-9B21-1384F1A035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7A95D-0C9B-4C5C-A478-6752CB667D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242E5-9F89-4759-BBE9-54AA14F92B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1DDA0-348E-4E50-8C00-DDAB1F94B0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3CBC2-E720-4AEA-AED0-8C29C36945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66794-2B73-4860-AAFE-203306800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A013E-6E08-4A48-AF51-E9B7AF929D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99054-75EC-4286-8352-2646E55ABB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55ACA-84FB-47B7-AF38-E5D396E7E9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A2479-4353-4270-A21D-F98D0D98D4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2B2C0-E619-46D4-AB0A-961C142501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7BC9E-767E-44C3-8DC8-E3AE32FECE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F4CEF-6AB4-4E94-BE15-7F9900E3CA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5822-589A-4DE6-BFAC-028876976E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4FF-6B81-4DC2-A1D2-89A857105E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6198-58A5-44C5-A1DB-462163F3D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B28F-0E9B-46F3-AF86-758B044E03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D3EC-E44A-4976-ACB4-F4E7FE2C09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9558-9E38-41CF-BAD9-CA4B5EA1A0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EC03-9182-4A91-9420-5E8C1D0128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3473-9EFD-4A14-A431-7348FE19F1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A915-0C5D-48D9-94D3-95A1574B3C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6EEA-C9C0-4A10-B0C7-81033C4E3C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10FE-1AB1-47D2-A435-61E125657D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BFBC-2FAE-4396-90E8-3CDB1E0C8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9" descr="logoen2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10764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logoen2"/>
          <p:cNvPicPr/>
          <p:nvPr/>
        </p:nvPicPr>
        <p:blipFill>
          <a:blip r:embed="rId3"/>
          <a:stretch/>
        </p:blipFill>
        <p:spPr>
          <a:xfrm>
            <a:off x="8310600" y="6021360"/>
            <a:ext cx="83340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1B48-5851-47E2-B044-E6A79DF989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logoen2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3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F0C6-6D6D-43A9-BF8F-A655AFABCF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logoen2"/>
          <p:cNvPicPr/>
          <p:nvPr/>
        </p:nvPicPr>
        <p:blipFill>
          <a:blip r:embed="rId3"/>
          <a:stretch/>
        </p:blipFill>
        <p:spPr>
          <a:xfrm>
            <a:off x="8310600" y="6021360"/>
            <a:ext cx="833400" cy="836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10764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0A78-5F6C-4BF1-9BEE-9AFFDAB732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32860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in economy and banking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in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İstanb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May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22960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516720" y="6381720"/>
            <a:ext cx="826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8317080" y="6524640"/>
            <a:ext cx="826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36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Higher capital flows </a:t>
            </a:r>
            <a:br>
              <a:rPr sz="2800"/>
            </a:b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with dramatic change i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88120" cy="40323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D5EA-2C66-4DAD-BF6B-65652AFCA5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36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Lower Government external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9F11-11D7-4962-BDA7-1791C7EFEE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55080" cy="424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694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TL began to apriciate in 2012 again, </a:t>
            </a:r>
            <a:br>
              <a:rPr sz="2800"/>
            </a:b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following a rapid depreciation in 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5DDB-0A4E-42D5-961C-B1438D0670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38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Lower public sector borrowing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C2C8-A764-443E-BA19-48C44074D8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32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694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Rapid disinflation: </a:t>
            </a:r>
            <a:br>
              <a:rPr sz="2800"/>
            </a:b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lowest during free market econo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ic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C505-4E6B-450A-B2E0-D9557EBAEF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92800" cy="403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12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Less crowding out, more loans to 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8139-C582-472E-9BB1-3ED8282DF7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32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95280" y="198900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66"/>
                </a:solidFill>
                <a:latin typeface="Arial"/>
              </a:rPr>
              <a:t>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68C2-62EB-490A-87DE-DE7ACA9DCE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2440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Financial sector;supervision and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8C35-EDA9-4415-9C7E-0C6DA4D97B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0" descr=""/>
          <p:cNvPicPr/>
          <p:nvPr/>
        </p:nvPicPr>
        <p:blipFill>
          <a:blip r:embed="rId1"/>
          <a:stretch/>
        </p:blipFill>
        <p:spPr>
          <a:xfrm>
            <a:off x="1030320" y="1062000"/>
            <a:ext cx="70819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Banks b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F135-C558-47A9-A557-5A440C2701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88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360" y="-3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Foreign owned-banks’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758D-7B32-4AE4-82FE-BE52142A2F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223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126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66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39640" y="1773360"/>
            <a:ext cx="81360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Economic features and environm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Near-term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10AF-5F38-48EF-8BED-AB4D7C42D7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The largest ten account for 87% of tot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E140-E882-4DF6-BD56-DC129050EB8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Rapid growth in banking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80280" cy="410544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C304-97BE-45C6-BDA9-405A74E5D5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Remarkable resilience to global cri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76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No “high risky”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Small investments in housing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Well-diversified lending portfolio, mainly to private sector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G-secu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igh-capital adequacy level with 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igh-liquid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No change in deposit-quaranty limit, current level is TL 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No financial support form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Banking sector has kept financing economic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Decrease in NPLs following a slight rise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The years of 2009, 2010, 2011; became most profitabl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Efficent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7FCD-A13C-43D0-B864-EB970F0A25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Dramatic change in 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F946-FBE7-4320-A81D-EDDC1C9252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010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Strong deposit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8178-3640-4057-93D5-13C7C264F9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Strong lending grow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AABE-7552-4BB1-9EC6-CA328C6E3B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Lending to consumer’s share has r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F5F2-2373-431D-91B7-B6595F6AFE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NPLs have remanied at  a rather low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976320" y="1700280"/>
            <a:ext cx="7213680" cy="3744720"/>
          </a:xfrm>
          <a:prstGeom prst="rect">
            <a:avLst/>
          </a:prstGeom>
          <a:ln w="0">
            <a:noFill/>
          </a:ln>
        </p:spPr>
      </p:pic>
      <p:sp>
        <p:nvSpPr>
          <p:cNvPr id="275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75A0-8E63-4E51-A377-CBC013F69D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Stronger shareholders’ equity; </a:t>
            </a:r>
            <a:br>
              <a:rPr sz="2800"/>
            </a:b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enabled the banking sector to change its risk structu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84880" cy="4176720"/>
          </a:xfrm>
          <a:prstGeom prst="rect">
            <a:avLst/>
          </a:prstGeom>
          <a:ln w="0">
            <a:noFill/>
          </a:ln>
        </p:spPr>
      </p:pic>
      <p:sp>
        <p:nvSpPr>
          <p:cNvPr id="279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6BEC-E213-474F-9DF2-1D726F6DFB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ROE exceeded interest on G-securities aft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78760" cy="403236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CED3-0EC7-429A-91A7-19CF3F583B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95280" y="198900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66"/>
                </a:solidFill>
                <a:latin typeface="Arial"/>
              </a:rPr>
              <a:t>Economic features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FCB7-E3CD-467F-B826-C9724C4F11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Financial institutions have a share of 32 percent recently in total market capi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92B8-EF38-4481-881C-1C11CF6A65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35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High growth pota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57AD-5354-4B01-BAF6-CCB9E658E5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7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Compared with the EU fig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2F6E-1571-47B7-AE61-F6A32DDCB1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6" descr=""/>
          <p:cNvPicPr/>
          <p:nvPr/>
        </p:nvPicPr>
        <p:blipFill>
          <a:blip r:embed="rId1"/>
          <a:stretch/>
        </p:blipFill>
        <p:spPr>
          <a:xfrm>
            <a:off x="1095480" y="1341360"/>
            <a:ext cx="72961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4"/>
          <p:cNvSpPr/>
          <p:nvPr/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Assets to grow faster than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9ABE-380D-4E0D-BB49-1D58A035B0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1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Leading to larger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C92C-B8A2-46C6-B83C-AF0C5C4C48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229A-4E18-4CF8-9B99-A951F3F13F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900000" y="1268280"/>
            <a:ext cx="770436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and deeper financial marke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easures to encourage domestic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ening the maturities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of deposits and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nding to 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ntense competition in retai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etter risk management and risk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 earnings to feed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ine in margin with widening busines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clim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foreign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0" y="-19080"/>
            <a:ext cx="91440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xpect</a:t>
            </a: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ations for th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near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2492280"/>
            <a:ext cx="914400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66"/>
                </a:solidFill>
                <a:latin typeface="Arial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F39F-EB0D-4C0C-BD44-7FB76C91EB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Member of G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D9A4-8929-4471-9641-514ABCAD42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1042920" y="1268280"/>
            <a:ext cx="712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key 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a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functioning market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conomy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pital flows are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fre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there is no exchange rate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restri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residents and non-resid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entral Bank has been implementing a formal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inflation-targeting framework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under a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floating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vereign credit rating, currently is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B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with ‘stable commen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ng term average growth rate is about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4.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cent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NP is about USD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770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ill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7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t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rgest in the world,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6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the EU;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2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the region after Russi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Open economy and young population</a:t>
            </a:r>
            <a:r>
              <a:rPr b="1" lang="tr-TR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CF09-4731-4BEA-B659-6199620FB7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971640" y="1179360"/>
            <a:ext cx="712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Income per capita is around USD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10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s and industry have shares of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6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cent and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cent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Foreign trade volume to G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 is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about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48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per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lmost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half of Turkey's total trade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is with the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EU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In terms of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total assets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of banks, Turkey is ranked the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15th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in the 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Population is about 74 million in which the group of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15-64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age has a share of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65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perc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Unemployment rate is about </a:t>
            </a:r>
            <a:r>
              <a:rPr b="1" lang="tr-TR" sz="2000" spc="-1" strike="noStrike" u="sng">
                <a:solidFill>
                  <a:srgbClr val="000066"/>
                </a:solidFill>
                <a:uFillTx/>
                <a:latin typeface="Arial"/>
              </a:rPr>
              <a:t>10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percent</a:t>
            </a: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, rec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High and rather stable grow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4BDC-084F-41FF-A064-2B861A0840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30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Steady increase in income per cap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2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8DEB-2E0C-49F5-A0FF-7018CC33FA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062840" cy="410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Decline in savings ratio in 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91360" cy="4248360"/>
          </a:xfrm>
          <a:prstGeom prst="rect">
            <a:avLst/>
          </a:prstGeom>
          <a:ln w="0">
            <a:noFill/>
          </a:ln>
        </p:spPr>
      </p:pic>
      <p:sp>
        <p:nvSpPr>
          <p:cNvPr id="200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6160-CE67-4FC2-BF39-2A8A6A6756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6944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New measures are likely to narrow savings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084800" cy="4176720"/>
          </a:xfrm>
          <a:prstGeom prst="rect">
            <a:avLst/>
          </a:prstGeom>
          <a:ln w="0">
            <a:noFill/>
          </a:ln>
        </p:spPr>
      </p:pic>
      <p:sp>
        <p:nvSpPr>
          <p:cNvPr id="204" name="Footer Placeholder 1"/>
          <p:cNvSpPr/>
          <p:nvPr/>
        </p:nvSpPr>
        <p:spPr>
          <a:xfrm>
            <a:off x="108000" y="6367320"/>
            <a:ext cx="37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urkish economy and banking sector 0405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9561-8900-44AD-A81C-C1AC22A634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4:56:17Z</dcterms:created>
  <dc:creator>KeskinE</dc:creator>
  <dc:description/>
  <dc:language>en-US</dc:language>
  <cp:lastModifiedBy>keskine</cp:lastModifiedBy>
  <cp:lastPrinted>2012-04-30T13:37:08Z</cp:lastPrinted>
  <dcterms:modified xsi:type="dcterms:W3CDTF">2012-05-07T10:11:39Z</dcterms:modified>
  <cp:revision>703</cp:revision>
  <dc:subject/>
  <dc:title>No Slide Title</dc:title>
</cp:coreProperties>
</file>