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1B5D-FE5D-4B8A-8ACB-BFC4D5AD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B291-7396-468A-9B25-04AC663F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8BA6-1D89-40F8-B238-2B15275E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E19D-A8FB-4FBC-8BC5-0000239E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110F-9DAB-4ECB-9C4C-3E08D6FC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B244-6B44-4FEF-A26C-54A7D6A9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BB99-599E-4059-BC86-B10903C4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349A-76EE-4648-A65B-A2835CA3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A832-BADF-4FA4-8881-FD203A3A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4F04-7BC9-4CBF-BB93-02609297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C601-B02F-4281-B630-F45EF71B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04AC-7B38-44C9-A475-5C49C0F2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14E4-CB8F-457B-A08E-550E7FF9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49C3-6A00-4228-9CCD-844D5E6D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01AF-B886-4B96-9E00-30C972B8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82CA-36EC-476B-8AE0-29F8FC930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A555-4AA0-445A-AC3F-83194A323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305E-E076-4039-92D9-09787DCE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B3E3-33AF-4EFE-973F-E3CEE19B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F3CB-1870-4347-82A3-DDFB3E7F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572C-09EE-4D2A-8C0A-25379624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24F5-F11B-40F3-A1BC-2F0A39AC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E134-2F73-42C6-B05A-291EF0DB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2041-2AF6-4CF4-8E9B-8462224F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75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B262-492F-4BB4-968E-8C4605666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75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8FC7-2CCD-43EF-8975-551D3705A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66840" y="456840"/>
            <a:ext cx="62913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13400" y="6210360"/>
            <a:ext cx="42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0000"/>
                </a:solidFill>
                <a:latin typeface="Times New Roman"/>
              </a:rPr>
              <a:t>Département des Finances &amp; de l’Économ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762120"/>
            <a:ext cx="7696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sz="5400" spc="-1" strike="noStrike">
                <a:solidFill>
                  <a:srgbClr val="cc0000"/>
                </a:solidFill>
                <a:latin typeface="Times New Roman"/>
              </a:rPr>
              <a:t>European Banking Feder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0292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200" spc="-1" strike="noStrike">
                <a:solidFill>
                  <a:srgbClr val="cc0000"/>
                </a:solidFill>
                <a:latin typeface="Times New Roman"/>
              </a:rPr>
              <a:t>Monaco, June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rance   : 28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onaco : 2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aly       : 1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K         : 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lgium : 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C – Population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760" y="1828800"/>
            <a:ext cx="5374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Break down by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tionality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24382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209680"/>
            <a:ext cx="7086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cc0000"/>
                </a:solidFill>
                <a:latin typeface="Arial"/>
              </a:rPr>
              <a:t>D – Focus 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sz="4400" spc="-1" strike="noStrike">
                <a:solidFill>
                  <a:srgbClr val="cc0000"/>
                </a:solidFill>
                <a:latin typeface="Arial"/>
              </a:rPr>
              <a:t>Banking activitie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D – Banking activitie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42 credit institutions 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subsidiaries or branches from European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UM  : 75 billion 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I Banking  sector regulation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1599840"/>
            <a:ext cx="7924680" cy="21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1. A close and long standing relationship with Franc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1.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 Monaco and France :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 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A monetary union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well before the euro zone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2 Implementation of the French banking regulation : CCLRF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3 licensing by French Committee 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CEC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Arial"/>
              </a:rPr>
              <a:t>1.4 Supervision by the French authoritie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sz="3600" spc="-1" strike="noStrike">
                <a:solidFill>
                  <a:srgbClr val="cc0000"/>
                </a:solidFill>
                <a:latin typeface="Arial"/>
              </a:rPr>
              <a:t>Commission Banca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2. Monaco – part of the Euro zon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828800"/>
            <a:ext cx="74674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 Economy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I Banking  sector regulation </a:t>
            </a:r>
            <a:br>
              <a:rPr sz="4000"/>
            </a:b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440" y="28954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2.1 Monaco joined the Euro z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on 1.1.200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2.2 Monaco has recently joined SEPA   :    March 2009</a:t>
            </a:r>
            <a:br>
              <a:rPr sz="48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Thank you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14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 – Monaco GDP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A – GDP 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47640" y="1700280"/>
            <a:ext cx="698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600200"/>
            <a:ext cx="7848720" cy="40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GDP 2007: 4,3 billion €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round 15 % growt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DP  per capita : 60 K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09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ectors :  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rade   : 16 %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anking and finance : 15 %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pport activities: 15 %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al Estate : 10 %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ourism  : 10 %</a:t>
            </a:r>
            <a:br>
              <a:rPr sz="36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83808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 – GD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B – Monaco Budget </a:t>
            </a:r>
            <a:br>
              <a:rPr sz="4000"/>
            </a:b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B - Budget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Budget : 900 M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e    :  75% of tax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nses : very strong social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M€ in public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ublic deb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2008  :  + 4 M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304812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 – Monaco popul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C – Population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35 000 resid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Working population : 45.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reak down by continent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urope : 92 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ther continents : 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3:16:25Z</dcterms:created>
  <dc:creator> </dc:creator>
  <dc:description/>
  <dc:language>en-US</dc:language>
  <cp:lastModifiedBy>Service Informatique</cp:lastModifiedBy>
  <dcterms:modified xsi:type="dcterms:W3CDTF">2009-06-18T06:45:30Z</dcterms:modified>
  <cp:revision>118</cp:revision>
  <dc:subject/>
  <dc:title>Conférence des Ambassadeurs</dc:title>
</cp:coreProperties>
</file>