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7.png" ContentType="image/png"/>
  <Override PartName="/ppt/media/image4.png" ContentType="image/png"/>
  <Override PartName="/ppt/media/image12.wmf" ContentType="image/x-wmf"/>
  <Override PartName="/ppt/media/image6.jpeg" ContentType="image/jpeg"/>
  <Override PartName="/ppt/media/image10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17.wmf" ContentType="image/x-wmf"/>
  <Override PartName="/ppt/media/image9.png" ContentType="image/png"/>
  <Override PartName="/ppt/media/image26.png" ContentType="image/png"/>
  <Override PartName="/ppt/media/image3.png" ContentType="image/png"/>
  <Override PartName="/ppt/media/image11.wmf" ContentType="image/x-wmf"/>
  <Override PartName="/ppt/media/image30.png" ContentType="image/png"/>
  <Override PartName="/ppt/media/image5.png" ContentType="image/png"/>
  <Override PartName="/ppt/media/image28.png" ContentType="image/png"/>
  <Override PartName="/ppt/media/image2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9.png" ContentType="image/png"/>
  <Override PartName="/ppt/media/image21.png" ContentType="image/png"/>
  <Override PartName="/ppt/media/image18.wmf" ContentType="image/x-wmf"/>
  <Override PartName="/ppt/media/image20.png" ContentType="image/png"/>
  <Override PartName="/ppt/media/image22.png" ContentType="image/png"/>
  <Override PartName="/ppt/media/image23.png" ContentType="image/png"/>
  <Override PartName="/ppt/media/image2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72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0320"/>
            <a:ext cx="82072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20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3560" y="194148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8440" y="194148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032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3560" y="409032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8440" y="409032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7CE233-DC9A-4388-A649-693CDA553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72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9A42E1-93A5-4B8F-8424-B59788E9A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72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3B2633-E9D2-4F9C-8DB5-3E0BA5E4E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68D4B7-5507-41C4-9A08-DB7E7E4AC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EF701B-9EC7-4A1A-8937-E9E307A67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719280"/>
            <a:ext cx="863604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97D7CF-5F8B-47FC-8C03-B6EC29224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C3A571-DDDE-4D7F-901C-E0A3D956F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72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20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CDAF80-C9FB-4C74-9FDA-F04B0B84A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0320"/>
            <a:ext cx="82072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61FD49-0807-4154-9F8A-5514FF71D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72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0320"/>
            <a:ext cx="82072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0C2279-2779-442E-9461-784D059C4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20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2A55D6-BDE5-41FE-8DC1-1AD50B470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3560" y="194148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8440" y="194148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032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3560" y="409032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8440" y="409032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143C30-7DEE-4BEE-BD6A-65E1DA19D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72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280"/>
            <a:ext cx="863604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20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0320"/>
            <a:ext cx="82072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" descr="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" descr="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72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320" y="634356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4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200" spc="-1" strike="noStrike">
                <a:solidFill>
                  <a:srgbClr val="cc9900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0144280-118E-48D6-B5AD-6304BAECC59B}" type="slidenum">
              <a:rPr b="0" lang="en-US" sz="1200" spc="-1" strike="noStrike">
                <a:solidFill>
                  <a:srgbClr val="cc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46160" y="6357960"/>
            <a:ext cx="19047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" descr="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360" y="1612800"/>
            <a:ext cx="777060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3"/>
          </p:nvPr>
        </p:nvSpPr>
        <p:spPr>
          <a:xfrm>
            <a:off x="3358800" y="634356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4"/>
          </p:nvPr>
        </p:nvSpPr>
        <p:spPr>
          <a:xfrm>
            <a:off x="6019560" y="6343560"/>
            <a:ext cx="2894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125280" y="6357960"/>
            <a:ext cx="19036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CBFE2B3F-A675-4A82-8584-F272FD2B85C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6.png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8.wmf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2160360" y="5056200"/>
            <a:ext cx="6189480" cy="128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67320" bIns="46080" anchor="t">
            <a:noAutofit/>
          </a:bodyPr>
          <a:p>
            <a:pPr marL="343080" indent="-343080" algn="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hr-HR" sz="2400" spc="-1" strike="noStrike">
                <a:solidFill>
                  <a:srgbClr val="ffcc00"/>
                </a:solidFill>
                <a:latin typeface="Arial"/>
              </a:rPr>
              <a:t>Item IV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hr-HR" sz="2400" spc="-1" strike="noStrike">
                <a:solidFill>
                  <a:srgbClr val="ffcc00"/>
                </a:solidFill>
                <a:latin typeface="Arial"/>
              </a:rPr>
              <a:t>Zoran Bohaček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hr-HR" sz="2400" spc="-1" strike="noStrike">
                <a:solidFill>
                  <a:srgbClr val="ffcc00"/>
                </a:solidFill>
                <a:latin typeface="Arial"/>
              </a:rPr>
              <a:t>18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. VI</a:t>
            </a:r>
            <a:r>
              <a:rPr b="1" lang="hr-HR" sz="2400" spc="-1" strike="noStrike">
                <a:solidFill>
                  <a:srgbClr val="ffcc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hr-HR" sz="2400" spc="-1" strike="noStrike">
                <a:solidFill>
                  <a:srgbClr val="ffcc00"/>
                </a:solidFill>
                <a:latin typeface="Arial"/>
              </a:rPr>
              <a:t>2009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882720" y="1341360"/>
            <a:ext cx="7378560" cy="15382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-324360" y="3239640"/>
            <a:ext cx="626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972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Arial"/>
              </a:rPr>
              <a:t>Croatia</a:t>
            </a:r>
            <a:endParaRPr b="0" lang="en-US" sz="6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Banks' P&amp;L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380360" y="395280"/>
            <a:ext cx="1511280" cy="1260360"/>
          </a:xfrm>
          <a:prstGeom prst="wedgeEllipseCallout">
            <a:avLst>
              <a:gd name="adj1" fmla="val -14532"/>
              <a:gd name="adj2" fmla="val 64962"/>
            </a:avLst>
          </a:prstGeom>
          <a:solidFill>
            <a:srgbClr val="ff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GOO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NEW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415800" y="1866960"/>
            <a:ext cx="8223480" cy="46130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60000" y="190080"/>
            <a:ext cx="863748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Efficiency, ROA,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RO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40000" y="1008000"/>
            <a:ext cx="1619280" cy="1260360"/>
          </a:xfrm>
          <a:prstGeom prst="wedgeEllipseCallout">
            <a:avLst>
              <a:gd name="adj1" fmla="val -32449"/>
              <a:gd name="adj2" fmla="val 64962"/>
            </a:avLst>
          </a:prstGeom>
          <a:solidFill>
            <a:srgbClr val="ff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GOO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NEW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235080" y="2519280"/>
            <a:ext cx="4444920" cy="27194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3780000" y="2411280"/>
            <a:ext cx="4956120" cy="31687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Bond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2502000" y="0"/>
            <a:ext cx="577836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182520" y="3884760"/>
            <a:ext cx="8637480" cy="18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tock &amp;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Money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Marke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60360" y="1979640"/>
            <a:ext cx="1619280" cy="1260360"/>
          </a:xfrm>
          <a:prstGeom prst="wedgeEllipseCallout">
            <a:avLst>
              <a:gd name="adj1" fmla="val 96143"/>
              <a:gd name="adj2" fmla="val 104152"/>
            </a:avLst>
          </a:prstGeom>
          <a:solidFill>
            <a:srgbClr val="b3b3b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EW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Measures – Central Bank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60360" y="2160720"/>
            <a:ext cx="8209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nd 2008 – relaxed some constraints to increase liquidity – targeted to public sector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arly 2009 – increased regulatory burde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ontrolled exchange rate and liquidit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eclared that exchange rate stability is priority, opening pressures on interest rate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7182000" y="5759280"/>
            <a:ext cx="1817640" cy="9716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Measures – Governmen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31640" y="1440000"/>
            <a:ext cx="8388360" cy="53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alls on government since October 2008 to make decisive mov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nnounced 10 “Anti-Recession Measures”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ebalanced the budget – March 2009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oo little too late – (local elections?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ountry rating slightly decrease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ssued 750 mil € bonds in Ma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7182000" y="5759280"/>
            <a:ext cx="1817640" cy="9716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17160" y="764640"/>
            <a:ext cx="8637480" cy="67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roatian Bank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9280" y="2160360"/>
            <a:ext cx="820908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Unlike some other countries – banks helped government – 2,8 bln €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No squeezing out of private sector (still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easonable credit activit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aising interest rat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isks lie in real sector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roatian Banking Association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28680" y="2085480"/>
            <a:ext cx="820872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684360" indent="-68292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xtremely active rol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684360" indent="-68292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xtensive media coverag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684360" indent="-68292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Most questions to banks ended up with u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684360" indent="-68292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oordinating respons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684360" indent="-68292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ublished analyses, outlook, viewpoint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684360" indent="-68292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o far, maintained positive rol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17160" y="764640"/>
            <a:ext cx="8637480" cy="67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BA in Media (from January 1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28680" y="1941120"/>
            <a:ext cx="820872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More presence in newspapers, TV and radio, web portals than entire 2008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Newspapers 281 - “value” close to €500K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V 87 presences - “value” close to €2,500K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adio 76, additional web portals 39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Media classification – 99% “neutral”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17160" y="764640"/>
            <a:ext cx="8637480" cy="67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GDP Growth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1844640"/>
            <a:ext cx="3959280" cy="459720"/>
          </a:xfrm>
          <a:prstGeom prst="rect">
            <a:avLst/>
          </a:prstGeom>
          <a:solidFill>
            <a:srgbClr val="808080"/>
          </a:solidFill>
          <a:ln w="0">
            <a:noFill/>
          </a:ln>
          <a:effectLst>
            <a:outerShdw dist="17819" dir="135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oat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716360" y="1844640"/>
            <a:ext cx="3959280" cy="459720"/>
          </a:xfrm>
          <a:prstGeom prst="rect">
            <a:avLst/>
          </a:prstGeom>
          <a:solidFill>
            <a:srgbClr val="808080"/>
          </a:solidFill>
          <a:ln w="0">
            <a:noFill/>
          </a:ln>
          <a:effectLst>
            <a:outerShdw dist="17819" dir="135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eer countri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435640" y="5157720"/>
            <a:ext cx="356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– </a:t>
            </a:r>
            <a:r>
              <a:rPr b="0" lang="hr-HR" sz="1200" spc="-1" strike="noStrike">
                <a:solidFill>
                  <a:srgbClr val="ffffcc"/>
                </a:solidFill>
                <a:latin typeface="Arial"/>
              </a:rPr>
              <a:t>a</a:t>
            </a: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verage rate, 199</a:t>
            </a:r>
            <a:r>
              <a:rPr b="0" lang="hr-HR" sz="1200" spc="-1" strike="noStrike">
                <a:solidFill>
                  <a:srgbClr val="ffffcc"/>
                </a:solidFill>
                <a:latin typeface="Arial"/>
              </a:rPr>
              <a:t>8 – </a:t>
            </a: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200</a:t>
            </a:r>
            <a:r>
              <a:rPr b="0" lang="hr-HR" sz="1200" spc="-1" strike="noStrike">
                <a:solidFill>
                  <a:srgbClr val="ffffcc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Sources: Eurostat, CB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68360" y="5157720"/>
            <a:ext cx="3960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The data until 2006 are harmonised 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with final annual calculation of the 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GDP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ource: CB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57200" y="2611440"/>
            <a:ext cx="4038480" cy="25066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4648320" y="2610000"/>
            <a:ext cx="4038480" cy="25095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3419640" y="5040360"/>
            <a:ext cx="1960560" cy="17384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Inflation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419640" y="179280"/>
            <a:ext cx="2160360" cy="23115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468360" y="1844640"/>
            <a:ext cx="3959280" cy="459720"/>
          </a:xfrm>
          <a:prstGeom prst="rect">
            <a:avLst/>
          </a:prstGeom>
          <a:solidFill>
            <a:srgbClr val="808080"/>
          </a:solidFill>
          <a:ln w="0">
            <a:noFill/>
          </a:ln>
          <a:effectLst>
            <a:outerShdw dist="17819" dir="135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oat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716360" y="1844640"/>
            <a:ext cx="3959280" cy="459720"/>
          </a:xfrm>
          <a:prstGeom prst="rect">
            <a:avLst/>
          </a:prstGeom>
          <a:solidFill>
            <a:srgbClr val="808080"/>
          </a:solidFill>
          <a:ln w="0">
            <a:noFill/>
          </a:ln>
          <a:effectLst>
            <a:outerShdw dist="17819" dir="135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eer countri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9640" y="5157720"/>
            <a:ext cx="396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CPI inflation (1996-</a:t>
            </a:r>
            <a:r>
              <a:rPr b="0" lang="hr-HR" sz="1200" spc="-1" strike="noStrike">
                <a:solidFill>
                  <a:srgbClr val="ffffcc"/>
                </a:solidFill>
                <a:latin typeface="Arial"/>
              </a:rPr>
              <a:t>1998</a:t>
            </a: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 RPI inflation) and core inflation, end of period, year-on-year rate of chang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457200" y="2575080"/>
            <a:ext cx="4038480" cy="25794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4648320" y="2617920"/>
            <a:ext cx="4038480" cy="24937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4716360" y="5157720"/>
            <a:ext cx="39610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hr-HR" sz="1200" spc="-1" strike="noStrike">
                <a:solidFill>
                  <a:srgbClr val="ffffcc"/>
                </a:solidFill>
                <a:latin typeface="Arial"/>
              </a:rPr>
              <a:t>– </a:t>
            </a: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end of period, year-on-year rate of chang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Inflation in Croatia and Turkey is measured by</a:t>
            </a:r>
            <a:r>
              <a:rPr b="0" lang="hr-HR" sz="1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consumer price index, and in the other selected countries by harmonized index of consumer prices</a:t>
            </a:r>
            <a:r>
              <a:rPr b="0" lang="hr-HR" sz="12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ources: CBS, Eurostat and central banks' web sit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Intl Reserves and Deposit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80360" y="287280"/>
            <a:ext cx="1511280" cy="1511280"/>
          </a:xfrm>
          <a:prstGeom prst="wedgeEllipseCallout">
            <a:avLst>
              <a:gd name="adj1" fmla="val -40550"/>
              <a:gd name="adj2" fmla="val 62254"/>
            </a:avLst>
          </a:prstGeom>
          <a:solidFill>
            <a:srgbClr val="ff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GOO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NEW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319640" y="1979640"/>
            <a:ext cx="4319640" cy="34192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539640" y="1827360"/>
            <a:ext cx="3159360" cy="41130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Loan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01680" y="1814400"/>
            <a:ext cx="8339040" cy="35845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urrent Account and Foreign Deb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508720" y="1979640"/>
            <a:ext cx="1511280" cy="1260360"/>
          </a:xfrm>
          <a:prstGeom prst="wedgeEllipseCallout">
            <a:avLst>
              <a:gd name="adj1" fmla="val -31199"/>
              <a:gd name="adj2" fmla="val 64962"/>
            </a:avLst>
          </a:prstGeom>
          <a:solidFill>
            <a:srgbClr val="b3b3b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EW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179280" y="1611360"/>
            <a:ext cx="4934160" cy="51688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5256360" y="3749760"/>
            <a:ext cx="3744720" cy="23716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Banks' Assets – Exchange Rat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0" y="2160720"/>
            <a:ext cx="5164200" cy="32400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5580000" y="1673280"/>
            <a:ext cx="3195720" cy="40860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Banks' Loan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76320" y="1800360"/>
            <a:ext cx="6043320" cy="1800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539640" y="3780000"/>
            <a:ext cx="2490840" cy="14223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504720" y="5222880"/>
            <a:ext cx="2554560" cy="14367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5"/>
          <a:stretch/>
        </p:blipFill>
        <p:spPr>
          <a:xfrm>
            <a:off x="3240000" y="4859280"/>
            <a:ext cx="5751720" cy="13003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6"/>
          <a:stretch/>
        </p:blipFill>
        <p:spPr>
          <a:xfrm>
            <a:off x="6480000" y="3060720"/>
            <a:ext cx="2340000" cy="15476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apital Adequac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403280" y="1628640"/>
            <a:ext cx="5940360" cy="459720"/>
          </a:xfrm>
          <a:prstGeom prst="rect">
            <a:avLst/>
          </a:prstGeom>
          <a:solidFill>
            <a:srgbClr val="808080"/>
          </a:solidFill>
          <a:ln w="0">
            <a:noFill/>
          </a:ln>
          <a:effectLst>
            <a:outerShdw dist="17819" dir="135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gulatory capital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otal exposure to risk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72360" y="720720"/>
            <a:ext cx="1871640" cy="1763640"/>
          </a:xfrm>
          <a:prstGeom prst="wedgeEllipseCallout">
            <a:avLst>
              <a:gd name="adj1" fmla="val -2124"/>
              <a:gd name="adj2" fmla="val 32125"/>
            </a:avLst>
          </a:prstGeom>
          <a:solidFill>
            <a:srgbClr val="ff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VER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GOO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NEW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1332000" y="2217600"/>
            <a:ext cx="6192720" cy="39085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2T11:39:33Z</dcterms:created>
  <dc:creator>Zoran Bohaček</dc:creator>
  <dc:description/>
  <dc:language>en-US</dc:language>
  <cp:lastModifiedBy>Zoran Bohacek</cp:lastModifiedBy>
  <cp:lastPrinted>2009-06-16T13:41:08Z</cp:lastPrinted>
  <dcterms:modified xsi:type="dcterms:W3CDTF">2009-06-16T13:55:16Z</dcterms:modified>
  <cp:revision>70</cp:revision>
  <dc:subject/>
  <dc:title>KREDITNI REGISTAR KAO INSTITUCIJA RAZVIJENOG FINANCIJSKOG TRŽIŠ</dc:title>
</cp:coreProperties>
</file>