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152B-09F2-4E28-A444-B59D024A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4DF80-4A63-49BB-BA6B-33AC626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E393-B315-41E0-BF38-3E639CC52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AE291-420E-4035-91FE-2F3BEF14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71F38-259A-49FC-93FC-30FF553E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81B5-8C6E-47A3-9C4E-1B676BBE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7D8A-ADC1-445B-8E4E-55525E4D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EEDC-25D0-4490-9705-202AF632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E744-A34D-4BD3-8DFF-A91D8BD0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B4F4-8B94-40BC-8ED4-DD426577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1277-09F2-48B2-B709-291BE642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F89D-1F47-49BA-9F94-920C7834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CAEC-655F-4E1D-86FB-64AE08DA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84A7-F4D3-4102-9844-AAC082C0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EC7-6708-47F9-A587-5ED82900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05009-476E-4199-A68B-B763C5805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E48E-0459-4485-805A-6E94DEDEC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629B-2291-4894-B2FB-E908E6DB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A6238-CE71-40BE-8A8A-DDDC0F70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C95D9-C173-47C1-A4A8-10B73FD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791C-CB9F-42A7-8B78-0B091A0D7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DB57-4716-460E-9B0E-3099FF06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9B20A-0F91-4BBF-A3AC-1C3735F8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31EA-5DC4-4B65-B9AC-A0243213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0D04-8659-40FA-AB1B-5DD845056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3FF-EE6D-425B-9F3E-CDBE9ACC56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nancial integration in post-soviet spa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na Abalki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aku, 2010, 27 m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-border invest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30 CIS banks which have operating subsidiaries in the regio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banks they control increased to 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8 banks’ cross-border investments in the authorized capital of CIS credit institutions reached $4bln (total assets of controlled banks stood at $26,8bl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1947960"/>
            <a:ext cx="40323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4356000"/>
            <a:ext cx="4032360" cy="202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233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9080" y="3789000"/>
            <a:ext cx="27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st country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9080" y="1627920"/>
            <a:ext cx="292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S home country bank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ule of single pr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st volumes of capital movement among post-Soviet countries are the reason for the high differentiation in monetary parameters, (Vernikov, 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84360" y="1989000"/>
          <a:ext cx="3855960" cy="21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89000"/>
                    <a:ext cx="385596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43280" y="2104920"/>
            <a:ext cx="403884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harmonized price for credit resources acts as a precondition of the integrated banking market, greater banking cooperation does not lead to such harmo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 of the modern financial crisis indicates that the scale of banking integration incre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inancial crisis also promoted inter-governmental discussions on common mechanisms to stabilize econom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measures are not sufficient to stabilize regional economies during financial breakdow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ening credit markets, decreasing export revenues and economic recession   necessitate the reduction of the CIS countries dependence on international financial markets and the development of regional capital and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lterna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bon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certain obstacles to its achievement, for instance, the absence of sovereign ratings for some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markets can be developed through the redistribution mechanism of multilateral development banks (raising funds through bonds and transforming them into loan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center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t investment position of selected CIS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9640" y="1989000"/>
          <a:ext cx="8209080" cy="421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89000"/>
                    <a:ext cx="8209080" cy="42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37440" y="23493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monetary mar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st usage of local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ffectiveness of usage of foreign currencies during crisis times because fluctuations of exchange rates of local currencies are less against each other than against US dollar or eur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shina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of Kazakh tenge vs Russian ruble fell by 1% from 2008, August till 2009,August. At the same time the exchange rate of dollar rose by 26% and euro by 23% against teng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same period the exchange rate of Russian ruble against Ukrainian hryvna rose by 25%, thus dollar rose against hryvna by 65%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eralization of their monetary market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development tr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 in financial markets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they still remain highly vulnerabl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mited role of banking syste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ence on global financial market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espite considerable improvement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IS regio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banking systems, regional banking markets are quite poo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integrated and differ widely in terms of the structure and size of the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oper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al intermediation: regional comparis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ets/GDP,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2130480"/>
            <a:ext cx="741708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ets of the CIS banking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1484280"/>
          <a:ext cx="8353440" cy="493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353440" cy="49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321640" y="172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ml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of financial i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sis hit financial markets of the CIS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 – stabilization of their financial markets and development of regional capital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models of financial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financial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single financial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of singl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al of restrictions on mark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Asian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development of financial market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e national legisl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d bilateral and multilateral agreements between them 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stablish preferential banking regulations for owners of ban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who originate fro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favoured nation treatment (MFN) is now granted to bank founders from the CIS countries, as it is to other non-resident shareholders, but MFN allows to apply restrictions for foreign financial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asian economic community initiative to built common financial mar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nking cooperation of the 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 soviet space is one of few regions where credit institutions from CIS have favorable perspectives to develop banking 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vel of development of banking systems of CIS countries doesn’t allow their banks to compete with commercial banks originated from developed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soviet space corresponds to the possibilities of CIS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cooperation is often indicates the level of economic interaction between home and host countri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asymmetric participation of CIS banks speaks for fragmentariness of bilateral economic cooperation in the region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IS banks on post-soviet space: regional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expansion of the CIS banks is asymmetri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banks (mainly Russian) became the key players in mergers and acquisitions in post-soviet space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institutions from post-soviet space increase their role in banking systems of neighboring countrie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banks have emerged whose development strategies involve expansion into post-Soviet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national banks of the CIS reg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392720"/>
        </p:xfrm>
        <a:graphic>
          <a:graphicData uri="http://schemas.openxmlformats.org/drawingml/2006/table">
            <a:tbl>
              <a:tblPr/>
              <a:tblGrid>
                <a:gridCol w="1811160"/>
                <a:gridCol w="1295640"/>
                <a:gridCol w="1871640"/>
                <a:gridCol w="1728720"/>
                <a:gridCol w="1522440"/>
              </a:tblGrid>
              <a:tr h="80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me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assets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capital in the CIS region, $ml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subsidia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T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887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f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0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neshecon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28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8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commerz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zakhst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7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ber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 of Mosco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zprom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s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7:44:08Z</dcterms:created>
  <dc:creator>Samsung_Q310</dc:creator>
  <dc:description/>
  <dc:language>en-US</dc:language>
  <cp:lastModifiedBy>Samsung_Q310</cp:lastModifiedBy>
  <dcterms:modified xsi:type="dcterms:W3CDTF">2010-05-27T07:52:45Z</dcterms:modified>
  <cp:revision>31</cp:revision>
  <dc:subject/>
  <dc:title>Financial integration in post soviet space</dc:title>
</cp:coreProperties>
</file>