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E793-A9DB-4259-8E2F-3CF5E03CA8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1158-2D42-4882-ADCC-2C033845D10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4B54-CF01-44A0-808F-B436188C853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399B-BD2B-4379-9249-EE345C52BAE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3A20-E9F3-4B93-9603-C39DF1C4F13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1ABF-4B31-4FAB-8D21-F7B9396113BF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19B4-7AFE-447F-857F-C6D57935D00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96B9-A47F-4AFF-92CA-690667B683E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BD83-7BE6-46E7-9EB5-F5B478624D3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575E-2375-4D50-ADB9-83F703A8FCE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F91F-31B0-409F-8133-0E81DFC1152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5ECF-41C7-4558-9A72-B5ECDDADBF6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8FDF-12DD-44D5-BB52-C532A202FC6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72E0-81DB-4288-ABA8-CFCD09118DA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51B8-B44D-487E-A0E6-A3EA65DE7EB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CC45-B95D-471D-A6C9-40245F023D6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5A46-B596-48B2-9C10-E664483BE14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91F1-1DF1-4E72-B2E7-C6F6372157B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26EC-0170-4B41-B9B3-CB9C6571F10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16E7-4EC5-4544-8EE8-40069912993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0A4-64D6-4E75-B098-67495C62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602F-FD2F-41F6-8897-A2F15BE6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0231-0317-4F42-BF23-295C2768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7017-B58D-4A63-BADC-649500AA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BD99-8841-4486-AF49-1A23840C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0BCF-9187-4215-B9A5-B70F8459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5698-FE32-465C-8BDD-4709672E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578F-0725-426D-A319-24F70ACF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65DF-C661-412B-A71C-E92AC996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8CB2-1547-443A-970F-3506E6F7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9C8E-A360-470A-83D4-278B231D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87D-FE0B-4694-9AE1-EFAF9428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624E-92E0-4444-BF0E-EA41063D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1886-04FA-4D66-87DB-A35376DB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4E47-A711-4B1A-BD6A-B5BBE011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76DD-2C13-4CF5-9CD5-032FE0A62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F876-56BE-437A-B8F2-F2A62EDF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D59D-EB22-4D72-817C-CA11B3CD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970-2D24-4C1B-A97C-FC3B9297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2BE-1732-4D5D-8032-55800BDC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26C-5759-4E6B-8A83-14EE67BE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83E3-1621-4D6F-9F5F-0EC2E217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C1D-754B-44AD-BFC1-D05EC64A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C02-F6A8-472D-84E8-174D367F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020A-55D3-4101-8DF6-92BD252978A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DA7D-BF7D-4D10-AFAF-207546CA848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g.gasos@ebf-fbe.eu" TargetMode="External"/><Relationship Id="rId2" Type="http://schemas.openxmlformats.org/officeDocument/2006/relationships/hyperlink" Target="mailto:g.gasos@ebf-fbe.eu" TargetMode="External"/><Relationship Id="rId3" Type="http://schemas.openxmlformats.org/officeDocument/2006/relationships/hyperlink" Target="mailto:g.gasos@ebf-fbe.eu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3142800"/>
            <a:ext cx="64818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mmary of EBF response to the </a:t>
            </a:r>
            <a:br>
              <a:rPr sz="2800"/>
            </a:b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Basel Committee proposal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Gonzalo Gasos, EBF Adviser</a:t>
            </a:r>
            <a:br>
              <a:rPr sz="2800"/>
            </a:b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0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000"/>
            </a:br>
            <a:r>
              <a:rPr b="0" lang="fr-FR" sz="16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14360" y="259920"/>
            <a:ext cx="514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Real economy.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Objectives and challeng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9B2A-C716-48E3-8541-CFCE93A30DFE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00040" y="1571760"/>
            <a:ext cx="822960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EBF arguments with a credible analysis of the likely global macroeconomic impact of proposed regulatory chang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o do so in a time frame that will allow for an input into key decisions (e.g. before mid-year 2010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vide a framework for discussion of this topic in the broader public environ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ed regulatory changes ill-defined. Need for scenarios and simulation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ventional macro models not much help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37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data from reliable consistent source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9" name="Picture 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389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Summary of intended approach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5FAC-CD17-41F4-88B7-FBECEC3BA73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00040" y="1571760"/>
            <a:ext cx="8229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571680" y="2063880"/>
            <a:ext cx="8358120" cy="1769760"/>
            <a:chOff x="571680" y="2063880"/>
            <a:chExt cx="8358120" cy="1769760"/>
          </a:xfrm>
        </p:grpSpPr>
        <p:sp>
          <p:nvSpPr>
            <p:cNvPr id="135" name="Text Box 5"/>
            <p:cNvSpPr/>
            <p:nvPr/>
          </p:nvSpPr>
          <p:spPr>
            <a:xfrm>
              <a:off x="571680" y="2063880"/>
              <a:ext cx="1396440" cy="17697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dentify and quantify proposed change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>
              <a:off x="2082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7" name="Text Box 8"/>
            <p:cNvSpPr/>
            <p:nvPr/>
          </p:nvSpPr>
          <p:spPr>
            <a:xfrm>
              <a:off x="2711520" y="2446920"/>
              <a:ext cx="132660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odel of banking sector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>
              <a:off x="407196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39" name="Text Box 10"/>
            <p:cNvSpPr/>
            <p:nvPr/>
          </p:nvSpPr>
          <p:spPr>
            <a:xfrm>
              <a:off x="4714920" y="2268360"/>
              <a:ext cx="1785960" cy="14486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Assump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cenario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Simulation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6572520" y="2888280"/>
              <a:ext cx="558360" cy="239760"/>
            </a:xfrm>
            <a:prstGeom prst="rightArrow">
              <a:avLst>
                <a:gd name="adj1" fmla="val 50000"/>
                <a:gd name="adj2" fmla="val 58221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7180920" y="2268360"/>
              <a:ext cx="174888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Macro impact, especially growth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sp>
        <p:nvSpPr>
          <p:cNvPr id="142" name="Text Box 12"/>
          <p:cNvSpPr/>
          <p:nvPr/>
        </p:nvSpPr>
        <p:spPr>
          <a:xfrm>
            <a:off x="533520" y="4417920"/>
            <a:ext cx="7848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Expected end result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 magic number, but a framework (and supporting report) that will allow for discussion and debate, both with the public sector and within the private sector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Lots of sensitivity analysi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1125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3" name="Picture 15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Modelling approach in outlin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B9BB-5D61-4D5D-B22B-2D142877098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1828800"/>
            <a:ext cx="82296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EBF is collaborating with the IIF to use a simple, spreadsheet-based model with a heavy emphasis on the banking sector. Five blocks: Euro area, U.K., U.S., Japan and Canada.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odels have four components: 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balance-shee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 capital supply funct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Banking sector profit and loss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lvl="1" marL="447840" indent="-86040">
              <a:lnSpc>
                <a:spcPct val="100000"/>
              </a:lnSpc>
              <a:spcBef>
                <a:spcPts val="1125"/>
              </a:spcBef>
              <a:buClr>
                <a:srgbClr val="005cad"/>
              </a:buClr>
              <a:buFont typeface="HelveticaNeueLT St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Macroeconomic block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The models allow a fairly precise articulation and quantification of the key regulatory changes being proposed and their simultaneous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impact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5c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side from providing some quantitative estimates of changes, the framework provides a helpful, historic dataset, upon which to base discussion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072040" y="2786040"/>
            <a:ext cx="3929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And three key behavioral links: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Cost of bank capital/new issuanc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Private credit demand/lending rate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5cad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5cad"/>
                </a:solidFill>
                <a:latin typeface="Arial"/>
              </a:rPr>
              <a:t>Nominal GDP/credit supply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49" name="Picture 7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410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123AD-9A43-452F-809A-5C3E99F7EAE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53" name="Group 20"/>
          <p:cNvGrpSpPr/>
          <p:nvPr/>
        </p:nvGrpSpPr>
        <p:grpSpPr>
          <a:xfrm>
            <a:off x="642960" y="1819440"/>
            <a:ext cx="8298000" cy="4109760"/>
            <a:chOff x="642960" y="1819440"/>
            <a:chExt cx="8298000" cy="4109760"/>
          </a:xfrm>
        </p:grpSpPr>
        <p:sp>
          <p:nvSpPr>
            <p:cNvPr id="154" name="Text Box 4"/>
            <p:cNvSpPr/>
            <p:nvPr/>
          </p:nvSpPr>
          <p:spPr>
            <a:xfrm>
              <a:off x="642960" y="2475720"/>
              <a:ext cx="1438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To achieve higher required capital ratio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5" name="AutoShape 5"/>
            <p:cNvSpPr/>
            <p:nvPr/>
          </p:nvSpPr>
          <p:spPr>
            <a:xfrm rot="2430600">
              <a:off x="2225160" y="42746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2945160" y="2726280"/>
              <a:ext cx="122292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ssue new equity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7" name="AutoShape 7"/>
            <p:cNvSpPr/>
            <p:nvPr/>
          </p:nvSpPr>
          <p:spPr>
            <a:xfrm>
              <a:off x="4312080" y="285660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8" name="Text Box 8"/>
            <p:cNvSpPr/>
            <p:nvPr/>
          </p:nvSpPr>
          <p:spPr>
            <a:xfrm>
              <a:off x="5103360" y="2287080"/>
              <a:ext cx="1438560" cy="14346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cost of funding to bank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6686280" y="321624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>
              <a:off x="7430400" y="2857320"/>
              <a:ext cx="1510560" cy="21049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Higher lending spread to private sector borrower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1" name="Text Box 12"/>
            <p:cNvSpPr/>
            <p:nvPr/>
          </p:nvSpPr>
          <p:spPr>
            <a:xfrm>
              <a:off x="2967480" y="3949200"/>
              <a:ext cx="1319040" cy="109944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Increase retained profits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2" name="AutoShape 13"/>
            <p:cNvSpPr/>
            <p:nvPr/>
          </p:nvSpPr>
          <p:spPr>
            <a:xfrm rot="19168800">
              <a:off x="2225160" y="323136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3" name="AutoShape 7"/>
            <p:cNvSpPr/>
            <p:nvPr/>
          </p:nvSpPr>
          <p:spPr>
            <a:xfrm>
              <a:off x="4383720" y="4511520"/>
              <a:ext cx="2661840" cy="215640"/>
            </a:xfrm>
            <a:prstGeom prst="rightArrow">
              <a:avLst>
                <a:gd name="adj1" fmla="val 50000"/>
                <a:gd name="adj2" fmla="val 308598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4" name="Rectangle 2"/>
            <p:cNvSpPr/>
            <p:nvPr/>
          </p:nvSpPr>
          <p:spPr>
            <a:xfrm>
              <a:off x="714600" y="5137920"/>
              <a:ext cx="8184960" cy="791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Do banks have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Which route to higher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pricing power to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    equity will be chosen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raise lending rate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5" name="AutoShape 13"/>
            <p:cNvSpPr/>
            <p:nvPr/>
          </p:nvSpPr>
          <p:spPr>
            <a:xfrm rot="19168800">
              <a:off x="2225160" y="2260080"/>
              <a:ext cx="575280" cy="215640"/>
            </a:xfrm>
            <a:prstGeom prst="rightArrow">
              <a:avLst>
                <a:gd name="adj1" fmla="val 50000"/>
                <a:gd name="adj2" fmla="val 66694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6" name="Text Box 6"/>
            <p:cNvSpPr/>
            <p:nvPr/>
          </p:nvSpPr>
          <p:spPr>
            <a:xfrm>
              <a:off x="2945160" y="1819440"/>
              <a:ext cx="1222920" cy="7642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5cad"/>
                  </a:solidFill>
                  <a:latin typeface="Arial"/>
                </a:rPr>
                <a:t>Cut RWA</a:t>
              </a:r>
              <a:endParaRPr b="0" lang="en-US" sz="22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4312080" y="1900080"/>
              <a:ext cx="4604400" cy="215640"/>
            </a:xfrm>
            <a:prstGeom prst="rightArrow">
              <a:avLst>
                <a:gd name="adj1" fmla="val 50000"/>
                <a:gd name="adj2" fmla="val 533806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68" name="Picture 2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893680" y="259920"/>
            <a:ext cx="403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How does the model work?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C8EA-127F-4F84-B95A-09E7BDAB3A8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grpSp>
        <p:nvGrpSpPr>
          <p:cNvPr id="172" name="Group 43"/>
          <p:cNvGrpSpPr/>
          <p:nvPr/>
        </p:nvGrpSpPr>
        <p:grpSpPr>
          <a:xfrm>
            <a:off x="500040" y="1643040"/>
            <a:ext cx="8501040" cy="4714560"/>
            <a:chOff x="500040" y="1643040"/>
            <a:chExt cx="8501040" cy="4714560"/>
          </a:xfrm>
        </p:grpSpPr>
        <p:sp>
          <p:nvSpPr>
            <p:cNvPr id="173" name="Text Box 4"/>
            <p:cNvSpPr/>
            <p:nvPr/>
          </p:nvSpPr>
          <p:spPr>
            <a:xfrm>
              <a:off x="793080" y="4472280"/>
              <a:ext cx="2491560" cy="10087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vailability of credit from non-bank sources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 rot="19807200">
              <a:off x="3358080" y="454356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4000320" y="3071880"/>
              <a:ext cx="1407600" cy="161856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Aggregate whole economy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6" name="AutoShape 9"/>
            <p:cNvSpPr/>
            <p:nvPr/>
          </p:nvSpPr>
          <p:spPr>
            <a:xfrm>
              <a:off x="5410080" y="375804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7" name="Text Box 10"/>
            <p:cNvSpPr/>
            <p:nvPr/>
          </p:nvSpPr>
          <p:spPr>
            <a:xfrm>
              <a:off x="5996520" y="2900520"/>
              <a:ext cx="1392120" cy="192348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Nominal GDP driven by aggregate credit supply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8" name="Line 11"/>
            <p:cNvSpPr/>
            <p:nvPr/>
          </p:nvSpPr>
          <p:spPr>
            <a:xfrm>
              <a:off x="719640" y="1643040"/>
              <a:ext cx="7841520" cy="0"/>
            </a:xfrm>
            <a:prstGeom prst="line">
              <a:avLst/>
            </a:prstGeom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 rot="2058000">
              <a:off x="3431160" y="28288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grpSp>
          <p:nvGrpSpPr>
            <p:cNvPr id="180" name="Group 29"/>
            <p:cNvGrpSpPr/>
            <p:nvPr/>
          </p:nvGrpSpPr>
          <p:grpSpPr>
            <a:xfrm>
              <a:off x="795960" y="1643040"/>
              <a:ext cx="2781360" cy="2451960"/>
              <a:chOff x="795960" y="1643040"/>
              <a:chExt cx="2781360" cy="2451960"/>
            </a:xfrm>
          </p:grpSpPr>
          <p:sp>
            <p:nvSpPr>
              <p:cNvPr id="181" name="Line 15"/>
              <p:cNvSpPr/>
              <p:nvPr/>
            </p:nvSpPr>
            <p:spPr>
              <a:xfrm>
                <a:off x="795960" y="1829160"/>
                <a:ext cx="0" cy="192852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2" name="Line 16"/>
              <p:cNvSpPr/>
              <p:nvPr/>
            </p:nvSpPr>
            <p:spPr>
              <a:xfrm>
                <a:off x="795960" y="3757680"/>
                <a:ext cx="2418480" cy="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3" name="Line 17"/>
              <p:cNvSpPr/>
              <p:nvPr/>
            </p:nvSpPr>
            <p:spPr>
              <a:xfrm>
                <a:off x="1088640" y="2043360"/>
                <a:ext cx="1832040" cy="1356840"/>
              </a:xfrm>
              <a:prstGeom prst="line">
                <a:avLst/>
              </a:prstGeom>
              <a:ln w="19080">
                <a:solidFill>
                  <a:srgbClr val="f6801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4" name="Line 18"/>
              <p:cNvSpPr/>
              <p:nvPr/>
            </p:nvSpPr>
            <p:spPr>
              <a:xfrm flipV="1">
                <a:off x="1497960" y="229176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5" name="Line 19"/>
              <p:cNvSpPr/>
              <p:nvPr/>
            </p:nvSpPr>
            <p:spPr>
              <a:xfrm flipV="1">
                <a:off x="917640" y="1841040"/>
                <a:ext cx="1612440" cy="1357200"/>
              </a:xfrm>
              <a:prstGeom prst="line">
                <a:avLst/>
              </a:prstGeom>
              <a:ln w="19080">
                <a:solidFill>
                  <a:srgbClr val="005ca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6" name="Text Box 20"/>
              <p:cNvSpPr/>
              <p:nvPr/>
            </p:nvSpPr>
            <p:spPr>
              <a:xfrm>
                <a:off x="2994480" y="3266280"/>
                <a:ext cx="366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7" name="Text Box 21"/>
              <p:cNvSpPr/>
              <p:nvPr/>
            </p:nvSpPr>
            <p:spPr>
              <a:xfrm>
                <a:off x="3137760" y="207756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8" name="Text Box 22"/>
              <p:cNvSpPr/>
              <p:nvPr/>
            </p:nvSpPr>
            <p:spPr>
              <a:xfrm>
                <a:off x="2531880" y="1643040"/>
                <a:ext cx="439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S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89" name="Text Box 23"/>
              <p:cNvSpPr/>
              <p:nvPr/>
            </p:nvSpPr>
            <p:spPr>
              <a:xfrm>
                <a:off x="21880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1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0" name="Line 24"/>
              <p:cNvSpPr/>
              <p:nvPr/>
            </p:nvSpPr>
            <p:spPr>
              <a:xfrm>
                <a:off x="2322360" y="2986560"/>
                <a:ext cx="0" cy="77076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1" name="Line 25"/>
              <p:cNvSpPr/>
              <p:nvPr/>
            </p:nvSpPr>
            <p:spPr>
              <a:xfrm>
                <a:off x="1724040" y="2528280"/>
                <a:ext cx="0" cy="1229040"/>
              </a:xfrm>
              <a:prstGeom prst="line">
                <a:avLst/>
              </a:prstGeom>
              <a:ln w="9360">
                <a:solidFill>
                  <a:srgbClr val="005cad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2" name="Text Box 26"/>
              <p:cNvSpPr/>
              <p:nvPr/>
            </p:nvSpPr>
            <p:spPr>
              <a:xfrm>
                <a:off x="1455480" y="3757680"/>
                <a:ext cx="53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5cad"/>
                    </a:solidFill>
                    <a:latin typeface="Arial"/>
                  </a:rPr>
                  <a:t>Q</a:t>
                </a:r>
                <a:r>
                  <a:rPr b="0" lang="en-US" sz="1000" spc="-1" strike="noStrike">
                    <a:solidFill>
                      <a:srgbClr val="005cad"/>
                    </a:solidFill>
                    <a:latin typeface="Arial"/>
                  </a:rPr>
                  <a:t>2</a:t>
                </a:r>
                <a:endParaRPr b="0" lang="en-US" sz="10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  <p:sp>
            <p:nvSpPr>
              <p:cNvPr id="193" name="Line 27"/>
              <p:cNvSpPr/>
              <p:nvPr/>
            </p:nvSpPr>
            <p:spPr>
              <a:xfrm flipH="1">
                <a:off x="1841400" y="3927240"/>
                <a:ext cx="346320" cy="0"/>
              </a:xfrm>
              <a:prstGeom prst="line">
                <a:avLst/>
              </a:prstGeom>
              <a:ln w="9360">
                <a:solidFill>
                  <a:srgbClr val="005cad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5cad"/>
                  </a:solidFill>
                  <a:latin typeface="Arial"/>
                </a:endParaRPr>
              </a:p>
            </p:txBody>
          </p:sp>
        </p:grpSp>
        <p:sp>
          <p:nvSpPr>
            <p:cNvPr id="194" name="Text Box 10"/>
            <p:cNvSpPr/>
            <p:nvPr/>
          </p:nvSpPr>
          <p:spPr>
            <a:xfrm>
              <a:off x="8121960" y="3472200"/>
              <a:ext cx="879120" cy="70380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cad"/>
                  </a:solidFill>
                  <a:latin typeface="Arial"/>
                </a:rPr>
                <a:t>Real GDP</a:t>
              </a:r>
              <a:endParaRPr b="0" lang="en-US" sz="20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5" name="AutoShape 9"/>
            <p:cNvSpPr/>
            <p:nvPr/>
          </p:nvSpPr>
          <p:spPr>
            <a:xfrm>
              <a:off x="7462080" y="3766680"/>
              <a:ext cx="586080" cy="214200"/>
            </a:xfrm>
            <a:prstGeom prst="rightArrow">
              <a:avLst>
                <a:gd name="adj1" fmla="val 50000"/>
                <a:gd name="adj2" fmla="val 68403"/>
              </a:avLst>
            </a:prstGeom>
            <a:solidFill>
              <a:srgbClr val="005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  <p:sp>
          <p:nvSpPr>
            <p:cNvPr id="196" name="Rectangle 2"/>
            <p:cNvSpPr/>
            <p:nvPr/>
          </p:nvSpPr>
          <p:spPr>
            <a:xfrm>
              <a:off x="500040" y="5572080"/>
              <a:ext cx="8337960" cy="785520"/>
            </a:xfrm>
            <a:prstGeom prst="rect">
              <a:avLst/>
            </a:prstGeom>
            <a:noFill/>
            <a:ln w="9360">
              <a:solidFill>
                <a:srgbClr val="005c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Complications: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How much can non-banks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substitute for banks?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5cad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5cad"/>
                </a:solidFill>
                <a:latin typeface="Arial"/>
              </a:endParaRPr>
            </a:p>
          </p:txBody>
        </p:sp>
      </p:grpSp>
      <p:pic>
        <p:nvPicPr>
          <p:cNvPr id="197" name="Picture 41" descr="Logo IIF.JPG"/>
          <p:cNvPicPr/>
          <p:nvPr/>
        </p:nvPicPr>
        <p:blipFill>
          <a:blip r:embed="rId1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Preliminary results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IIF approach</a:t>
            </a:r>
            <a:br>
              <a:rPr sz="3400"/>
            </a:b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00040" y="1643040"/>
            <a:ext cx="80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 the regulatory change scenario, the real GDP is projected to b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2.5% lower in the US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1.9% lower in Japan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4% lower in the Euro Area – the largest banking system -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s of these 3 economies will need to raise $0.8 trillion of common equity and issue $3.7 trillion of long-term debt in 2010-2015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banks lending spread to the private sector in the Euro Area would increase as much as 180 bp at the peak (2013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AFDE-69C1-4180-830C-9C07F515150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Real bank lending rat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ore equity shadow price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989000" y="1643040"/>
            <a:ext cx="4789800" cy="2428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1984320" y="4214880"/>
            <a:ext cx="480240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ADD1-B8F5-4F4E-B02D-035A3828B73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 credit growth to private sector (top)</a:t>
            </a:r>
            <a:br>
              <a:rPr sz="2600"/>
            </a:b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Banks’ return on equity (bottom)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A2E1-1897-47CD-9647-37EC0B3A9F8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2143080" y="1714680"/>
            <a:ext cx="4659480" cy="241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2143080" y="4286160"/>
            <a:ext cx="46436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GDP cumulative (top)</a:t>
            </a:r>
            <a:br>
              <a:rPr sz="3000"/>
            </a:b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mployment (bottom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8882-E446-4A7F-92F8-05FE292F632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2071800" y="1714680"/>
            <a:ext cx="4811760" cy="2447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2071800" y="4272120"/>
            <a:ext cx="48276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anks for your atten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oubts, comments, opinions would be welcome 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g.gasos@ebf-fbe.eu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3A7A-6420-4EA8-B737-2C8648B59EB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220" name="Picture 5" descr="Logo IIF.JPG"/>
          <p:cNvPicPr/>
          <p:nvPr/>
        </p:nvPicPr>
        <p:blipFill>
          <a:blip r:embed="rId4"/>
          <a:stretch/>
        </p:blipFill>
        <p:spPr>
          <a:xfrm>
            <a:off x="7358040" y="411120"/>
            <a:ext cx="144324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3118-D650-495E-9CF9-94D29672B6C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welcomes the willingness to strengthen the resilience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Firstly, need for improved supervis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wness and complexity of proposals require further analysis and a second consult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ay heed to the interplays between different measur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Assessment of the overall impac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D7D9-77C3-496D-8F1C-CC446C4B017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500040" y="193212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INCIPL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ation of banks’ lending capacity in the EU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nsistency in regulations (single rulebook)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national level playing fiel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anking sector competitive edge notably the ability to raise new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FDD5-5B04-4087-9FCB-24EA78838DB6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00040" y="191628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ransition period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Grandfathering arrang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Minority interes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Deferred tax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ension fund asse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6308-949F-45E0-902C-A70BF53EDDD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39640" y="1628640"/>
            <a:ext cx="822960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overlapping elemen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mote the use of central clering counterparties without penalizing OTC derivative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eserve the right incentives to risk management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The appropriateness of Pillar 2: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everage ratio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apital buffer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Counterparty risk 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F1E2-232D-45D7-A532-EE7FB912C02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00040" y="2093760"/>
            <a:ext cx="822960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BF supports the provisioning based on expected los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But not the downturn probability of default in pillar 1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Restrictions to dividend pay-out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Excessive credit growth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27280" y="25992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EBF response to the Basel Committee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3C46-D3BF-481C-B78D-94D9A76745B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00040" y="2093760"/>
            <a:ext cx="82296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2750"/>
              </a:spcBef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PROPOSA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Liquidity ratio accepted but need to review the details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t stable funding ratio would distort maturity transformation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Need for re-thinking the NSFR propos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  <a:p>
            <a:pPr marL="230040" indent="-230040">
              <a:spcBef>
                <a:spcPts val="2750"/>
              </a:spcBef>
              <a:buClr>
                <a:srgbClr val="005cad"/>
              </a:buClr>
              <a:buFont typeface="Arial"/>
              <a:buChar char="•"/>
              <a:tabLst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5cad"/>
                </a:solidFill>
                <a:latin typeface="Arial"/>
              </a:rPr>
              <a:t>Interplays: the combination of liquidity ratios, capital buffers and stringent definition of capital</a:t>
            </a:r>
            <a:endParaRPr b="0" lang="en-US" sz="2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14240" y="3142800"/>
            <a:ext cx="77724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Assessing the Cumulative Impact of Proposed Regulatory Changes 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EBF Associates Meeting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Baku - Azerbaijan</a:t>
            </a:r>
            <a:br>
              <a:rPr sz="2800"/>
            </a:br>
            <a:r>
              <a:rPr b="0" lang="fr-FR" sz="2000" spc="-1" strike="noStrike">
                <a:solidFill>
                  <a:srgbClr val="0066cc"/>
                </a:solidFill>
                <a:latin typeface="Times New Roman"/>
              </a:rPr>
              <a:t>28 May 2010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Cumulative impact assessment: Banking sector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E5A5-8FC0-4A88-B49D-1A04212502E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627200" y="1643040"/>
            <a:ext cx="59450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6:13:41Z</dcterms:created>
  <dc:creator>Gonzalo Gasos</dc:creator>
  <dc:description/>
  <dc:language>en-US</dc:language>
  <cp:lastModifiedBy>Viktorija Proskurovska</cp:lastModifiedBy>
  <dcterms:modified xsi:type="dcterms:W3CDTF">2010-06-01T07:14:05Z</dcterms:modified>
  <cp:revision>421</cp:revision>
  <dc:subject/>
  <dc:title>ICAAP Seminar Rome, 20-22 October 2009</dc:title>
</cp:coreProperties>
</file>