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E5FD-C20D-4192-8EC8-4EEBFDD8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92F-E854-4C18-934B-E25301E6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46B2-CC6A-4472-9465-8423AC36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0F1B-C82F-4A1E-8640-4AB3F2255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EF2E-DCBC-4871-A57F-93501A2E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58AF-44C0-4BB6-9CB9-23A1F6F0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5604-6FAC-494D-9F84-53FDE172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997E-E0D8-4B54-8BD4-1AC69CF6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F917-55AD-496F-880E-F79EEE9A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B590-383D-424E-842A-649FF3FC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DA9F-7F7F-4C20-A164-F8781B7B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375A-F092-42A7-BA75-0EF650A4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43CC-D4AA-4EA4-A824-9BE552EB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C17E-9969-4E0D-9D7A-5EF93C76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C55E-B83D-48BF-97D0-FB302D41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1EE3-5E55-40B0-B9DD-A5C888AF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E94C-8393-4877-BE49-E7823F25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2E3-8010-4A62-B1FE-8A165CF1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2A47-F6E8-431B-B1CA-66DC370B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A3D-033D-4F1A-9140-9014FA74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77A-8631-4366-9373-FBCC28FF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4AC-2E15-49C8-BC43-1C184BB6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A540-DD17-46B0-9318-21B31DC5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E1F2-A347-4128-84FD-8B18A4A2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B645-ECDD-4271-B51F-6CCE34661B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C50C-86E7-4FFC-9910-71BACF4A49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foto.mail.ru/bk/mycheglov/_mydialog/65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6912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SOME VIEWS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ON THE FINANCIAL ARCHITECTURE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N EURASIA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Oleg M. Preksin                                                                       Vice President of the Association of Russian Banks</a:t>
            </a:r>
            <a:r>
              <a:rPr b="0" lang="ru-RU" sz="2100" spc="-1" strike="noStrike">
                <a:solidFill>
                  <a:srgbClr val="330033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Inter-regional Banking Cooperation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                          for </a:t>
            </a:r>
            <a:r>
              <a:rPr b="1" lang="en-GB" sz="2100" spc="-1" strike="noStrike">
                <a:solidFill>
                  <a:srgbClr val="330033"/>
                </a:solidFill>
                <a:latin typeface="Times New Roman"/>
              </a:rPr>
              <a:t>a Solid Financial Future</a:t>
            </a:r>
            <a:br>
              <a:rPr sz="2100"/>
            </a:b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ABA-EBF Conference - Baku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, 27 </a:t>
            </a:r>
            <a:r>
              <a:rPr b="1" lang="en-US" sz="2100" spc="-1" strike="noStrike">
                <a:solidFill>
                  <a:srgbClr val="330033"/>
                </a:solidFill>
                <a:latin typeface="Times New Roman"/>
              </a:rPr>
              <a:t>May</a:t>
            </a:r>
            <a:r>
              <a:rPr b="1" lang="ru-RU" sz="2100" spc="-1" strike="noStrike">
                <a:solidFill>
                  <a:srgbClr val="330033"/>
                </a:solidFill>
                <a:latin typeface="Times New Roman"/>
              </a:rPr>
              <a:t>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SOCIATION OF RUSSIAN BANKS (ARB)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N THE NATIONAL SCENE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ND ACROSS THE GLOBAL ENVIRONMENT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bout 700 members across the country covering more then 90% of daily bankin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ctive and efficient dialog with all the branches of power in Russia while defending the interests of banking community and securing 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operation with more then 30 national and international associations and other similar institution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9032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rect involvement in the global dialogue on international financial re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VERVIEW OF FINANCIAL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BUSINESS SITUATION: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inancial Crisis Dynamic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“sub-prime” mortgage credits to core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usines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banks to most indus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one country to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From sub-sovereign risks to sovereign guaranties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There Another “Big Blast” Ahea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ST SOVIET SPACE FINANCIAL DEVELOPMENT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&amp; OTHER  EURASIA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Disintegration of the Post Soviet Space and its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dependent development: results vary substa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ontroversial trends still pre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hat are the options in Eurasi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nter-regional Banking Cooperation across the former-Soviet U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Banking in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438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Eastern Dimension for Banking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NEW FINANCIAL ORDER: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GLOBAL, LOCAL OR  REGIONAL REGULATIONS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b for Standard Setters: Principles or Prescrip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ll the National Regulators Have a Space for Flex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s G20 the Best Option or there may be Alterna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Joining Forces For for Solid Financial Future – just a Dream or the Foreseeable Scenario?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20760" y="40464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MULTI-POLE FINANCIAL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AS THE MOST PROBABLE SCENARIO</a:t>
            </a: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781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Москва. Кремль."/>
          <p:cNvPicPr/>
          <p:nvPr/>
        </p:nvPicPr>
        <p:blipFill>
          <a:blip r:embed="rId3"/>
          <a:stretch/>
        </p:blipFill>
        <p:spPr>
          <a:xfrm>
            <a:off x="6635880" y="477216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 rot="20799600">
            <a:off x="1476000" y="1817280"/>
            <a:ext cx="2057400" cy="1971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 rot="642600">
            <a:off x="6269040" y="1773000"/>
            <a:ext cx="2048040" cy="201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3333200">
            <a:off x="5938560" y="39902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3333200">
            <a:off x="4211280" y="247752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8919800">
            <a:off x="4304880" y="249192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8919800">
            <a:off x="4355640" y="5414760"/>
            <a:ext cx="1130400" cy="39024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240"/>
              <a:gd name="textAreaBottom" fmla="*/ 292680 h 390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3333200">
            <a:off x="4284360" y="537300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3333200">
            <a:off x="2698560" y="4004640"/>
            <a:ext cx="1081080" cy="446040"/>
          </a:xfrm>
          <a:custGeom>
            <a:avLst/>
            <a:gdLst>
              <a:gd name="textAreaLeft" fmla="*/ 168840 w 1081080"/>
              <a:gd name="textAreaRight" fmla="*/ 946080 w 1081080"/>
              <a:gd name="textAreaTop" fmla="*/ 111600 h 446040"/>
              <a:gd name="textAreaBottom" fmla="*/ 334800 h 446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8919800">
            <a:off x="270000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8919800">
            <a:off x="5962320" y="4046040"/>
            <a:ext cx="1130400" cy="390600"/>
          </a:xfrm>
          <a:custGeom>
            <a:avLst/>
            <a:gdLst>
              <a:gd name="textAreaLeft" fmla="*/ 176400 w 1130400"/>
              <a:gd name="textAreaRight" fmla="*/ 989280 w 1130400"/>
              <a:gd name="textAreaTop" fmla="*/ 97560 h 390600"/>
              <a:gd name="textAreaBottom" fmla="*/ 293040 h 390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67120" y="40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573360"/>
            <a:ext cx="2016000" cy="11912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OLD &amp; NEW FINA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2:42:46Z</dcterms:created>
  <dc:creator>preksin_om</dc:creator>
  <dc:description/>
  <dc:language>en-US</dc:language>
  <cp:lastModifiedBy>preksin_om</cp:lastModifiedBy>
  <dcterms:modified xsi:type="dcterms:W3CDTF">2010-05-27T03:37:55Z</dcterms:modified>
  <cp:revision>53</cp:revision>
  <dc:subject/>
  <dc:title>ПЕРСПЕКТИВЫ ФОРМИРОВАНИЯ  ОБЩЕГО ПРОСТРАНСТВА РФ и ЕС  В СФЕРЕ ФИНАНСОВЫХ УСЛУГ</dc:title>
</cp:coreProperties>
</file>