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C91E-38EF-4CF0-B00E-3ECD90D46F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3858-C203-4C33-8E09-49E36CA5B9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FC83-D6A9-4391-BD4D-3B868B950E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6139-A427-4A13-8F37-984FEDE9F0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A61C-32AD-4A53-BB99-977F13AD7F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A3EB-5560-4003-8971-73226CA40FB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8472-23CE-442B-93B0-3BEA7821A1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5C1B-92B5-4D6E-A52A-416FBC262B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F8C4-BA27-4A3B-B3D9-FC962D1AC5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3D2-B1DA-431F-B5B2-AA26D610BC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10A5-CD7A-4F47-A8C9-71BE5FF86C0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22AA-7644-47CE-AF13-1766F9E43F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EC0B-96F9-4F59-853D-47B379622B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5145-88D2-4F8C-BA20-32E5944160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1A4D-8314-4AE0-A10E-612B12AE41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85B2-0187-4C9F-871A-EE9634623C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8B77-D9C7-4046-ACDD-BC928FF8F4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23F1-E420-461A-890B-8E3CC14F9DC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33F-E6A3-4198-8D89-D648C18F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19E1-7E76-48AD-9E43-329EADF7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2723-10E8-4EF3-9BA4-8FC119F0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D3D-68B2-4BE9-BB7E-B15E2E56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D793-FF95-4AE9-AB1E-0DD0F1AA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591-B255-418D-A09E-E98BD9E6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BE0-78A6-4252-89D8-807EA53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E1DC-AA27-42B6-8500-147C84CA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FEF-3429-46C2-B288-EBD3516C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A55E-DB81-4552-A9BF-F07273FF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CBB4-456B-43B6-84CA-8FCEE7D2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E61-7FA9-4E78-8DBD-1BDC1349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6ABF-27C5-4D8E-8F70-0AAF2BFCE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hyperlink" Target="http://www.ebf-fbe.eu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800" spc="-1" strike="noStrike">
                <a:solidFill>
                  <a:srgbClr val="1f497d"/>
                </a:solidFill>
                <a:latin typeface="Calibri"/>
              </a:rPr>
              <a:t>EUROPEAN BANKING FEDER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ocus of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Box 17"/>
          <p:cNvSpPr/>
          <p:nvPr/>
        </p:nvSpPr>
        <p:spPr>
          <a:xfrm>
            <a:off x="0" y="1714680"/>
            <a:ext cx="9144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Commission’s address of the financial cris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ying of financial products.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15"/>
          <p:cNvSpPr/>
          <p:nvPr/>
        </p:nvSpPr>
        <p:spPr>
          <a:xfrm>
            <a:off x="0" y="1714680"/>
            <a:ext cx="914400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9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After a Consultation on an EU framework for crisis resolution in the banking sector, the Commission hosted a high level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conference on the construction of a new crisis management framework in the banking sector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0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published a study 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duction of obstacles on transfer of assets within a cross-border banking group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. The report is a proposal for an EU Directive to (i) p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revent insolvency risk and (ii) lift restrictions on transfers of assets, if they can potentially limit the extent of a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Addressing the financial crisis </a:t>
            </a:r>
            <a:r>
              <a:rPr b="0" lang="en-GB" sz="3200" spc="-1" strike="noStrike">
                <a:solidFill>
                  <a:srgbClr val="e46c0a"/>
                </a:solidFill>
                <a:latin typeface="Calibri"/>
              </a:rPr>
              <a:t>(cont-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1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5"/>
          <p:cNvSpPr/>
          <p:nvPr/>
        </p:nvSpPr>
        <p:spPr>
          <a:xfrm>
            <a:off x="0" y="1714680"/>
            <a:ext cx="9144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6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Consultation on Capital Requirements Directive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(CRD IV), the aim of which is to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ensure the financial soundness of banks and investment firms. On 26-Apr-2010, Commission hosted a public hearing on the mat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7-Feb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the Basel Committee published two consultations: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(i)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Strengthening the resilience of the banking sector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and </a:t>
            </a:r>
            <a:br>
              <a:rPr sz="2500"/>
            </a:b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(ii)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International framework for liquidity risk measurement, standards and monitoring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Ap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MF consults on the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Financial Sector Tax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, examining policy options for how governments can recover public money that was used to support banks and other financial institutions during the current cris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3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3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18"/>
          <p:cNvSpPr/>
          <p:nvPr/>
        </p:nvSpPr>
        <p:spPr>
          <a:xfrm>
            <a:off x="0" y="1600200"/>
            <a:ext cx="91440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2-Mar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 Commission launched a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review of the Accounting </a:t>
            </a:r>
            <a:br>
              <a:rPr sz="2500"/>
            </a:b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   Directive for SMEs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, to further simplify the requirements for SMEs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(the “think small first” guiding principle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6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</a:t>
            </a:r>
            <a:r>
              <a:rPr b="1" lang="en-GB" sz="2500" spc="-1" strike="noStrike">
                <a:solidFill>
                  <a:srgbClr val="1f497d"/>
                </a:solidFill>
                <a:latin typeface="Calibri"/>
              </a:rPr>
              <a:t>SME finance forum,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which focused on access to loans and capital in Europe and explores strategies to improve access to finance for S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25-May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organised an SME week, promoting and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supporting entrepreneurship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Nearly 1/3 of the budget of the Competitiveness and Innovation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Framework Programme (CIP, 2007-2013) is allocated to financial </a:t>
            </a:r>
            <a:br>
              <a:rPr sz="2500"/>
            </a:b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   instruments that aim to facilitate SMEs' access to finance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ying of financia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4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5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15"/>
          <p:cNvSpPr/>
          <p:nvPr/>
        </p:nvSpPr>
        <p:spPr>
          <a:xfrm>
            <a:off x="0" y="1600200"/>
            <a:ext cx="914400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r>
              <a:rPr b="0" lang="en-GB" sz="2500" spc="-1" strike="noStrike" u="sng">
                <a:solidFill>
                  <a:srgbClr val="1f497d"/>
                </a:solidFill>
                <a:uFillTx/>
                <a:latin typeface="Calibri"/>
              </a:rPr>
              <a:t>15-Jan-2010</a:t>
            </a:r>
            <a:r>
              <a:rPr b="0" lang="en-GB" sz="2500" spc="-1" strike="noStrike">
                <a:solidFill>
                  <a:srgbClr val="1f497d"/>
                </a:solidFill>
                <a:latin typeface="Calibri"/>
              </a:rPr>
              <a:t>: Commission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published a consultation on a study on 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</a:rPr>
              <a:t>tying and other potentially unfair commercial practices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in the retail financial service sector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The study aims to analyze the reasons for tying of financial products/services, and eliminate those as part of the process of integration of EU retail financial services marke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207180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ommissioner Michel Barnier (took over from McCreevy)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s now in charge of the Internal Market and Services DG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in the Barroso Commission 2010-2014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 one of his recent speeches, he identified key areas of 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action for the EU for the coming perio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6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6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6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nnounced key area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14200" y="1785600"/>
            <a:ext cx="8715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Prudential reforms to improve supervis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eal with large systemically important bank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Change the culture of governanc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Increase consumer protec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Review bank’s capital require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2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Discuss the role and governance of audito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7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8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91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 attention</a:t>
            </a: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For further information: </a:t>
            </a:r>
            <a:r>
              <a:rPr b="0" lang="nl-BE" sz="3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bf-fbe.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9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97" name="Rectangle 39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45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800" spc="-1" strike="noStrike">
                <a:solidFill>
                  <a:srgbClr val="1f497d"/>
                </a:solidFill>
                <a:latin typeface="Calibri"/>
              </a:rPr>
              <a:t>Latest developments in the EU financial services legislation</a:t>
            </a:r>
            <a:br>
              <a:rPr sz="3600"/>
            </a:br>
            <a:br>
              <a:rPr sz="36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Viktorija Proskurovska, EBF Adviser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19th edition 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Baku, 28 May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26 recent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17"/>
          <p:cNvSpPr/>
          <p:nvPr/>
        </p:nvSpPr>
        <p:spPr>
          <a:xfrm>
            <a:off x="142920" y="2071800"/>
            <a:ext cx="8572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regulation and supervis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13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markets and securiti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1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Retail financial services and payment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-   8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reporting and tax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-  4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urrent legislative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8"/>
          <p:cNvSpPr/>
          <p:nvPr/>
        </p:nvSpPr>
        <p:spPr>
          <a:xfrm>
            <a:off x="214200" y="2325600"/>
            <a:ext cx="86439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Most of the EU initiatives in the past period have been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  related to </a:t>
            </a:r>
            <a:r>
              <a:rPr b="1" lang="nl-BE" sz="2800" spc="-1" strike="noStrike">
                <a:solidFill>
                  <a:srgbClr val="1f497d"/>
                </a:solidFill>
                <a:latin typeface="Calibri"/>
              </a:rPr>
              <a:t>coutering the causes of the financial crisis</a:t>
            </a: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.</a:t>
            </a:r>
            <a:br>
              <a:rPr sz="2800"/>
            </a:b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Directly or indirectly, most of the EU initiatives have a </a:t>
            </a:r>
            <a:br>
              <a:rPr sz="2800"/>
            </a:b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ropean and often an international scop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anking regulation and supervision (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Box 19"/>
          <p:cNvSpPr/>
          <p:nvPr/>
        </p:nvSpPr>
        <p:spPr>
          <a:xfrm>
            <a:off x="142920" y="1428840"/>
            <a:ext cx="8858160" cy="51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CON adopts Reports on the Supervisory reform packag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Cross-border crisis managemen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d a Study on the Feasibility of reducing obstacles to the transfer of assets within a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cross border banking group during a financial crisi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tudy on Pre-insolvency - Early intervention - Reorganization – Liquid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Consultation on Further possible changes to Capital Requirements Directive ('CRD IV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Basel Committee on Banking Supervision launched two Consultations: on Strengthening the resilience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of the banking sector and on International framework for liquidity risk measurement, standards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monitor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IMF Consultation on the Financial Sector Tax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SME access to finance and EU financial instrument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services issue an Analysis of the main innovative financing option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nference on Financial conglomerat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European Central Bank and European Commission held a joint Conference on Financial integration and </a:t>
            </a:r>
            <a:br>
              <a:rPr sz="1600"/>
            </a:b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  stability: the legacy of the cris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all for expressions of interest to participate in a Group of Experts in Banking Issues (GEB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f497d"/>
                </a:solidFill>
                <a:latin typeface="Calibri"/>
              </a:rPr>
              <a:t>Commission publishes a European Financial Integration Report,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markets and securities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0"/>
          <p:cNvSpPr/>
          <p:nvPr/>
        </p:nvSpPr>
        <p:spPr>
          <a:xfrm>
            <a:off x="142920" y="192888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the Operation of the Transparency Dir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tail financial services and payments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6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0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20"/>
          <p:cNvSpPr/>
          <p:nvPr/>
        </p:nvSpPr>
        <p:spPr>
          <a:xfrm>
            <a:off x="0" y="1357200"/>
            <a:ext cx="9144000" cy="51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How European Company Statute (SE) work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Consultation on a Study on tying and other potentially unfair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commercial practices in the retail financial service sec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d a Working document providing an update on on-going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work to improve investor protection standards for packaged retail investment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produc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G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MARKT published the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2009 SEPA Progress Repo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COFIN Council agreed on a general approach concerning the Financial services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supervision packages: impact on paymen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summaries of responses to Consultations on Responsible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lending and borrowing and on Credit histor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ference on Electronic invoicing in Europe: to revolutionise the way we pay bil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Report produced by the Expert Group on e-Invoicing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Financial Reporting and Taxation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5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Box 20"/>
          <p:cNvSpPr/>
          <p:nvPr/>
        </p:nvSpPr>
        <p:spPr>
          <a:xfrm>
            <a:off x="0" y="2357280"/>
            <a:ext cx="91440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reviews the Accounting Directive for SME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publishes the results of the public Consultation on the Adoption of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International Auditing Standards (ISA) in the E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mission gives green light to the Co-operation of  Member States with Canada,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Japan and Switzerland on the exchange of audit working pap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The European Group of Auditors’ Oversight Bodies (EGAOB) has developed a </a:t>
            </a:r>
            <a:br>
              <a:rPr sz="2000"/>
            </a:b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  guidance paper on the Cooperation between competent authorities within the EU.</a:t>
            </a:r>
            <a:r>
              <a:rPr b="0" lang="nl-BE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0:20:53Z</dcterms:created>
  <dc:creator>Alexandra Delbarre</dc:creator>
  <dc:description/>
  <dc:language>en-US</dc:language>
  <cp:lastModifiedBy>User</cp:lastModifiedBy>
  <dcterms:modified xsi:type="dcterms:W3CDTF">2010-05-28T03:28:41Z</dcterms:modified>
  <cp:revision>90</cp:revision>
  <dc:subject/>
  <dc:title>EUROPEAN BANKING FEDERATION</dc:title>
</cp:coreProperties>
</file>