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6176-74F3-44EC-91C2-BB68E46F0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7097-2329-4E66-A5D0-D1F8D44EE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7D7B45-35DD-43D6-9A70-099C590A4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638F6B-C505-4CC8-BB2D-CC021B6FB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11BABD-1578-428A-82F4-46AA0D72F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2D087D-FB79-40C2-A6E1-231810323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F5FA86-082B-4AFA-A5C4-461CE70B8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5E4D18-1CBA-4932-904B-B2E454284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7AC985-9380-480E-9C5C-F969BE441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3F7270-C6D1-4F44-A3B8-3F6AD7176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581811-38D2-4825-84F5-145F0CBAC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E65F2F-C7E7-4D8A-BCAF-771444487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DFF3-9A8D-4FD6-94F7-767207DCB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52B9DA-B033-4B89-8E03-A6073AED1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39FC81-7B0E-4B05-94A5-5A1857EF9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49190F-FBCF-4433-9D97-76048C965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0332CD-E183-475C-BFA5-6D4869B61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93EAE4-25EE-4DA7-AD51-A455B3A2A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93087E-1BDB-43BC-9CA7-64B0BEF75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884A14-9B56-42CB-96B8-423B2B5AC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4EF8D2-76A7-455D-BF89-17D35F564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902AEB-9B28-4251-A4F9-651779620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44FC0E-6002-4DF5-AD81-2C379B5DE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9614-EEC3-41EE-BC0B-618DEFB04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F3408F-1733-49D6-8204-A55FBB1D9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F2F0C8-64F3-4249-A5CB-95840E941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FB8937-D0C2-4003-8DA3-7D7FFDB0E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4BD7C5-5F32-4342-B152-C79A1A79C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DD07A2-F8A0-4844-A522-CF7036866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4888FA-4D24-4FB3-9FB9-6EF26396B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986038-1FFC-415C-8A51-461CCFC5E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F9CC64-DA16-4593-A1A4-50558A519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67EB67-252C-457F-8C05-F98BD6FEE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ADE23E-22B0-4AA9-8F1B-92511A2AB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48675-4D85-4DB1-BE4E-2B54EC7DC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86518A-4BE1-4615-8D49-90775B920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C2FD40-30AD-43A1-BCE4-D9218141D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DE009B-1BC7-4D79-A947-42F68646C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808C4E-7879-4280-A546-FDBCBE070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102929-E09C-4348-AFAB-CEE24D784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964A2F-2CF7-4E8C-A241-574272BCA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06A42D-AB00-4B5D-980C-FF4CFD485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A3A9F9-A8F2-49B0-A094-33769E827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1A0E2C-F7E6-4E1D-9736-1D9AA5A97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B8AD18-6470-4A9E-BB34-A1C5D2AF6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72EAF-255A-402A-BA4C-40629C2CD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19F1A9-8EE6-4416-B1FB-AFA62052E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4DFCD5-4D88-44EA-87A7-DA162538A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E990C8-267D-4833-9012-B5D625A89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4EBA7E-0576-4CCF-8463-38DA5B76F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D31602-04FA-4680-963C-36C3D88AA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38CF2-E4E7-418B-AE39-9A70E388A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C103C-F58A-4FA0-8867-A315E40A4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470F9-FDE7-44C4-A32A-0B115264A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9438F-EEAB-4874-A769-1A0C6D24C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0C99E-CC63-460B-861B-BD6D0430B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ABE1-3A51-4ADC-953B-4B2BA81D5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41A4A-407C-4E7B-9195-36C8F62B6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FD9D6-52EB-42F1-890D-F42A9B768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E3877-A166-4B94-822E-7648075D8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42B12-22FA-45E2-BB62-41EB651B9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C0065-B3E9-44E5-96B2-C9FF55F38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86EF0-9CCA-484E-8A91-BA9F91ACC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F24C2-BBE8-46DF-96C4-B76A47B87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8F14A-B323-4CA2-88BC-F6D023571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C5341-29DB-4EDB-A5A3-0BFDF6564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78E85-9511-4B8B-99B9-15E250E51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B3A3-618B-4380-A5DF-8B14F0E37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90ED0-F88F-4F3C-AA77-A9B7216F9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0339D-494A-4009-AD4B-53815F086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E977E-4495-4000-89BC-F8EE56231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28AB9-CAEC-4DA3-8FCD-7B471C4DC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BE448-8F95-4588-8CD2-D9EA3245E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75527-25FC-41FC-B792-90A5EBAE0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30BDB-C997-4F82-9075-E8F5D3E12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245BB-B2E0-4DF7-AF59-811D1EC5F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89339-CE76-4003-8F00-6257BCB33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B2623-E0A0-462D-9AFC-7EA6794D9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E7EB-4474-4D85-ABD4-3368C9AAE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1BB1A-7489-44B7-AD95-B2C8B376F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961EF-78D4-418D-9316-D049FB7F4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F484B-2953-4634-A424-30ABBBF7A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C1634-C617-4BF7-9E4A-EE0527B34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E9E08-59BC-4AC5-80B5-D9829F3B9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94ED8-7DF0-41E7-B9F9-635947B20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CA55C-4AA2-40FE-B690-80AA11FBC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BE7DA-BC9B-4F5F-A786-3D3A1C020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87FC98-D73B-4057-851A-070C83884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58DF0C-D514-4DD0-9428-58D322F0B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97A2-D600-40DD-8A99-5A091B2AD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B12E2F-8048-42F7-9E54-95F5E919D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60156E-0810-42D1-994A-86A44042F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313229-8ABD-4ECD-B82A-402663550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ACB5FF-338F-4682-A3CF-7E607736F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D84703-A898-4D85-B238-9AACB5FBF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3B99C4-AF76-4358-B94F-37946C62F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050349-6E14-4D9A-9FA4-E9DD3054E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113253-3B71-421F-B3F5-9AF322090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950F85-A10C-4A5A-AB90-6D6F3E48A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29BDB8-53C8-411A-BE13-FAEB5E718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4945-5C2F-4EDE-A8DA-8F07DC100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1079FA-C402-47AF-BFF4-3D8B9E56F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3610C2-142D-494C-91D5-1487E611E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F29221-1E4A-4B54-82AE-524E0B14B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DCDA7A-F170-48B8-AB3D-B83FD0A4C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15DD18-99B0-42EA-8CF3-661869F31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93D9CA-0C2C-4C41-AD7F-2B7720E78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8092D3-5AD9-46FB-8A1F-AAB37E1C5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6BF9AA-28D5-41E3-BFA7-1652D206E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27D2A0-45C8-4526-8F47-F98ABEF8F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DBA362-BCFE-4958-94A3-DE943673B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65C0-0611-463D-8980-0B5F1CD89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1E56EB-B3B3-40D6-8B0A-6730CE303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A363AC-F92B-41BF-84FF-9C0726629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B7EE47-87C6-4F65-B74C-1E2AE0848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22F679-1258-4449-82EB-6F2425AF9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91DD03-9290-4EA1-8D6D-0CB953647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AA49A0-AC0C-4A64-BF5B-EF45BC4E1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56B21E-9890-473B-A3E3-BD54F1343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447F28-61E8-4464-9703-72B6A6F8F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336AC4-B826-46A8-9A12-089D1A85B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9F8047-BE6B-4AC0-B687-8D47EDB97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3DE4-EDED-48D0-A360-21580749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99C752-D6CE-4F8F-B8CE-E113605F4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D0153B-C1BF-4AA4-89EB-DB9F274AB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D621BB-86D4-468F-9007-E1873CA8A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C12D22-404B-4D36-842F-7F2DA4C71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BEF357-701E-40D8-95C9-57CC48837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484520-2259-46F3-AE2E-36C55A294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3EF6EB-F862-4DFE-A2F2-ABBD31FC9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5A3B94-BEC6-4B00-B0BF-D195F151D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636DFE-C756-4148-8146-EFF7CB2D1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137C73-6CB4-487C-9B27-B6D816DF6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22B3-51C7-4444-880E-7B1A1FA8D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AF67A5-6225-4A6C-B93C-6ED92F030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DD85F4-8D7D-4B07-9D54-AD81DCCC5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8C6622-027D-48E5-A2F3-09D61C02C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CAFADB-B3F0-4D5E-830F-7CE65EA47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3F9545-EB12-4F20-9F31-DF4854FDA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F5A3D9-A651-457C-B8E3-24DE61754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A80661-68E2-4F38-AFC5-63EE03A21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0793A1-A3ED-4401-B3E6-635C96C89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3130CD-5980-4053-BD3E-DBD580EB4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2DF459-B9B1-4879-9D3A-766D0C993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67E16-23F4-42CE-8734-DF3C4DD94282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Birbaşa Birləşdirici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Düzbucaqlı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Düzbucaqlı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Düzbucaqlı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Düzbucaqlı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Düzbucaqlı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Düzbucaqlı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Düzbucaqlı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Düzbucaqlı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002CC-584E-4D28-8485-87E6703D2096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80C5B-4F60-4A88-8DE0-6440455A5D05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Düzbucaqlı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Düzbucaqlı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Düzbucaqlı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Düzbucaqlı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Düzbucaqlı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Düzbucaqlı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Birbaşa Birləşdirici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3ED25-B77F-498D-87B4-9B830A995982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Düzbucaqlı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Düzbucaqlı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Düzbucaqlı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Düzbucaqlı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Düzbucaqlı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Birbaşa Birləşdirici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Düzbucaqlı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61189-19AA-4321-93AC-6D46021EAEA9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1E30A-1AC6-4CCC-B32B-EF95337F92D9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Düzbucaqlı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Düzbucaqlı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Düzbucaqlı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Düzbucaqlı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Düzbucaqlı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Düzbucaqlı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üzbucaqlı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Düzbucaqlı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Birbaşa Birləşdirici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47087-F4CB-4302-BD5D-E8601F98AE84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Birbaşa Birləşdirici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2C677-AF6D-4086-BEBD-B044101D869E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Birbaşa Birləşdirici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Düzbucaqlı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Düzbucaqlı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Düzbucaqlı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Düzbucaqlı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Düzbucaqlı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Düzbucaqlı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Birbaşa Birləşdirici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Düzbucaqlı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57A20-49EA-4645-A183-75C91212CB2C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239B5-0AC6-4867-AFED-7A2701109871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Düzbucaqlı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Düzbucaqlı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Düzbucaqlı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Düzbucaqlı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Düzbucaqlı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Düzbucaqlı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1829D-3BAC-49AC-A2A1-2BB035230669}" type="slidenum">
              <a:rPr b="0" lang="az-Latn-AZ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Düzbucaqlı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Düzbucaqlı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Düzbucaqlı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Düzbucaqlı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Düzbucaqlı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Düzbucaqlı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Birbaşa Birləşdirici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Düzbucaqlı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Düzbucaqlı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Düzbucaqlı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Düzbucaqlı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Düzbucaqlı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Düzbucaqlı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Düzbucaqlı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Birbaşa Birləşdirici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Düzbucaqlı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DC92F-EE60-42D5-A445-7FDEEAB3D594}" type="slidenum">
              <a:rPr b="0" lang="az-Latn-AZ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z-Latn-A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z-Latn-A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56760" y="3286080"/>
            <a:ext cx="8358120" cy="121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00000"/>
                </a:solidFill>
                <a:latin typeface="Georgia"/>
              </a:rPr>
              <a:t>The Central Eurasian Region in the Contemporary Architecture of the World Monetary and Financial System</a:t>
            </a:r>
            <a:endParaRPr b="0" lang="en-US" sz="21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0" name="Mətn Qutusu 5"/>
          <p:cNvSpPr/>
          <p:nvPr/>
        </p:nvSpPr>
        <p:spPr>
          <a:xfrm>
            <a:off x="1143000" y="571680"/>
            <a:ext cx="6858000" cy="20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Georgia"/>
              </a:rPr>
              <a:t>INTER-REGONAL BANKING COOPERATION: </a:t>
            </a:r>
            <a:br>
              <a:rPr sz="1800"/>
            </a:br>
            <a:r>
              <a:rPr b="1" lang="en-GB" sz="1800" spc="-1" strike="noStrike">
                <a:solidFill>
                  <a:srgbClr val="002060"/>
                </a:solidFill>
                <a:latin typeface="Georgia"/>
              </a:rPr>
              <a:t>SOLID FINANCIAL FU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Georgia"/>
              </a:rPr>
              <a:t>INTERNATIONAL CONFERE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Georgia"/>
              </a:rPr>
              <a:t>MAY 27, 2010, BAK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5"/>
          <p:cNvSpPr/>
          <p:nvPr/>
        </p:nvSpPr>
        <p:spPr>
          <a:xfrm>
            <a:off x="4214880" y="4857840"/>
            <a:ext cx="45622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ELDAR ISMAIL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ZERBAIJAN BANKS ASSO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01320" y="35712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Georgia"/>
              </a:rPr>
              <a:t>Slide 1. Structure of Central Eurasia’s </a:t>
            </a:r>
            <a:br>
              <a:rPr sz="2400"/>
            </a:br>
            <a:r>
              <a:rPr b="1" lang="en-GB" sz="2400" spc="-1" strike="noStrike">
                <a:solidFill>
                  <a:srgbClr val="000066"/>
                </a:solidFill>
                <a:latin typeface="Georgia"/>
              </a:rPr>
              <a:t>Geopolitical Expanse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73" name="Picture 3" descr=""/>
          <p:cNvPicPr/>
          <p:nvPr/>
        </p:nvPicPr>
        <p:blipFill>
          <a:blip r:embed="rId1"/>
          <a:srcRect l="2632" t="18233" r="2632" b="3916"/>
          <a:stretch/>
        </p:blipFill>
        <p:spPr>
          <a:xfrm>
            <a:off x="492120" y="2000160"/>
            <a:ext cx="815184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4" name="Picture 4" descr=""/>
          <p:cNvPicPr/>
          <p:nvPr/>
        </p:nvPicPr>
        <p:blipFill>
          <a:blip r:embed="rId1"/>
          <a:stretch/>
        </p:blipFill>
        <p:spPr>
          <a:xfrm>
            <a:off x="428760" y="1714680"/>
            <a:ext cx="8308800" cy="4500360"/>
          </a:xfrm>
          <a:prstGeom prst="rect">
            <a:avLst/>
          </a:prstGeom>
          <a:ln w="0">
            <a:noFill/>
          </a:ln>
        </p:spPr>
      </p:pic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285840" y="31284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Slide 2. The CEA Countries in the Global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Monetary Expanse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8858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z-Latn-AZ" sz="2400" spc="-1" strike="noStrike">
                <a:solidFill>
                  <a:srgbClr val="000066"/>
                </a:solidFill>
                <a:latin typeface="Georgia"/>
              </a:rPr>
              <a:t>Slide 4.</a:t>
            </a:r>
            <a:r>
              <a:rPr b="1" lang="en-GB" sz="2400" spc="-1" strike="noStrike">
                <a:solidFill>
                  <a:srgbClr val="000066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Main Indices of CEA, World and Regional Nations and Associations (2008, %)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graphicFrame>
        <p:nvGraphicFramePr>
          <p:cNvPr id="677" name=""/>
          <p:cNvGraphicFramePr/>
          <p:nvPr/>
        </p:nvGraphicFramePr>
        <p:xfrm>
          <a:off x="1035000" y="1643040"/>
          <a:ext cx="7323120" cy="4361040"/>
        </p:xfrm>
        <a:graphic>
          <a:graphicData uri="http://schemas.openxmlformats.org/drawingml/2006/table">
            <a:tbl>
              <a:tblPr/>
              <a:tblGrid>
                <a:gridCol w="2190960"/>
                <a:gridCol w="1852560"/>
                <a:gridCol w="1736640"/>
                <a:gridCol w="1542960"/>
              </a:tblGrid>
              <a:tr h="277920"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gion</a:t>
                      </a: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u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rrit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pul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DP </a:t>
                      </a: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PP</a:t>
                      </a: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 gridSpan="4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a1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3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6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39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U</a:t>
                      </a: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2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4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8920">
                <a:tc gridSpan="4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a1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ap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9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640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1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r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2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5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E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7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8920">
                <a:tc gridSpan="4"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a1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8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22040">
                <a:tc gridSpan="4"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a1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r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urke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8920">
                <a:tc gridSpan="4"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a1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0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5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667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kist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ts val="18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8920">
                <a:tc gridSpan="4"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8a1a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260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ddle E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1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z-Latn-AZ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8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01320" y="31284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Slide 4. Main Trade Partners of the CEA Countries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(2008, %)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79" name="Picture 2" descr=""/>
          <p:cNvPicPr/>
          <p:nvPr/>
        </p:nvPicPr>
        <p:blipFill>
          <a:blip r:embed="rId1"/>
          <a:stretch/>
        </p:blipFill>
        <p:spPr>
          <a:xfrm>
            <a:off x="604800" y="1643040"/>
            <a:ext cx="7934400" cy="45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01320" y="38412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Georgia"/>
              </a:rPr>
              <a:t>Slide 5. </a:t>
            </a: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Main West-East and North-South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Georgia"/>
              </a:rPr>
              <a:t>Currency Axes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81" name="Picture 2" descr=""/>
          <p:cNvPicPr/>
          <p:nvPr/>
        </p:nvPicPr>
        <p:blipFill>
          <a:blip r:embed="rId1"/>
          <a:stretch/>
        </p:blipFill>
        <p:spPr>
          <a:xfrm>
            <a:off x="1393920" y="1606680"/>
            <a:ext cx="63561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5T14:34:54Z</dcterms:created>
  <dc:creator>ABA-BBM</dc:creator>
  <dc:description/>
  <dc:language>en-US</dc:language>
  <cp:lastModifiedBy>ABA-BBM</cp:lastModifiedBy>
  <dcterms:modified xsi:type="dcterms:W3CDTF">2010-05-26T13:27:21Z</dcterms:modified>
  <cp:revision>35</cp:revision>
  <dc:subject/>
  <dc:title>Slayd 1</dc:title>
</cp:coreProperties>
</file>