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D3C2-0D6F-4B4F-8CC9-DC85CB70203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6147-AA7F-48BC-BF85-4E5BE79631F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53AE-4213-4B08-8F53-ADF9CA2F4DF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4CF4-399B-458D-A862-F2E577E00B3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B48C-7E83-4E99-8492-82727D43E05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6004-C7AC-4A35-A0DF-E187F61F5FC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14D5-0EB3-4C1F-9917-9C7BAC53B1A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04C7-1E69-41DC-B368-E64DD2FF339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A8FA-6259-4B5F-B66E-C175F6F6F44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B2D1-CC2D-41B9-8F32-43B9DD1558E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57DF-90DD-487B-9DA5-52F47B7673B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2342-74D5-4034-8B43-3B2F345F435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9B61-A70C-4850-99CC-93D23EBBF9C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991D-189D-4ED2-8B1D-7F1503053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CF12-2A62-4AC7-B4F4-9FD3A165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DCC6-0858-4AF5-A543-12BC38D51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E40A-4924-4B6F-A9F7-E5EB9C97C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5A52-57C6-4DDF-981A-532AB8F6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ED5A-F337-4CC1-B4E9-BC5A3334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256B-56A8-4272-8840-A984C305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6468-4082-48D8-89D4-A42CF69B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0C9F-F73D-46AC-807C-ACD4FEA4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2C08-B5AC-40DD-88CA-C7405CEB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8E42-C4C7-44AD-8DC0-A581207E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16DE-9C12-4238-BF44-F6011522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5DE2-A1D1-44AA-9D6E-34A4A059DD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57184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ABA- EBF Conferenc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-regional Banking Cooperation: Solid Financial Future</a:t>
            </a:r>
            <a:br>
              <a:rPr sz="3200"/>
            </a:br>
            <a:br>
              <a:rPr sz="24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Relevance of the Experience of Financial Integration in Europe to the Eurasian Markets”</a:t>
            </a:r>
            <a:br>
              <a:rPr sz="3200"/>
            </a:br>
            <a:br>
              <a:rPr sz="18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uido Ravoet, EBF Secretary General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ursday, 27 May 2010 - Baku, Azerbaij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0"/>
            <a:ext cx="9144000" cy="2571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5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Group 18"/>
          <p:cNvGrpSpPr/>
          <p:nvPr/>
        </p:nvGrpSpPr>
        <p:grpSpPr>
          <a:xfrm>
            <a:off x="0" y="2571840"/>
            <a:ext cx="9144000" cy="269640"/>
            <a:chOff x="0" y="2571840"/>
            <a:chExt cx="9144000" cy="269640"/>
          </a:xfrm>
        </p:grpSpPr>
        <p:sp>
          <p:nvSpPr>
            <p:cNvPr id="56" name="Rectangle 19"/>
            <p:cNvSpPr/>
            <p:nvPr/>
          </p:nvSpPr>
          <p:spPr>
            <a:xfrm>
              <a:off x="0" y="2571840"/>
              <a:ext cx="1315080" cy="26964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Rectangle 20"/>
            <p:cNvSpPr/>
            <p:nvPr/>
          </p:nvSpPr>
          <p:spPr>
            <a:xfrm>
              <a:off x="1304640" y="2571840"/>
              <a:ext cx="1315080" cy="26964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Rectangle 21"/>
            <p:cNvSpPr/>
            <p:nvPr/>
          </p:nvSpPr>
          <p:spPr>
            <a:xfrm>
              <a:off x="2609640" y="2571840"/>
              <a:ext cx="1315080" cy="26964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ectangle 22"/>
            <p:cNvSpPr/>
            <p:nvPr/>
          </p:nvSpPr>
          <p:spPr>
            <a:xfrm>
              <a:off x="3904200" y="2571840"/>
              <a:ext cx="1315080" cy="26964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Rectangle 23"/>
            <p:cNvSpPr/>
            <p:nvPr/>
          </p:nvSpPr>
          <p:spPr>
            <a:xfrm>
              <a:off x="5209200" y="2571840"/>
              <a:ext cx="1315080" cy="26964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Rectangle 24"/>
            <p:cNvSpPr/>
            <p:nvPr/>
          </p:nvSpPr>
          <p:spPr>
            <a:xfrm>
              <a:off x="6524280" y="2571840"/>
              <a:ext cx="1315080" cy="26964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ectangle 25"/>
            <p:cNvSpPr/>
            <p:nvPr/>
          </p:nvSpPr>
          <p:spPr>
            <a:xfrm>
              <a:off x="7828920" y="2571840"/>
              <a:ext cx="1315080" cy="26964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Relevance of EU experience for Eura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Put sufficient effort into preparation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ecure joint commitmen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Ensure continuous participation &amp; involvemen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ake into account all regions’ differenc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Monitor integration of various market’ segment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ecure political stability and sound monetary and fiscal polic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8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9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Per aspera ad ast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e path might be challenging –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e benefits are worth the effort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20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0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TextBox 22" descr=""/>
          <p:cNvPicPr/>
          <p:nvPr/>
        </p:nvPicPr>
        <p:blipFill>
          <a:blip r:embed="rId1"/>
          <a:stretch/>
        </p:blipFill>
        <p:spPr>
          <a:xfrm>
            <a:off x="-231840" y="165240"/>
            <a:ext cx="9382320" cy="8413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23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5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216" name="Title 1"/>
          <p:cNvSpPr/>
          <p:nvPr/>
        </p:nvSpPr>
        <p:spPr>
          <a:xfrm>
            <a:off x="0" y="1428840"/>
            <a:ext cx="91440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Thank you for your attention!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EBF 50</a:t>
            </a:r>
            <a:r>
              <a:rPr b="1" i="1" lang="en-US" sz="3600" spc="-1" strike="noStrike" baseline="30000">
                <a:solidFill>
                  <a:srgbClr val="e46c0a"/>
                </a:solidFill>
                <a:latin typeface="Monotype Corsiva"/>
              </a:rPr>
              <a:t>th</a:t>
            </a:r>
            <a:r>
              <a:rPr b="1" i="1" lang="en-US" sz="3600" spc="-1" strike="noStrike">
                <a:solidFill>
                  <a:srgbClr val="e46c0a"/>
                </a:solidFill>
                <a:latin typeface="Monotype Corsiva"/>
              </a:rPr>
              <a:t> Annivers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7" name="Group 14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218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Group 38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222" name="Rectangle 39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Rectangle 40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Rectangle 41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Rectangle 42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Rectangle 43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Rectangle 44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Rectangle 45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97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EBF ME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98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18" descr="Carte Europe.jpg"/>
          <p:cNvPicPr/>
          <p:nvPr/>
        </p:nvPicPr>
        <p:blipFill>
          <a:blip r:embed="rId2"/>
          <a:stretch/>
        </p:blipFill>
        <p:spPr>
          <a:xfrm>
            <a:off x="1214280" y="1285920"/>
            <a:ext cx="5126040" cy="5559480"/>
          </a:xfrm>
          <a:prstGeom prst="rect">
            <a:avLst/>
          </a:prstGeom>
          <a:ln w="0">
            <a:noFill/>
          </a:ln>
        </p:spPr>
      </p:pic>
      <p:sp>
        <p:nvSpPr>
          <p:cNvPr id="66" name="Text Placeholder 3"/>
          <p:cNvSpPr/>
          <p:nvPr/>
        </p:nvSpPr>
        <p:spPr>
          <a:xfrm>
            <a:off x="6357960" y="1428840"/>
            <a:ext cx="2571840" cy="528624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BE" sz="1800" spc="-1" strike="noStrike">
                <a:solidFill>
                  <a:srgbClr val="1f497d"/>
                </a:solidFill>
                <a:latin typeface="Calibri"/>
              </a:rPr>
              <a:t>31 national member associatio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27 EU Member St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4 EFTA countr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1f497d"/>
              </a:buClr>
              <a:buSzPct val="70000"/>
              <a:buFont typeface="Wingdings 2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1f497d"/>
                </a:solidFill>
                <a:latin typeface="Calibri"/>
              </a:rPr>
              <a:t>13 Associat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ounded Rectangle 787"/>
          <p:cNvSpPr/>
          <p:nvPr/>
        </p:nvSpPr>
        <p:spPr>
          <a:xfrm>
            <a:off x="6429240" y="318132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ounded Rectangle 788"/>
          <p:cNvSpPr/>
          <p:nvPr/>
        </p:nvSpPr>
        <p:spPr>
          <a:xfrm>
            <a:off x="6429240" y="407196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ounded Rectangle 789"/>
          <p:cNvSpPr/>
          <p:nvPr/>
        </p:nvSpPr>
        <p:spPr>
          <a:xfrm>
            <a:off x="6429240" y="4967280"/>
            <a:ext cx="255600" cy="2476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Group 819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71" name="Rectangle 820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821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Rectangle 822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Rectangle 823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Rectangle 824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Rectangle 825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Rectangle 826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WHAT WE STAND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46c0a"/>
                </a:solidFill>
                <a:latin typeface="Monotype Corsiva"/>
              </a:rPr>
              <a:t>50 years </a:t>
            </a: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of sound banking representatio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nl-BE" sz="3600" spc="-1" strike="noStrike">
                <a:solidFill>
                  <a:srgbClr val="1f497d"/>
                </a:solidFill>
                <a:latin typeface="Calibri"/>
              </a:rPr>
              <a:t>We aim to achieve an integrated European financial services mark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11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8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25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86" name="Rectangle 26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Rectangle 27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Rectangle 28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Rectangle 29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Rectangle 30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Rectangle 31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Rectangle 32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Definition of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market for a given set of financial instruments and/or services is fully integrated if all potential market participants with the same relevant characteristic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face a single set of rules when they decide to deal with those financial instruments and/or servic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have equal access to the above-mentioned set of financial instruments and/or services;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are treated equally when they are active in the mark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9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0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Benefits of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ore opportunities for risk sharing and risk diversification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etter allocation of capital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mproved liquidity of markets and strengthened resilience to shocks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Smooth operation of payment system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nhanced information and competitiveness;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Potential for higher grow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1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1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Conditions for su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o benefit from financial integration,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inter alia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wo core conditions must be me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completion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of all segments of financial integration in the region,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The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stability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of this financially integrated reg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2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3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eps towards EU financial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60s – removal of restrictions on freedom of establishment and freedom of provision of servic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87 – Single European Act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90 – Economic Monetary Union (freedom of the movement of capital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1999 – Financial Services Action Plan and introduction of the eur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2005 – White Paper of Financial Services Poli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4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4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igns of increasing integration in Eur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Increased transaction volum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More diversified reserve currency system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ond market integration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Equities market integration; 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Banking sector integr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57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61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0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Stability and financial superv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0" y="1428480"/>
            <a:ext cx="91440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integration and development can increase the efficiency of a financial system, if it is accompanied by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adequate legal and regulatory framework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i="1" lang="en-GB" sz="2800" spc="-1" strike="noStrike">
                <a:solidFill>
                  <a:srgbClr val="1f497d"/>
                </a:solidFill>
                <a:latin typeface="Calibri"/>
              </a:rPr>
              <a:t>corporate governance, market infrastructures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Calibri"/>
              </a:rPr>
              <a:t>Financial supervision should assess, in real tim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the build-up of within-market risk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cross-market contagion,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Aft>
                <a:spcPts val="1199"/>
              </a:spcAft>
              <a:buClr>
                <a:srgbClr val="f4642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f497d"/>
                </a:solidFill>
                <a:latin typeface="Calibri"/>
              </a:rPr>
              <a:t>linkages between large and complex financial institu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11" descr="EBF-FINAL_noWhiteBorder.GIF"/>
          <p:cNvPicPr/>
          <p:nvPr/>
        </p:nvPicPr>
        <p:blipFill>
          <a:blip r:embed="rId1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12"/>
          <p:cNvGrpSpPr/>
          <p:nvPr/>
        </p:nvGrpSpPr>
        <p:grpSpPr>
          <a:xfrm>
            <a:off x="5016600" y="5554080"/>
            <a:ext cx="4152960" cy="1311840"/>
            <a:chOff x="5016600" y="5554080"/>
            <a:chExt cx="4152960" cy="1311840"/>
          </a:xfrm>
        </p:grpSpPr>
        <p:sp>
          <p:nvSpPr>
            <p:cNvPr id="172" name="Freeform 2"/>
            <p:cNvSpPr/>
            <p:nvPr/>
          </p:nvSpPr>
          <p:spPr>
            <a:xfrm rot="21046800">
              <a:off x="5195880" y="5865120"/>
              <a:ext cx="3943800" cy="689040"/>
            </a:xfrm>
            <a:custGeom>
              <a:avLst/>
              <a:gdLst>
                <a:gd name="textAreaLeft" fmla="*/ 0 w 3943800"/>
                <a:gd name="textAreaRight" fmla="*/ 3944160 w 3943800"/>
                <a:gd name="textAreaTop" fmla="*/ 0 h 689040"/>
                <a:gd name="textAreaBottom" fmla="*/ 689400 h 68904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2"/>
            <p:cNvSpPr/>
            <p:nvPr/>
          </p:nvSpPr>
          <p:spPr>
            <a:xfrm rot="21066000">
              <a:off x="5094360" y="5938200"/>
              <a:ext cx="4049640" cy="617760"/>
            </a:xfrm>
            <a:custGeom>
              <a:avLst/>
              <a:gdLst>
                <a:gd name="textAreaLeft" fmla="*/ 0 w 4049640"/>
                <a:gd name="textAreaRight" fmla="*/ 4050000 w 4049640"/>
                <a:gd name="textAreaTop" fmla="*/ 0 h 617760"/>
                <a:gd name="textAreaBottom" fmla="*/ 618120 h 61776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e46c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2"/>
            <p:cNvSpPr/>
            <p:nvPr/>
          </p:nvSpPr>
          <p:spPr>
            <a:xfrm rot="21220200">
              <a:off x="5047920" y="5845320"/>
              <a:ext cx="4076280" cy="798480"/>
            </a:xfrm>
            <a:custGeom>
              <a:avLst/>
              <a:gdLst>
                <a:gd name="textAreaLeft" fmla="*/ 0 w 4076280"/>
                <a:gd name="textAreaRight" fmla="*/ 4076640 w 4076280"/>
                <a:gd name="textAreaTop" fmla="*/ 0 h 798480"/>
                <a:gd name="textAreaBottom" fmla="*/ 798840 h 798480"/>
              </a:gdLst>
              <a:ahLst/>
              <a:rect l="textAreaLeft" t="textAreaTop" r="textAreaRight" b="textAreaBottom"/>
              <a:pathLst>
                <a:path w="2739" h="250">
                  <a:moveTo>
                    <a:pt x="0" y="250"/>
                  </a:moveTo>
                  <a:cubicBezTo>
                    <a:pt x="1175" y="0"/>
                    <a:pt x="2247" y="123"/>
                    <a:pt x="2739" y="207"/>
                  </a:cubicBezTo>
                </a:path>
              </a:pathLst>
            </a:custGeom>
            <a:noFill/>
            <a:ln w="9360">
              <a:solidFill>
                <a:srgbClr val="1f49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Group 32"/>
          <p:cNvGrpSpPr/>
          <p:nvPr/>
        </p:nvGrpSpPr>
        <p:grpSpPr>
          <a:xfrm>
            <a:off x="0" y="1214280"/>
            <a:ext cx="9144000" cy="144720"/>
            <a:chOff x="0" y="1214280"/>
            <a:chExt cx="9144000" cy="144720"/>
          </a:xfrm>
        </p:grpSpPr>
        <p:sp>
          <p:nvSpPr>
            <p:cNvPr id="176" name="Rectangle 33"/>
            <p:cNvSpPr/>
            <p:nvPr/>
          </p:nvSpPr>
          <p:spPr>
            <a:xfrm>
              <a:off x="0" y="1214280"/>
              <a:ext cx="1315080" cy="144720"/>
            </a:xfrm>
            <a:prstGeom prst="rect">
              <a:avLst/>
            </a:prstGeom>
            <a:solidFill>
              <a:srgbClr val="f8ce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1304640" y="1214280"/>
              <a:ext cx="1315080" cy="144720"/>
            </a:xfrm>
            <a:prstGeom prst="rect">
              <a:avLst/>
            </a:prstGeom>
            <a:solidFill>
              <a:srgbClr val="614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2609640" y="1214280"/>
              <a:ext cx="1315080" cy="144720"/>
            </a:xfrm>
            <a:prstGeom prst="rect">
              <a:avLst/>
            </a:prstGeom>
            <a:solidFill>
              <a:srgbClr val="4a6b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3904200" y="1214280"/>
              <a:ext cx="1315080" cy="144720"/>
            </a:xfrm>
            <a:prstGeom prst="rect">
              <a:avLst/>
            </a:prstGeom>
            <a:solidFill>
              <a:srgbClr val="a3d2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5209200" y="1214280"/>
              <a:ext cx="1315080" cy="144720"/>
            </a:xfrm>
            <a:prstGeom prst="rect">
              <a:avLst/>
            </a:prstGeom>
            <a:solidFill>
              <a:srgbClr val="c7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6524280" y="1214280"/>
              <a:ext cx="1315080" cy="144720"/>
            </a:xfrm>
            <a:prstGeom prst="rect">
              <a:avLst/>
            </a:prstGeom>
            <a:solidFill>
              <a:srgbClr val="9811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7828920" y="1214280"/>
              <a:ext cx="1315080" cy="144720"/>
            </a:xfrm>
            <a:prstGeom prst="rect">
              <a:avLst/>
            </a:prstGeom>
            <a:solidFill>
              <a:srgbClr val="b9ba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0:04:27Z</dcterms:created>
  <dc:creator>Sanaa Rouiha</dc:creator>
  <dc:description/>
  <dc:language>en-US</dc:language>
  <cp:lastModifiedBy>Viktorija Proskurovska</cp:lastModifiedBy>
  <dcterms:modified xsi:type="dcterms:W3CDTF">2010-06-01T08:16:21Z</dcterms:modified>
  <cp:revision>115</cp:revision>
  <dc:subject/>
  <dc:title>EUROPEAN BANKING FEDE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8226578DF2B3B64A903F9075E79A1D84</vt:lpwstr>
  </property>
</Properties>
</file>