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39FD-240C-41B6-85F0-B8CC773597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4CE6-219C-4EC6-A5B2-0A092681456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1383-7BCC-4438-A7EA-FB6884B2E58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B063-4598-4D8E-99B2-8D8A3E45FE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E62E-235F-4C31-90D5-2D21741462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D7CF-5FC1-4222-AD35-26CC38AD929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72E6-F2DE-4B9C-BE68-C1A458456D9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628B-9D72-405F-9786-CB52E920CB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1063-C960-4804-A86E-E76507B36F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EB2B-5A03-4EA7-8958-0D7F709348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34F9-AAC5-4E7E-A5E3-50473EE2FA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3F29-0E8A-49CD-A4E7-BB9BE990E8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FF4-C863-49C1-8AEF-BD7A31A9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7C7F-F09E-4BD3-94FB-1734139D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1FF9-4AAC-43C9-930A-BE518BF7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506-2D43-46EE-8ABA-D0A0E095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761A-96DC-4F94-9DC5-DE540241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71D-3193-477E-8D5B-AD6818BF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C6ED-DCAE-4526-ABC0-0D713565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454-B007-45A2-BD6E-FEBF3C19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DD5-574B-4F05-BAC4-3A758C54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7C11-A494-459F-87D3-E137FC49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AA35-6237-40A3-9CD1-802E3C19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135-842F-4032-8DCE-931DCADA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48EF-6F4B-469F-95DC-16B4EBE2B8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4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51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5" name="Rectangle 19"/>
            <p:cNvSpPr/>
            <p:nvPr/>
          </p:nvSpPr>
          <p:spPr>
            <a:xfrm>
              <a:off x="0" y="2571840"/>
              <a:ext cx="131436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1304640" y="2571840"/>
              <a:ext cx="131436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1"/>
            <p:cNvSpPr/>
            <p:nvPr/>
          </p:nvSpPr>
          <p:spPr>
            <a:xfrm>
              <a:off x="2609640" y="2571840"/>
              <a:ext cx="131436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2"/>
            <p:cNvSpPr/>
            <p:nvPr/>
          </p:nvSpPr>
          <p:spPr>
            <a:xfrm>
              <a:off x="3903480" y="2571840"/>
              <a:ext cx="131580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3"/>
            <p:cNvSpPr/>
            <p:nvPr/>
          </p:nvSpPr>
          <p:spPr>
            <a:xfrm>
              <a:off x="5208480" y="2571840"/>
              <a:ext cx="131580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4"/>
            <p:cNvSpPr/>
            <p:nvPr/>
          </p:nvSpPr>
          <p:spPr>
            <a:xfrm>
              <a:off x="6524640" y="2571840"/>
              <a:ext cx="131436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5"/>
            <p:cNvSpPr/>
            <p:nvPr/>
          </p:nvSpPr>
          <p:spPr>
            <a:xfrm>
              <a:off x="7829640" y="2571840"/>
              <a:ext cx="131436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0040" y="5000760"/>
            <a:ext cx="785808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Guido RAVOET, EBF Secretary Gene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30th EBF Associates’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f497d"/>
                </a:solidFill>
                <a:latin typeface="Calibri"/>
              </a:rPr>
              <a:t>Baku, Azerbaijan - 28 May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0" y="2714760"/>
            <a:ext cx="914400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Financial Modernisation Project in the EBF Associate countries and their alignment with the EU </a:t>
            </a:r>
            <a:r>
              <a:rPr b="1" i="1" lang="en-GB" sz="3600" spc="-1" strike="noStrike">
                <a:solidFill>
                  <a:srgbClr val="1f497d"/>
                </a:solidFill>
                <a:latin typeface="Calibri"/>
              </a:rPr>
              <a:t>Acqu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Associates’ participation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16"/>
          <p:cNvSpPr/>
          <p:nvPr/>
        </p:nvSpPr>
        <p:spPr>
          <a:xfrm>
            <a:off x="214200" y="1571760"/>
            <a:ext cx="85726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Develop a national agenda of implementation on the EU financial services </a:t>
            </a:r>
            <a:r>
              <a:rPr b="0" i="1" lang="en-GB" sz="2000" spc="-1" strike="noStrike">
                <a:solidFill>
                  <a:srgbClr val="1f497d"/>
                </a:solidFill>
                <a:latin typeface="Calibri"/>
              </a:rPr>
              <a:t>acquis</a:t>
            </a: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, based on cooperation between your NA and respective authori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rrelate your agendas with those of other NBAs of the reg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ssess the extent of your participation in the proj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Acquire full backing of your respective Boar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Follow the procedure for the EU Grant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ntribute necessary documentation for the specific applica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required co-funding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continuous commitment to the project (max duration 24 month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Comply with the EU rules applicable to the co-fund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920" y="1428840"/>
            <a:ext cx="8858160" cy="43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ent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Questions? 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Expressions of inter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203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7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68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2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Key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7"/>
          <p:cNvSpPr/>
          <p:nvPr/>
        </p:nvSpPr>
        <p:spPr>
          <a:xfrm>
            <a:off x="142920" y="1928880"/>
            <a:ext cx="88581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High demand for EU co-fund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ocal points of the EU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Quality of particip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inimum threshold number of Project Partn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trict co-funding requirement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EBF commit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Your inter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EU funds are in high dem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17"/>
          <p:cNvSpPr/>
          <p:nvPr/>
        </p:nvSpPr>
        <p:spPr>
          <a:xfrm>
            <a:off x="142920" y="1932120"/>
            <a:ext cx="8858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pprox. 200 project applicants from all sectors in 2010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ward will be granted to a max of 15 project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round 150 applications would not pass the Concept Note stag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importance of a top quality, easily readable and highly relevant project proposal cannot be underst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Focal points of the EU C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9"/>
          <p:cNvSpPr/>
          <p:nvPr/>
        </p:nvSpPr>
        <p:spPr>
          <a:xfrm>
            <a:off x="142920" y="187020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participation of national banking associations (NBAs) in decision-making, policy implementation and monito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cooperation between NBAs inter se on the one    hand and NBAs and public authorities on the other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understanding among employers and employees of the relevant EU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nd its imp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Quality of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16"/>
          <p:cNvSpPr/>
          <p:nvPr/>
        </p:nvSpPr>
        <p:spPr>
          <a:xfrm>
            <a:off x="142920" y="1857240"/>
            <a:ext cx="885816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Regional cooper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Project Partners’ agendas must be  correlated, geared towards jointly meeting the Project’s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Strength of the public dialogue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NBAs must develop their  national agendas for action ahead of the project, to tackle jointly with their respective auth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EU </a:t>
            </a:r>
            <a:r>
              <a:rPr b="1" i="1" lang="en-GB" sz="2800" spc="-1" strike="noStrike">
                <a:solidFill>
                  <a:srgbClr val="1f497d"/>
                </a:solidFill>
                <a:latin typeface="Calibri"/>
              </a:rPr>
              <a:t>acquis </a:t>
            </a: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implementation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: should be at the core of the Project’s work program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Number of Project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16"/>
          <p:cNvSpPr/>
          <p:nvPr/>
        </p:nvSpPr>
        <p:spPr>
          <a:xfrm>
            <a:off x="142920" y="192888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 order to ensure minimum regional co-opera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At least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ree NBAs from the Western Balkans and Turkey must be Project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NBAs from neighbouring regions (e.g., Armenia, Azerbaijan, Moldova, Ukraine, etc.) can participate 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rict co-fund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"/>
          <p:cNvSpPr/>
          <p:nvPr/>
        </p:nvSpPr>
        <p:spPr>
          <a:xfrm>
            <a:off x="142920" y="1957320"/>
            <a:ext cx="88581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ach of the Project Consortium Partners should be able to ensure the required co-funding, subject to eligibility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Costs of staff assigned to the action may be considered as co-financing in the budget of the action when paid by the Beneficiary or its Partn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The EBF commi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1"/>
          <p:cNvGrpSpPr/>
          <p:nvPr/>
        </p:nvGrpSpPr>
        <p:grpSpPr>
          <a:xfrm>
            <a:off x="5016600" y="5554080"/>
            <a:ext cx="4154040" cy="1312200"/>
            <a:chOff x="5016600" y="5554080"/>
            <a:chExt cx="4154040" cy="131220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520" y="5865480"/>
              <a:ext cx="3945240" cy="689040"/>
            </a:xfrm>
            <a:custGeom>
              <a:avLst/>
              <a:gdLst>
                <a:gd name="textAreaLeft" fmla="*/ 0 w 3945240"/>
                <a:gd name="textAreaRight" fmla="*/ 3945600 w 394524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000" y="5938920"/>
              <a:ext cx="4050000" cy="617760"/>
            </a:xfrm>
            <a:custGeom>
              <a:avLst/>
              <a:gdLst>
                <a:gd name="textAreaLeft" fmla="*/ 0 w 4050000"/>
                <a:gd name="textAreaRight" fmla="*/ 4050360 w 405000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4960"/>
              <a:ext cx="4077000" cy="798480"/>
            </a:xfrm>
            <a:custGeom>
              <a:avLst/>
              <a:gdLst>
                <a:gd name="textAreaLeft" fmla="*/ 0 w 4077000"/>
                <a:gd name="textAreaRight" fmla="*/ 4077000 w 407700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26"/>
            <p:cNvSpPr/>
            <p:nvPr/>
          </p:nvSpPr>
          <p:spPr>
            <a:xfrm>
              <a:off x="0" y="1214280"/>
              <a:ext cx="131436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7"/>
            <p:cNvSpPr/>
            <p:nvPr/>
          </p:nvSpPr>
          <p:spPr>
            <a:xfrm>
              <a:off x="1304640" y="1214280"/>
              <a:ext cx="131436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8"/>
            <p:cNvSpPr/>
            <p:nvPr/>
          </p:nvSpPr>
          <p:spPr>
            <a:xfrm>
              <a:off x="2609640" y="1214280"/>
              <a:ext cx="131436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9"/>
            <p:cNvSpPr/>
            <p:nvPr/>
          </p:nvSpPr>
          <p:spPr>
            <a:xfrm>
              <a:off x="3903480" y="1214280"/>
              <a:ext cx="131580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0"/>
            <p:cNvSpPr/>
            <p:nvPr/>
          </p:nvSpPr>
          <p:spPr>
            <a:xfrm>
              <a:off x="5208480" y="1214280"/>
              <a:ext cx="131580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31"/>
            <p:cNvSpPr/>
            <p:nvPr/>
          </p:nvSpPr>
          <p:spPr>
            <a:xfrm>
              <a:off x="6524640" y="1214280"/>
              <a:ext cx="131436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2"/>
            <p:cNvSpPr/>
            <p:nvPr/>
          </p:nvSpPr>
          <p:spPr>
            <a:xfrm>
              <a:off x="7829640" y="1214280"/>
              <a:ext cx="131436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"/>
          <p:cNvSpPr/>
          <p:nvPr/>
        </p:nvSpPr>
        <p:spPr>
          <a:xfrm>
            <a:off x="142920" y="2055960"/>
            <a:ext cx="878688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Given sufficient interest from the Associates, the EBF stands ready to apply for and run the Project, includ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gage the necessary staff to administer and coordinate the projec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Provide its part of co-fund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Ensure the necessary reporting to the European Commiss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Maintain relations with DG Enlarg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ABI &amp; BdB maintain their interest supporting thi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5-20T15:43:03Z</dcterms:modified>
  <cp:revision>117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