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4608C-D45C-408D-A233-CE7F66201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44560" y="74304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9BA99-CCC4-4CAC-B162-526BD279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8B62C-6D50-470A-98BB-B948FD8E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815D3-821E-4730-960E-EE21063D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AFD0D-B9F8-44FF-A5A4-E3919274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D88B6-8D52-4D56-9B58-CFC9C1D0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3F39A-D58B-4DB7-8DCC-9057D125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D418E-CB8D-4FE0-B7ED-9C42DB2B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E4933-32F9-4A4E-AFFD-FC43B9FD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DA099-87FC-4C8F-9C81-98370F0C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B0999-C37A-46A5-892E-18F100B2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E9F07-3D64-4E87-AA10-AFB795E5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DF3D4-3421-424E-B9F9-4E6993E1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6FF78A-6A30-4A8A-9999-14BDC516694D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DB43792-0A02-44EC-BAB4-7898C05792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II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7160" y="610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CBA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0000" y="1955880"/>
            <a:ext cx="8209080" cy="41637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 fontScale="99000"/>
          </a:bodyPr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remely active role (continu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xtensive media coverage (reduc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questions to banks ended up with us - coordinating respon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BA “vademecum” since February 2009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77160" indent="-6760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addition, coordination of CRD, PSD, CCD transposition and many more...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8680" y="1436760"/>
            <a:ext cx="82087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44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131 - “value” close to €240K (2009-534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21 presences - “value” above €500K (2009-132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22, additional web portal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4440" indent="-33444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8% “neutral”, 2% “positive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28680" y="198576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Seems we survived the first wave......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Good luck and thank you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2120" y="37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eal GDP growth r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6360" y="1844640"/>
            <a:ext cx="3959280" cy="3682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nnual growth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NB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, national statistical off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157720"/>
            <a:ext cx="39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with final annual calculation of the 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987480"/>
            <a:ext cx="3780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72880" y="5219640"/>
            <a:ext cx="206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7280" y="2422440"/>
            <a:ext cx="4175280" cy="2584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859280" y="2411280"/>
            <a:ext cx="3959280" cy="2605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040360" y="988920"/>
            <a:ext cx="38624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Average lending interest 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9892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60000" y="1068120"/>
            <a:ext cx="359892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urrent account deficit and FDI inflows in Croatia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3760" y="2987640"/>
            <a:ext cx="4043160" cy="251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0000" y="3005280"/>
            <a:ext cx="3924360" cy="2485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32480" y="1438200"/>
            <a:ext cx="4187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External debt by debto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82920" y="5400720"/>
            <a:ext cx="216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360" y="590040"/>
            <a:ext cx="382752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Total assets of all bank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60360" y="234000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2340000"/>
            <a:ext cx="3992400" cy="2519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80000" y="1035000"/>
            <a:ext cx="4367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pital adequacy of bank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5075280"/>
            <a:ext cx="4103640" cy="3070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regulatory capital</a:t>
            </a:r>
            <a:r>
              <a:rPr b="0" lang="hr-HR" sz="14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GB" sz="1400" spc="-1" strike="noStrike">
                <a:solidFill>
                  <a:srgbClr val="ffffff"/>
                </a:solidFill>
                <a:latin typeface="Verdana"/>
              </a:rPr>
              <a:t>total exposure to risk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547848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9880" y="723960"/>
            <a:ext cx="30783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A and RO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ffcc00"/>
                </a:solidFill>
                <a:latin typeface="Arial"/>
              </a:rPr>
              <a:t>E</a:t>
            </a:r>
            <a:r>
              <a:rPr b="0" lang="hr-H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0120" y="2421000"/>
            <a:ext cx="4168800" cy="258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26080" y="2441520"/>
            <a:ext cx="4093920" cy="2543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319640" y="1106640"/>
            <a:ext cx="4727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assification of placements</a:t>
            </a:r>
            <a:r>
              <a:rPr b="0" lang="hr-HR" sz="32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d contingent liabilit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64000" y="5400720"/>
            <a:ext cx="216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N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1200" y="41400"/>
            <a:ext cx="8478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100" spc="-1" strike="noStrike">
                <a:solidFill>
                  <a:srgbClr val="ffffcc"/>
                </a:solidFill>
                <a:latin typeface="Arial"/>
              </a:rPr>
              <a:t>A brief overview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monetary authoritie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8680" y="1796760"/>
            <a:ext cx="82087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argeted to public sector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rolled exchange rate and liquidity on open market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Early 2010 – further relaxation of reserve requirement – targeted to increase credit availability through government plan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aintained stable exchange rate and low inflation in spite of the pressur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Continuously called on structural reforms and fiscal response to monetary moves.</a:t>
            </a:r>
            <a:endParaRPr b="0" lang="en-US" sz="2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government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0000" y="1800000"/>
            <a:ext cx="8209080" cy="4335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cognized recession 6 months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Rebalanced the budget 3 times – from March to Jul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ntroduced “crisis tax” and increased VAT by 1%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750 mill € bonds in May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ssued 1,5 bill $ bonds in October 2009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End 2009 – announced several models to increase lending/decrease interest rat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pril 2010 – announced a complete, hopefully more concrete plan to make necessary reforms and fiscal adjustment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549360"/>
            <a:ext cx="8637480" cy="6746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, what did the banks do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2087640"/>
            <a:ext cx="8208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like some other countries – banks helped bail out the government – 2,8 bln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o squeezing out of private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intained reasonable credit activ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yndicated loan to government – 750 mill €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aised interest ra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price (due to risk) on international marke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reased competition on domestic marke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ccessfully avoided financial crisis, but risks lie in real secto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10-05-26T10:22:12Z</dcterms:modified>
  <cp:revision>75</cp:revision>
  <dc:subject/>
  <dc:title>KREDITNI REGISTAR KAO INSTITUCIJA RAZVIJENOG FINANCIJSKOG TRŽIŠ</dc:title>
</cp:coreProperties>
</file>