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AADEE-79C1-4834-B24F-99B35BD5A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8"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BB184-AC47-4041-A5F6-E051AE3C7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1"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2"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F851A-C0D6-4AD5-9D1D-A112DF922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6"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9F962-B182-4CE0-9164-127FF0CAC1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290141-D1FC-4DEE-84BF-3B47D4CAA4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49"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A7AC0-7708-4B5F-875A-BE46548A4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1"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EF625-D3DF-4027-8667-21046F5FA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3"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28D4F6-D5DA-4A91-9A95-3889B6200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35AF0-281D-4078-A381-1E58C3BD87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C47BA5-9830-437B-B5FE-62A411AA2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8"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8FAFB-E438-4E47-88BA-E16F1F05A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C4041-A335-42D7-B575-FEEC39A47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2"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C7790-7971-4DF0-A8A0-2BE39A2B7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1F32F-4845-4FDE-8FCD-F4A8769AB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0"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4CFE2-346B-42B1-9988-2D76DBEEB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3"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A88F87-0F61-4248-A30B-F9EBF5BBD3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8"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00C3C7-8BC7-424D-B573-9F655F4641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9"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3FBD0-C2C2-4D10-8C1F-F80864A0C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1"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F53E5-4741-4C5D-AE57-08D881713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3E82A-1897-4BF4-ABB6-9D7309EC4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E2A66-CB15-4E2F-B58C-F41372ECD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E8611-265E-49A6-A001-50C29BB53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0"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7A5EB-AE3A-4B28-8237-84776310B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4"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C63B5-5793-4800-AB0A-16D13B885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99440" cy="6948360"/>
          </a:xfrm>
          <a:prstGeom prst="rect">
            <a:avLst/>
          </a:prstGeom>
          <a:ln w="0">
            <a:noFill/>
          </a:ln>
        </p:spPr>
      </p:pic>
      <p:sp>
        <p:nvSpPr>
          <p:cNvPr id="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Click to edit the title text format</a:t>
            </a:r>
            <a:endParaRPr b="0" lang="en-US" sz="2400" spc="-1" strike="noStrike">
              <a:solidFill>
                <a:srgbClr val="cc3300"/>
              </a:solidFill>
              <a:latin typeface="Arial Black"/>
            </a:endParaRPr>
          </a:p>
        </p:txBody>
      </p:sp>
      <p:sp>
        <p:nvSpPr>
          <p:cNvPr id="2" name="PlaceHolder 2"/>
          <p:cNvSpPr>
            <a:spLocks noGrp="1"/>
          </p:cNvSpPr>
          <p:nvPr>
            <p:ph type="body"/>
          </p:nvPr>
        </p:nvSpPr>
        <p:spPr>
          <a:xfrm>
            <a:off x="477360" y="2361960"/>
            <a:ext cx="8285400" cy="3864240"/>
          </a:xfrm>
          <a:prstGeom prst="rect">
            <a:avLst/>
          </a:prstGeom>
          <a:noFill/>
          <a:ln w="0">
            <a:noFill/>
          </a:ln>
        </p:spPr>
        <p:txBody>
          <a:bodyPr lIns="90000" rIns="90000" tIns="46800" bIns="46800" anchor="t">
            <a:normAutofit/>
          </a:bodyPr>
          <a:p>
            <a:pPr marL="343080" indent="-343080">
              <a:spcBef>
                <a:spcPts val="7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spcBef>
                <a:spcPts val="751"/>
              </a:spcBef>
              <a:buClr>
                <a:srgbClr val="15b3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420F3-83EA-41E9-8F2A-3AA8A309D9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523520" y="3413160"/>
            <a:ext cx="6961320" cy="1312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lick to edit the title text format</a:t>
            </a:r>
            <a:endParaRPr b="0" lang="en-US" sz="4000" spc="-1" strike="noStrike">
              <a:solidFill>
                <a:srgbClr val="ffffff"/>
              </a:solidFill>
              <a:latin typeface="Arial Black"/>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6CA89-549D-4877-A0E6-D7F327DAE7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81360"/>
            <a:ext cx="6961320" cy="947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Black"/>
              </a:rPr>
              <a:t>– </a:t>
            </a:r>
            <a:r>
              <a:rPr b="0" lang="fr-FR" sz="2800" spc="-1" strike="noStrike">
                <a:solidFill>
                  <a:srgbClr val="ffffff"/>
                </a:solidFill>
                <a:latin typeface="Arial Black"/>
              </a:rPr>
              <a:t>G20 &amp; Financial Regulation –</a:t>
            </a:r>
            <a:br>
              <a:rPr sz="2800"/>
            </a:br>
            <a:r>
              <a:rPr b="0" lang="fr-FR" sz="2800" spc="-1" strike="noStrike">
                <a:solidFill>
                  <a:srgbClr val="ffffff"/>
                </a:solidFill>
                <a:latin typeface="Arial Black"/>
              </a:rPr>
              <a:t>What has been achieved in 2011?</a:t>
            </a:r>
            <a:endParaRPr b="0" lang="en-US" sz="2800" spc="-1" strike="noStrike">
              <a:solidFill>
                <a:srgbClr val="ffffff"/>
              </a:solidFill>
              <a:latin typeface="Arial Black"/>
            </a:endParaRPr>
          </a:p>
        </p:txBody>
      </p:sp>
      <p:sp>
        <p:nvSpPr>
          <p:cNvPr id="85" name="PlaceHolder 2"/>
          <p:cNvSpPr>
            <a:spLocks noGrp="1"/>
          </p:cNvSpPr>
          <p:nvPr>
            <p:ph type="subTitle"/>
          </p:nvPr>
        </p:nvSpPr>
        <p:spPr>
          <a:xfrm>
            <a:off x="2057400" y="4005000"/>
            <a:ext cx="6400800" cy="20905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n-François  Pons,  FBF</a:t>
            </a:r>
            <a:endParaRPr b="1" lang="en-US" sz="2400" spc="-1" strike="noStrike">
              <a:solidFill>
                <a:srgbClr val="ffffff"/>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EBF Associates meeting                               Bruxelles, 8/12/2011                                                          </a:t>
            </a:r>
            <a:endParaRPr b="1" lang="en-US" sz="3000" spc="-1" strike="noStrike">
              <a:solidFill>
                <a:srgbClr val="ffffff"/>
              </a:solidFill>
              <a:latin typeface="Arial"/>
            </a:endParaRPr>
          </a:p>
        </p:txBody>
      </p:sp>
      <p:sp>
        <p:nvSpPr>
          <p:cNvPr id="4" name="PlaceHolder 3"/>
          <p:cNvSpPr>
            <a:spLocks noGrp="1"/>
          </p:cNvSpPr>
          <p:nvPr>
            <p:ph type="sldNum" idx="6"/>
          </p:nvPr>
        </p:nvSpPr>
        <p:spPr/>
        <p:txBody>
          <a:bodyPr/>
          <a:p>
            <a:fld id="{E2B99311-05E1-4303-AF47-86794273F3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73040" y="2383920"/>
            <a:ext cx="8285040" cy="42850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 “[…] To this end, we commit to implement initial recommendations by IOSCO on market integrity and efficiency, including measures to address the risks posed by </a:t>
            </a:r>
            <a:r>
              <a:rPr b="1" lang="en-US" sz="1800" spc="-1" strike="noStrike">
                <a:solidFill>
                  <a:srgbClr val="000000"/>
                </a:solidFill>
                <a:latin typeface="Calibri"/>
              </a:rPr>
              <a:t>high frequency trading</a:t>
            </a:r>
            <a:r>
              <a:rPr b="0" lang="en-US" sz="1800" spc="-1" strike="noStrike">
                <a:solidFill>
                  <a:srgbClr val="000000"/>
                </a:solidFill>
                <a:latin typeface="Calibri"/>
              </a:rPr>
              <a:t> and </a:t>
            </a:r>
            <a:r>
              <a:rPr b="1" lang="en-US" sz="1800" spc="-1" strike="noStrike">
                <a:solidFill>
                  <a:srgbClr val="000000"/>
                </a:solidFill>
                <a:latin typeface="Calibri"/>
              </a:rPr>
              <a:t>dark liquidity</a:t>
            </a:r>
            <a:r>
              <a:rPr b="0" lang="en-US" sz="1800" spc="-1" strike="noStrike">
                <a:solidFill>
                  <a:srgbClr val="000000"/>
                </a:solidFill>
                <a:latin typeface="Calibri"/>
              </a:rPr>
              <a:t>, and call for further work by mid-2012.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also call on IOSCO to assess the </a:t>
            </a:r>
            <a:r>
              <a:rPr b="1" lang="en-US" sz="1800" spc="-1" strike="noStrike">
                <a:solidFill>
                  <a:srgbClr val="000000"/>
                </a:solidFill>
                <a:latin typeface="Calibri"/>
              </a:rPr>
              <a:t>functioning of credit default swap (CDS) markets</a:t>
            </a:r>
            <a:r>
              <a:rPr b="0" lang="en-US" sz="1800" spc="-1" strike="noStrike">
                <a:solidFill>
                  <a:srgbClr val="000000"/>
                </a:solidFill>
                <a:latin typeface="Calibri"/>
              </a:rPr>
              <a:t> and the role of those markets in price formation of underlying assets by our next Summi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upport the </a:t>
            </a:r>
            <a:r>
              <a:rPr b="1" lang="en-US" sz="1800" spc="-1" strike="noStrike">
                <a:solidFill>
                  <a:srgbClr val="000000"/>
                </a:solidFill>
                <a:latin typeface="Calibri"/>
              </a:rPr>
              <a:t>creation of a global legal entity identifier (LEI)</a:t>
            </a:r>
            <a:r>
              <a:rPr b="0" lang="en-US" sz="1800" spc="-1" strike="noStrike">
                <a:solidFill>
                  <a:srgbClr val="000000"/>
                </a:solidFill>
                <a:latin typeface="Calibri"/>
              </a:rPr>
              <a:t> which uniquely identifies parties to financial transactions. We call on the FSB to take the lead in helping coordinate work among the regulatory community to prepare recommendations for the appropriate governance framework, representing the public interest, for such a global LEI by our next Summit.</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7596857C-1BCE-4BA3-B634-2985DDFC45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73040" y="2384280"/>
            <a:ext cx="8285040" cy="38404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2/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 “</a:t>
            </a:r>
            <a:r>
              <a:rPr b="1" lang="en-US" sz="1800" spc="-1" strike="noStrike">
                <a:solidFill>
                  <a:srgbClr val="000000"/>
                </a:solidFill>
                <a:latin typeface="Calibri"/>
              </a:rPr>
              <a:t>Commodity markets</a:t>
            </a:r>
            <a:r>
              <a:rPr b="0" lang="en-US" sz="1800" spc="-1" strike="noStrike">
                <a:solidFill>
                  <a:srgbClr val="000000"/>
                </a:solidFill>
                <a:latin typeface="Calibri"/>
              </a:rPr>
              <a:t>. We welcome the G20 study group report on commodities and endorse IOSCO’s report and its common principles for the regulation and supervision of commodity derivatives markets. We need to ensure enhanced market transparency, both on cash and financial commodity markets, including OTC, and achieve appropriate regulation and supervision of participants in these markets. Market regulators and authorities should be granted effective intervention powers to address disorderly markets and prevent market abuses. In particular, market regulators should have, and use formal position management powers, including the power to set ex-ante position limits, particularly in the delivery month where appropriate, among other powers of intervention. We call on IOSCO to report on the implementation of its recommendations by the end of 2012.”</a:t>
            </a:r>
            <a:endParaRPr b="0" lang="en-US" sz="1800" spc="-1" strike="noStrike">
              <a:solidFill>
                <a:srgbClr val="000000"/>
              </a:solidFill>
              <a:latin typeface="Arial"/>
            </a:endParaRPr>
          </a:p>
        </p:txBody>
      </p:sp>
      <p:sp>
        <p:nvSpPr>
          <p:cNvPr id="10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710F3403-A45A-44C9-83B0-DE557BBBCB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73040" y="2383920"/>
            <a:ext cx="8285040" cy="301644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5 – Orientations regarding consumer protection</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 “Consumer protection. We agree that integration of financial consumer protection policies into regulatory and supervisory frameworks contributes to strengthening financial stability, endorse the FSB report on consumer finance protection and the high level principles on financial consumer protection prepared by the OECD together with the FSB. We will pursue the full application of these principles in our jurisdictions and ask the FSB and OECD along with other relevant bodies, to report on progress on their implementation to the upcoming Summits and develop further guidelines if appropriate.”</a:t>
            </a:r>
            <a:endParaRPr b="0" lang="en-US" sz="1800" spc="-1" strike="noStrike">
              <a:solidFill>
                <a:srgbClr val="000000"/>
              </a:solidFill>
              <a:latin typeface="Arial"/>
            </a:endParaRPr>
          </a:p>
        </p:txBody>
      </p:sp>
      <p:sp>
        <p:nvSpPr>
          <p:cNvPr id="10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22856952-370A-4859-B4FD-476FD1D0BE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73040" y="2383920"/>
            <a:ext cx="8285040" cy="283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6 – Accounting standards</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 since the first G20 Summit in 2009 </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4. “[…] We reaffirm our objective to achieve a single set of high quality global accounting standards and meet the objectives set at the London summit in April 2009, notably as regards the improvement of standards for the valuation of financial instruments. We call on the IASB and the FASB to complete their convergence project and look forward to a progress report at the Finance Ministers and Central Bank governors meeting in April  2012. We look forward to the completion of proposals to reform the IASB governance framework.”</a:t>
            </a:r>
            <a:endParaRPr b="0" lang="en-US" sz="1800" spc="-1" strike="noStrike">
              <a:solidFill>
                <a:srgbClr val="000000"/>
              </a:solidFill>
              <a:latin typeface="Arial"/>
            </a:endParaRPr>
          </a:p>
        </p:txBody>
      </p:sp>
      <p:sp>
        <p:nvSpPr>
          <p:cNvPr id="10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0B8B32FE-F987-4EFB-B3D2-DB9A008FFB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73040" y="2384280"/>
            <a:ext cx="8285040" cy="17337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7 – Financial transaction tax</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a:t>
            </a:r>
            <a:r>
              <a:rPr b="0" lang="en-US" sz="1800" spc="-1" strike="noStrike">
                <a:solidFill>
                  <a:srgbClr val="000000"/>
                </a:solidFill>
                <a:latin typeface="Calibri"/>
              </a:rPr>
              <a: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 We acknowledge the initiatives in some of our countries to tax the financial sector for various purposes, including a financial transaction tax, inter alia to support development.”</a:t>
            </a:r>
            <a:endParaRPr b="0" lang="en-US" sz="1800" spc="-1" strike="noStrike">
              <a:solidFill>
                <a:srgbClr val="000000"/>
              </a:solidFill>
              <a:latin typeface="Arial"/>
            </a:endParaRPr>
          </a:p>
        </p:txBody>
      </p:sp>
      <p:sp>
        <p:nvSpPr>
          <p:cNvPr id="11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D9E92249-DCF3-4B9F-A1F1-6683C1F157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73040" y="2383920"/>
            <a:ext cx="8285040" cy="34131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5. “[…] In the tax area, the Global Forum has now 105 members. More than 700 information exchange agreements have been signed and the Global Forum is leading an extensive peer review process of the legal framework (phase 1) and implementation of standards (phase 2). We ask the Global Forum to complete the first round of phase 1 reviews and substantially advance the phase 2 reviews by the end of next year. We will review progress at our next Summit. Many of the 59 jurisdictions which have been reviewed by the Global Forum are fully or largely compliant or are making progress through the implementation of the 379 relevant recommendations.</a:t>
            </a:r>
            <a:endParaRPr b="0" lang="en-US" sz="1800" spc="-1" strike="noStrike">
              <a:solidFill>
                <a:srgbClr val="000000"/>
              </a:solidFill>
              <a:latin typeface="Arial"/>
            </a:endParaRPr>
          </a:p>
        </p:txBody>
      </p:sp>
      <p:sp>
        <p:nvSpPr>
          <p:cNvPr id="11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764061EC-345A-43A0-9E65-B50D83FFF9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73040" y="2384280"/>
            <a:ext cx="8285040" cy="40752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2/2)</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SB : Out of 61 jurisdictions selected for their importance on several economic and financial indicators, we note with satisfaction that 41 jurisdictions have already demonstrated sufficiently strong adherence to these standards and that 18 others are committing to join them. We urge the identified non-cooperative jurisdictions to take the actions requested by the FSB;</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anti-money laundering and combating the financing of terrorism area, […] we urge all jurisdictions and in particular those identified as not complying or making sufficient progress to strengthen their AML/CFT systems in cooperation with the FATF.</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6. “We urge all jurisdictions to adhere to the international standards in the tax, prudential and AML/CFT areas.”</a:t>
            </a:r>
            <a:endParaRPr b="0" lang="en-US" sz="1800" spc="-1" strike="noStrike">
              <a:solidFill>
                <a:srgbClr val="000000"/>
              </a:solidFill>
              <a:latin typeface="Arial"/>
            </a:endParaRPr>
          </a:p>
        </p:txBody>
      </p:sp>
      <p:sp>
        <p:nvSpPr>
          <p:cNvPr id="11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74C2E1C5-C3CF-4D1E-903E-30D7170E90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6000"/>
          </a:bodyPr>
          <a:p>
            <a:pPr marL="260640" indent="-260640">
              <a:lnSpc>
                <a:spcPct val="100000"/>
              </a:lnSpc>
              <a:spcBef>
                <a:spcPts val="601"/>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and L20 (1/4) : </a:t>
            </a:r>
            <a:r>
              <a:rPr b="0" lang="en-US" sz="2600" spc="-1" strike="noStrike">
                <a:solidFill>
                  <a:srgbClr val="000000"/>
                </a:solidFill>
                <a:latin typeface="Calibri"/>
              </a:rPr>
              <a:t>f</a:t>
            </a:r>
            <a:r>
              <a:rPr b="0" lang="en-US" sz="2400" spc="-1" strike="noStrike">
                <a:solidFill>
                  <a:srgbClr val="000000"/>
                </a:solidFill>
                <a:latin typeface="Calibri"/>
              </a:rPr>
              <a:t>or the first time, full report of the B20 with specific recommandations, including the following on financial regulation </a:t>
            </a:r>
            <a:endParaRPr b="1" lang="en-US" sz="2400" spc="-1" strike="noStrike">
              <a:solidFill>
                <a:srgbClr val="000000"/>
              </a:solidFill>
              <a:latin typeface="Arial"/>
            </a:endParaRPr>
          </a:p>
          <a:p>
            <a:pPr lvl="1" marL="564480" indent="-21708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fore any new changes are made, need to take stock of the current regulatory agenda and to set up a structured roadmap for reform, considering the following:</a:t>
            </a:r>
            <a:endParaRPr b="0" lang="en-US" sz="18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mpact assessments of regulatory measures;</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state of implementation and potential unintended consequences for trade finance and SME finance and, more generally, excessive pro-cyclicality; and </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opportunity to routinely use sunset clauses that require regular reviews of how well regulations fulfill their purpose, and either extend their sunset dates or automatically terminate them.</a:t>
            </a:r>
            <a:endParaRPr b="0" lang="en-US" sz="1600" spc="-1" strike="noStrike">
              <a:solidFill>
                <a:srgbClr val="000000"/>
              </a:solidFill>
              <a:latin typeface="Arial"/>
            </a:endParaRPr>
          </a:p>
        </p:txBody>
      </p:sp>
      <p:sp>
        <p:nvSpPr>
          <p:cNvPr id="11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C1B771D6-6A40-47E1-A01F-D1FFF81667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2/4)</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large the regulatory approach to other tools such as macroeconomic and fiscal policies as well as supervision, which have a key role to play. Regulation is not the answer to all current problems. Access to liquidity will not be solved solely through the implementation of the Liquidity Coverage Ratio (LCR).</a:t>
            </a:r>
            <a:endParaRPr b="0" lang="en-US" sz="1800" spc="-1" strike="noStrike">
              <a:solidFill>
                <a:srgbClr val="000000"/>
              </a:solidFill>
              <a:latin typeface="Arial"/>
            </a:endParaRPr>
          </a:p>
        </p:txBody>
      </p:sp>
      <p:sp>
        <p:nvSpPr>
          <p:cNvPr id="11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08E94C8B-1684-467D-95D7-A32648C214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3000"/>
          </a:bodyPr>
          <a:p>
            <a:pPr marL="250200" indent="-2502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3/4)</a:t>
            </a:r>
            <a:endParaRPr b="1" lang="en-US" sz="2600" spc="-1" strike="noStrike">
              <a:solidFill>
                <a:srgbClr val="000000"/>
              </a:solidFill>
              <a:latin typeface="Arial"/>
            </a:endParaRPr>
          </a:p>
          <a:p>
            <a:pPr lvl="1" marL="542160" indent="-2084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ine tools and procedures to ensure consistent implementation of regulatory change. Prevent risk mutating into shadow banking across market segments or regions. Provide clear information to market participants, while preserving the diverse banking ecology that brings resilience to financial systems. In particular:</a:t>
            </a:r>
            <a:endParaRPr b="0" lang="en-US" sz="18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ll policymakers should adhere to corporate governance norms of transparency such as publishing minutes from key meetings, regular consultations and peer reviews;</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eporting on the status of implementation should include a country-by-country comparison that indicates whether member states have under- or overimplemented the reform agenda; and </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country roadmaps would differ on the starting points and needs since those of emerging economies are significantly different from those of more mature markets.</a:t>
            </a:r>
            <a:endParaRPr b="0" lang="en-US" sz="1600" spc="-1" strike="noStrike">
              <a:solidFill>
                <a:srgbClr val="000000"/>
              </a:solidFill>
              <a:latin typeface="Arial"/>
            </a:endParaRPr>
          </a:p>
        </p:txBody>
      </p:sp>
      <p:sp>
        <p:nvSpPr>
          <p:cNvPr id="12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8EBEB03A-D0FA-41E1-968C-EADF4ECC98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7" name="PlaceHolder 2"/>
          <p:cNvSpPr>
            <a:spLocks noGrp="1"/>
          </p:cNvSpPr>
          <p:nvPr>
            <p:ph/>
          </p:nvPr>
        </p:nvSpPr>
        <p:spPr>
          <a:xfrm>
            <a:off x="473040" y="2383920"/>
            <a:ext cx="8285040" cy="396252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for the G-20 in 2011… some examples (1/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orming the international monetary system</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protect our economies against currency speculation and excessive exchange rate volatility</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possible “exchange rate wars”, competitive devaluation, and their economic consequence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hange rate crisis</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8B6D7EBC-F3DD-42E0-9570-F6A30910E1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85000"/>
          </a:bodyPr>
          <a:p>
            <a:pPr marL="291600" indent="-2916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4/4)</a:t>
            </a:r>
            <a:endParaRPr b="1" lang="en-US" sz="26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ments and financial institutions should create the right environment to allow financial services firms, within a proper risk framework, to innovate to meet the biggest social and economic challenges, including a $600 billion a year infrastructure investment gap, demographics, and pension/retirement needs. Financial innovation must address the needs of the “unbanked”, the more than two billion people that have no access to financial institutions.</a:t>
            </a:r>
            <a:endParaRPr b="0" lang="en-US" sz="18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al institutions will support industry-led initiatives such as the Equator Principles and the Carbon Disclosure Project.</a:t>
            </a:r>
            <a:endParaRPr b="0" lang="en-US" sz="1800" spc="-1" strike="noStrike">
              <a:solidFill>
                <a:srgbClr val="000000"/>
              </a:solidFill>
              <a:latin typeface="Arial"/>
            </a:endParaRPr>
          </a:p>
        </p:txBody>
      </p:sp>
      <p:sp>
        <p:nvSpPr>
          <p:cNvPr id="12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A0193A3C-E4CC-4AA3-800F-FF2340F8E0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73040" y="2383920"/>
            <a:ext cx="8285040" cy="400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20 regular forum for Heads of States and Governments</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lacing G7/G8?)</a:t>
            </a:r>
            <a:endParaRPr b="0" lang="en-US" sz="18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 diminishing dynamism</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onitoring process has not yet taken off : 2012 crucial year?</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exican Presidency’s challenges</a:t>
            </a:r>
            <a:endParaRPr b="1" lang="en-US" sz="2600" spc="-1" strike="noStrike">
              <a:solidFill>
                <a:srgbClr val="000000"/>
              </a:solidFill>
              <a:latin typeface="Arial"/>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394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t>
            </a:r>
            <a:r>
              <a:rPr b="1" i="1" lang="en-US" sz="2600" spc="-1" strike="noStrike">
                <a:solidFill>
                  <a:srgbClr val="000000"/>
                </a:solidFill>
                <a:latin typeface="Calibri"/>
              </a:rPr>
              <a:t>Since these mysteries are beyond us, let’s pretend that we arrange them.” - </a:t>
            </a:r>
            <a:r>
              <a:rPr b="1" lang="en-US" sz="2600" spc="-1" strike="noStrike">
                <a:solidFill>
                  <a:srgbClr val="000000"/>
                </a:solidFill>
                <a:latin typeface="Calibri"/>
              </a:rPr>
              <a:t>Jean Cocteau</a:t>
            </a:r>
            <a:endParaRPr b="1" lang="en-US" sz="2600" spc="-1" strike="noStrike">
              <a:solidFill>
                <a:srgbClr val="000000"/>
              </a:solidFill>
              <a:latin typeface="Arial"/>
            </a:endParaRPr>
          </a:p>
        </p:txBody>
      </p:sp>
      <p:sp>
        <p:nvSpPr>
          <p:cNvPr id="12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Conclusion</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9828F1F2-7CDD-487B-8305-B2C01ABC34F8}"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9" name="PlaceHolder 2"/>
          <p:cNvSpPr>
            <a:spLocks noGrp="1"/>
          </p:cNvSpPr>
          <p:nvPr>
            <p:ph/>
          </p:nvPr>
        </p:nvSpPr>
        <p:spPr>
          <a:xfrm>
            <a:off x="473040" y="2383920"/>
            <a:ext cx="8285040" cy="26514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2/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ressing the excessive volatility of commodity pric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new food crisis in lowincome countries like those in 2008</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ecure commodities access, allowing development and growth</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essive speculation and secure sustainable prices to producers</a:t>
            </a:r>
            <a:endParaRPr b="0" lang="en-US" sz="1800" spc="-1" strike="noStrike">
              <a:solidFill>
                <a:srgbClr val="000000"/>
              </a:solidFill>
              <a:latin typeface="Arial"/>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B93E1993-9CA6-4F35-90F0-CF746501E2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1" name="PlaceHolder 2"/>
          <p:cNvSpPr>
            <a:spLocks noGrp="1"/>
          </p:cNvSpPr>
          <p:nvPr>
            <p:ph/>
          </p:nvPr>
        </p:nvSpPr>
        <p:spPr>
          <a:xfrm>
            <a:off x="473040" y="2384280"/>
            <a:ext cx="8285040" cy="2790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3/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apting global governance to contemporary issu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ed for better cooperation</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 contemporary global issues within modern multilateral structures </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tional bodies need to improve their efficiency and representativenes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verlap of mandates of international organizations</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EAED8E2F-85BD-4B90-A982-94312C5DBA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3" name="PlaceHolder 2"/>
          <p:cNvSpPr>
            <a:spLocks noGrp="1"/>
          </p:cNvSpPr>
          <p:nvPr>
            <p:ph/>
          </p:nvPr>
        </p:nvSpPr>
        <p:spPr>
          <a:xfrm>
            <a:off x="473040" y="2383920"/>
            <a:ext cx="8285040" cy="360576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which has been overtaken by the resurgence of the crisis, notably in the Eurozone</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st illustration : the time spent in Cannes on the Eurozone crisis, with the emergency European meeting with Mr. Papandreou at the eve of the Summit, only one week after two successive European Summits;</a:t>
            </a:r>
            <a:endParaRPr b="0" lang="en-US" sz="2000" spc="-1" strike="noStrike">
              <a:solidFill>
                <a:srgbClr val="000000"/>
              </a:solidFill>
              <a:latin typeface="Arial"/>
            </a:endParaRPr>
          </a:p>
          <a:p>
            <a:pPr lvl="1" marL="735480" indent="-282960">
              <a:lnSpc>
                <a:spcPct val="100000"/>
              </a:lnSpc>
              <a:spcBef>
                <a:spcPts val="60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conomic and financial situation has also worsened in other regions of the world</a:t>
            </a:r>
            <a:r>
              <a:rPr b="0" lang="en-US" sz="2400" spc="-1" strike="noStrike">
                <a:solidFill>
                  <a:srgbClr val="000000"/>
                </a:solidFill>
                <a:latin typeface="Calibri"/>
              </a:rPr>
              <a:t> </a:t>
            </a:r>
            <a:endParaRPr b="0" lang="en-US" sz="24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United States</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Japan</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lower growth in emerging countri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2B54094-32EE-448A-BF04-4AA425045E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77360" y="2781360"/>
            <a:ext cx="8285400" cy="94716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 </a:t>
            </a:r>
            <a:r>
              <a:rPr b="1" lang="fr-FR" sz="2800" spc="-1" strike="noStrike">
                <a:solidFill>
                  <a:srgbClr val="000000"/>
                </a:solidFill>
                <a:latin typeface="Calibri"/>
              </a:rPr>
              <a:t>but some significant developments took place in financial regulation in 2011 at the G-20 level</a:t>
            </a:r>
            <a:endParaRPr b="1" lang="en-US" sz="2800" spc="-1" strike="noStrike">
              <a:solidFill>
                <a:srgbClr val="000000"/>
              </a:solidFill>
              <a:latin typeface="Arial"/>
            </a:endParaRPr>
          </a:p>
        </p:txBody>
      </p:sp>
      <p:sp>
        <p:nvSpPr>
          <p:cNvPr id="3" name="PlaceHolder 2"/>
          <p:cNvSpPr>
            <a:spLocks noGrp="1"/>
          </p:cNvSpPr>
          <p:nvPr>
            <p:ph type="sldNum" idx="3"/>
          </p:nvPr>
        </p:nvSpPr>
        <p:spPr/>
        <p:txBody>
          <a:bodyPr/>
          <a:p>
            <a:fld id="{C79DD1F7-1E79-4ED4-A030-EED485F687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73040" y="2383920"/>
            <a:ext cx="8285040" cy="39330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1 – Monitoring</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substantial in 2011, but comittments for 2012</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 “We agree to intensify our monitoring of financial regulatory reforms, report on our progress and track our deficiencies. To do so, we endorse the FSB coordination framework for implementation monitoring, notably on key areas such as the Basel capital and liquidity frameworks, OTC derivatives reforms, compensation practices, G-SIFI policies, resolution frameworks, and shadow banking. This work will build on the monitoring activities conducted by standard setting bodies to the extent possible. We stress the need to report the results of this monitoring to the public including on an annual basis through a traffic lights scoreboard prepared by the FSB. We welcome its first publication today and commit to take all necessary actions to progress in the areas where deficiencies have been identified.”</a:t>
            </a:r>
            <a:endParaRPr b="0" lang="en-US" sz="1800" spc="-1" strike="noStrike">
              <a:solidFill>
                <a:srgbClr val="000000"/>
              </a:solidFill>
              <a:latin typeface="Arial"/>
            </a:endParaRPr>
          </a:p>
        </p:txBody>
      </p:sp>
      <p:sp>
        <p:nvSpPr>
          <p:cNvPr id="9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0B24D05C-1045-464E-B882-E1A4268D26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73040" y="2384280"/>
            <a:ext cx="8285040" cy="44452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2 – Approval of SIFIs’ framework </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 “We are determined to make sure that no financial firm is “too big to fail” and that taxpayers should not bear the costs of resolution. To this end, we endorse the FSB comprehensive policy framework, comprising a new international standard for resolution regimes, more intensive and effective supervision, and requirements for cross-border cooperation and recovery and resolution planning as well as, from 2016, additional loss absorbency for those banks determined as global systemically important financial institutions (G-SIFIs). […] We will implement the FSB standards and recommendations within the agreed timelines and commit to undertake the necessary legislative changes, step up cooperation amongst authorities and strengthen supervisory mandates and powers.”</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 “We ask the FSB in consultation with the BCBS, to deliver a progress report by the G20 April Finance meeting on the definition of the modalities to extend expeditiously the G SIFI framework to domestic systemically important banks.“</a:t>
            </a:r>
            <a:endParaRPr b="0" lang="en-US" sz="1800" spc="-1" strike="noStrike">
              <a:solidFill>
                <a:srgbClr val="000000"/>
              </a:solidFill>
              <a:latin typeface="Arial"/>
            </a:endParaRPr>
          </a:p>
        </p:txBody>
      </p:sp>
      <p:sp>
        <p:nvSpPr>
          <p:cNvPr id="9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F68AB434-7CE7-46E0-8B14-0FCF68CC9D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73040" y="2383920"/>
            <a:ext cx="8285040" cy="35658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 – Orientations regarding the shadow banking system</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 The shadow banking system can create opportunities for regulatory arbitrage and cause the build-up of systemic risk outside the scope of the regulated banking sector. To this end, we agree to strengthen the regulation and oversight of the shadow banking system and endorse the FSB initial eleven recommendations with a work-plan to further develop them in the course of 2012, building on a balanced approach between indirect regulation of shadow banking through banks and direct regulation of shadow banking activities, including money markets funds, securitization, securities lending and repo activities, and other shadow banking entities. We ask Finance Ministers and Central Bank Governors to review the progress made in this area at their April meeting.”</a:t>
            </a:r>
            <a:endParaRPr b="0" lang="en-US" sz="1800" spc="-1" strike="noStrike">
              <a:solidFill>
                <a:srgbClr val="000000"/>
              </a:solidFill>
              <a:latin typeface="Arial"/>
            </a:endParaRPr>
          </a:p>
        </p:txBody>
      </p:sp>
      <p:sp>
        <p:nvSpPr>
          <p:cNvPr id="10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3E8FC1FD-B5CE-4E6F-9148-B9E83F4A4A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4T09:09:34Z</dcterms:created>
  <dc:creator>Onefiftyfor - 154</dc:creator>
  <dc:description/>
  <dc:language>en-US</dc:language>
  <cp:lastModifiedBy>FBF</cp:lastModifiedBy>
  <dcterms:modified xsi:type="dcterms:W3CDTF">2011-12-07T15:28:06Z</dcterms:modified>
  <cp:revision>72</cp:revision>
  <dc:subject/>
  <dc:title>20111014_G20 JFP pour Associates FB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 PowerPoint FBF</vt:lpwstr>
  </property>
  <property fmtid="{D5CDD505-2E9C-101B-9397-08002B2CF9AE}" pid="3" name="EXAKIS_Archive">
    <vt:lpwstr>0</vt:lpwstr>
  </property>
  <property fmtid="{D5CDD505-2E9C-101B-9397-08002B2CF9AE}" pid="4" name="EXAKIS_Chrono">
    <vt:lpwstr>1</vt:lpwstr>
  </property>
  <property fmtid="{D5CDD505-2E9C-101B-9397-08002B2CF9AE}" pid="5" name="EXAKIS_ChronoName">
    <vt:lpwstr>G20 JFP pour Associates FBE</vt:lpwstr>
  </property>
  <property fmtid="{D5CDD505-2E9C-101B-9397-08002B2CF9AE}" pid="6" name="FBF_Auteur">
    <vt:lpwstr>Estelle Brack</vt:lpwstr>
  </property>
  <property fmtid="{D5CDD505-2E9C-101B-9397-08002B2CF9AE}" pid="7" name="FBF_DateCreation">
    <vt:lpwstr>2011-10-14T11:09:34Z</vt:lpwstr>
  </property>
  <property fmtid="{D5CDD505-2E9C-101B-9397-08002B2CF9AE}" pid="8" name="FBF_DateModification">
    <vt:lpwstr>2011-10-14T00:00:00Z</vt:lpwstr>
  </property>
  <property fmtid="{D5CDD505-2E9C-101B-9397-08002B2CF9AE}" pid="9" name="FBF_Nature">
    <vt:lpwstr>13</vt:lpwstr>
  </property>
  <property fmtid="{D5CDD505-2E9C-101B-9397-08002B2CF9AE}" pid="10" name="FBF_Position">
    <vt:lpwstr/>
  </property>
  <property fmtid="{D5CDD505-2E9C-101B-9397-08002B2CF9AE}" pid="11" name="FBF_Source">
    <vt:lpwstr>1</vt:lpwstr>
  </property>
  <property fmtid="{D5CDD505-2E9C-101B-9397-08002B2CF9AE}" pid="12" name="FBF_Theme">
    <vt:lpwstr/>
  </property>
  <property fmtid="{D5CDD505-2E9C-101B-9397-08002B2CF9AE}" pid="13" name="FBF_Type">
    <vt:lpwstr>23</vt:lpwstr>
  </property>
  <property fmtid="{D5CDD505-2E9C-101B-9397-08002B2CF9AE}" pid="14" name="FBF_Version">
    <vt:lpwstr/>
  </property>
</Properties>
</file>