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F64-A67C-4015-BE4B-64EEF8B1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47C-0D8A-4665-96F6-00993D2B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EE73-6890-4564-A79F-D21BF6C9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0E8-3382-43AF-9E61-F181521B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4B49-13A3-4AE0-8C04-252768F3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240-37D1-4D3F-AA1E-76DF79D4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B21-BE8B-4631-A8D0-D2E162D2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573-2A1E-4A94-9264-D2EAAB2D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1F9C-1D97-4A15-92E7-900896F6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2EB-2EA3-4302-AFE6-97DC2918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6B9-EF4C-4712-84FD-24B25421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8275-4988-4E51-B69C-8B8D2FA1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076C-1F22-4437-8767-5E5AB19FE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the EU legislation concerning financial sector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8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9 December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Directors remun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should ensure that listed companies disclose their policy on directors’ remun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to adopt measures in four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muneration poli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hareholders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sclosure of the remuneration of individual directo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proval of share and share option sche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role of independent Direc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have been invited to reinforce the presence and role of independent non-executive directors on listed companies’ boar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 to protect shareholders, employees and the public against potential conflicts of interest by an independent check on management dec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opted by the European commission on 30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co-ordinated action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nancial servic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any la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count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x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pervision and enforcement area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olicy initiatives in taxation and law enforcement field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element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nhanced transpa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mproved traceabil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etter co-ordinated enforc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of the anti-money laundering Directive (June 200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5. Propose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to amend the Second Company law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29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ed Directive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fy the formation, maintenance and alteration of companies’ capit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 the related parts of the Second Company law Dire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s proposal is a part of Commission’s Action Plan on Company Law and Corporate Gover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r key revisions of the EU’s Accounting Directiv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8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key revis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that board members are collectively responsible for financial statements and key non-financial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unlisted companies’ transactions with related parties more transpar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that all companies provide full information about off-balance sheet arrangemen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listed companies issue an annual “corporate governance statement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Capital requirements framework for banks and investment firm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14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al is aimed 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ing the coherent application throughout the EU of the new international capital requirements framework recently agreed by the Basel Committee (BASEL I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sure that financial institutions capital is more closely aligned with the risks they f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ing consumer protec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ing the financial s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pdate of the 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30 June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and improve the EU’s existing anti-money laundering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den the scope of the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sure the coherent application in all Member States of the latest Recommendations of the FAT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to CESR for technical advise on possible measures concerning the credit rating agencie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. Consulta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n Basic shareholders’ righ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European Commission on 16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ing the exercise of basic shareholders’ rights in company general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ing the problems in cross-border exercise of such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 for a Directive has been consid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the responses – 16 December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l to CESR for technical advise on possible measures concerning the credit rating agenci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610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uropean commission has provided the CESR with a call for technical advice on 5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core issues to be address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conflicts of interests within rating agenc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cy of rating agencies’ methodolog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treatment of rating agencies’ access to inside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s about possible lack of competition in the market for provision of credit rat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quested deadline for delivery of advice is 1 April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2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y to prevent financial and corporate malpractice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IAS 39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9 Nov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 (Recognition and measure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provisions on the use of the full fair value option and on hedge accounting are exclud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egally binding from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4-12-15T13:56:13Z</dcterms:modified>
  <cp:revision>479</cp:revision>
  <dc:subject/>
  <dc:title>PROPOSED AMENDMENTS AND LATEST CHANGES IN THE EU DIRECTIVES FOR THE FINANCIAL SECTOR </dc:title>
</cp:coreProperties>
</file>