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89D7-43A1-4432-9F4A-49C12A205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BA53-727D-48A0-B9DD-656DF704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0DDE-D880-415A-A84F-7132D869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DA26-651F-430B-9E73-DE6B7D2BC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74D3-B49D-4DD1-AC3C-CE44C343B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DEEC-4EE2-4F1F-9E78-35CE3BA7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8145-EC54-42F1-911F-90A5EEF4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2705-95E6-43DB-A69B-3126ADC3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0282-4CDE-4046-8186-5D7A00C2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EA02-9DDE-42ED-B83E-269C9764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06BD-6037-4C0E-B4D3-448F6F29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E809-D06B-4DE6-AF00-993BB16E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4D0D-6908-4BB6-8E4E-1B61A7AC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812C-539F-42AA-916C-B5B4F45C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6A5C-A5A0-4AAC-A4E9-B70CF8D7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CE17-567D-415C-981B-ADAF6060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5513-E918-400F-ACE2-0146EB5D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90FF-6AD2-44BC-92DC-7A4352CF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DE1B-EC78-47AE-8038-03833081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4544-9949-4927-885C-E5C3871D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0F3D-F4D0-4A6B-AD24-9219C4E0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870F-9F96-4A3D-85E3-E6902B8E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0EBB-8E1C-4177-8C34-C1C937EC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C15A-D61D-4C33-90C2-AE8E09F7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CA6B-F89D-4842-B516-9D8755505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C689-B83A-45AD-B0B2-78373646C3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N-EUROPEAN PENSION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&amp;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US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REGIME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ptional laws to create non complicated pan-EU produc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o exist alongside national legal system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nsumers choose between national laws and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ffered to multinational and local consumers – focus on retail secto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uitable for fragmented markets (where 25 regimes exist), e.g. consumer credi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Less relevant for harmonised markets  (where a single regime has replaced national laws) e.g. wholesa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Integrates fragmented marke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Quick to implem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Consumer choice and economies of sc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Tax incentives on 26</a:t>
            </a:r>
            <a:r>
              <a:rPr b="0" lang="en-GB" sz="28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 regime produ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948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Dis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Multiplicity of legal system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Unlevel playing field between ban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Better alternatives to create convergence and flexibilit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V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… 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ust one option of many to integrate the    retail financial services market…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scale of the EU’s ageing problem is so enormous that more radical alternatives to traditional approaches are needed.”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uropean Financial Services Roundtable (EFR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FR has developed a series of framework principles to develop a pan-European pension product delivered through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BE will comment this initiativ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mmission will consider EFR’s proposals and then decide on how to take the issue forwar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YOUR VIEWS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48360" y="5157720"/>
            <a:ext cx="1922760" cy="609840"/>
          </a:xfrm>
          <a:prstGeom prst="wedgeRectCallout">
            <a:avLst>
              <a:gd name="adj1" fmla="val 5407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re the drawbac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3933720"/>
            <a:ext cx="2376360" cy="1150920"/>
          </a:xfrm>
          <a:prstGeom prst="wedgeRoundRectCallout">
            <a:avLst>
              <a:gd name="adj1" fmla="val -40847"/>
              <a:gd name="adj2" fmla="val 9013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re an ageing population problem in your count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5157720"/>
            <a:ext cx="2952720" cy="1079640"/>
          </a:xfrm>
          <a:prstGeom prst="wedgeEllipseCallout">
            <a:avLst>
              <a:gd name="adj1" fmla="val -48064"/>
              <a:gd name="adj2" fmla="val 37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 EFR proposal the sol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2133720"/>
            <a:ext cx="2376360" cy="1582560"/>
          </a:xfrm>
          <a:prstGeom prst="cloudCallout">
            <a:avLst>
              <a:gd name="adj1" fmla="val -95689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viable is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1700280"/>
            <a:ext cx="3097440" cy="1512720"/>
          </a:xfrm>
          <a:prstGeom prst="wedgeEllipseCallout">
            <a:avLst>
              <a:gd name="adj1" fmla="val -52972"/>
              <a:gd name="adj2" fmla="val 61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ch other areas could make use of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76720" y="3573360"/>
            <a:ext cx="2951280" cy="1582920"/>
          </a:xfrm>
          <a:prstGeom prst="cloudCallout">
            <a:avLst>
              <a:gd name="adj1" fmla="val -86791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y other alternatives to address the pensions cri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ANY QUESTIONS?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FBE Contact:  Stephen Fisher (</a:t>
            </a:r>
            <a:r>
              <a:rPr b="0" lang="en-GB" sz="2000" spc="-1" strike="noStrike" u="sng">
                <a:solidFill>
                  <a:srgbClr val="2a0dd9"/>
                </a:solidFill>
                <a:uFillTx/>
                <a:latin typeface="Arial"/>
              </a:rPr>
              <a:t>s.fisher@fbe.be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5:40Z</dcterms:modified>
  <cp:revision>46</cp:revision>
  <dc:subject/>
  <dc:title> CAPITAL REQUIREMENTS DIRECTIVE: OPPORTUNITIES AND CHALLENGES</dc:title>
</cp:coreProperties>
</file>