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95aa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631400"/>
            <a:ext cx="82296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95aa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40158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997000"/>
            <a:ext cx="40158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631400"/>
            <a:ext cx="40158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631400"/>
            <a:ext cx="40158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95aa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26496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997000"/>
            <a:ext cx="26496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997000"/>
            <a:ext cx="26496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631400"/>
            <a:ext cx="26496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631400"/>
            <a:ext cx="26496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631400"/>
            <a:ext cx="26496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95aa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95aa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95aa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40158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997000"/>
            <a:ext cx="40158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95a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95aa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40158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997000"/>
            <a:ext cx="40158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631400"/>
            <a:ext cx="40158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95aa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95aa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40158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997000"/>
            <a:ext cx="40158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631400"/>
            <a:ext cx="40158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95aa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40158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997000"/>
            <a:ext cx="40158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631400"/>
            <a:ext cx="82296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95aa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631400"/>
            <a:ext cx="82296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95aa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40158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997000"/>
            <a:ext cx="40158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631400"/>
            <a:ext cx="40158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631400"/>
            <a:ext cx="40158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95aa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26496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997000"/>
            <a:ext cx="26496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997000"/>
            <a:ext cx="26496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631400"/>
            <a:ext cx="26496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631400"/>
            <a:ext cx="26496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631400"/>
            <a:ext cx="26496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95aa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95aa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40158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997000"/>
            <a:ext cx="40158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95a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95aa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40158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997000"/>
            <a:ext cx="40158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631400"/>
            <a:ext cx="40158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95aa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40158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997000"/>
            <a:ext cx="40158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631400"/>
            <a:ext cx="40158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95aa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40158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997000"/>
            <a:ext cx="40158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631400"/>
            <a:ext cx="82296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95aa6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95aa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40">
              <a:spcBef>
                <a:spcPts val="451"/>
              </a:spcBef>
              <a:buClr>
                <a:srgbClr val="000000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80" indent="-1440">
              <a:spcBef>
                <a:spcPts val="451"/>
              </a:spcBef>
              <a:buClr>
                <a:srgbClr val="000000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6524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525760" indent="-3808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525760" indent="-3808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525760" indent="-3808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84720" y="645300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072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7277"/>
                </a:solidFill>
                <a:latin typeface="Times New Roman"/>
              </a:rPr>
              <a:t>British Bankers’ Associ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524720" y="333360"/>
            <a:ext cx="1257480" cy="10191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16000">
            <a:solidFill>
              <a:srgbClr val="095a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5a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99736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6084720" y="645300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ritish Bankers’ Associ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115920"/>
            <a:ext cx="892800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04000" y="620640"/>
            <a:ext cx="1800360" cy="1467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44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80" indent="-1440" algn="ctr">
              <a:spcBef>
                <a:spcPts val="4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1276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316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316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316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5a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299736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ublic-Private Partnership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gela Knight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ef Execu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95aa6"/>
                </a:solidFill>
                <a:latin typeface="Arial"/>
              </a:rPr>
              <a:t>History</a:t>
            </a:r>
            <a:endParaRPr b="0" lang="en-US" sz="3000" spc="-1" strike="noStrike">
              <a:solidFill>
                <a:srgbClr val="095aa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79 – Privatis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92 – Private Finance Initiat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97 – Public Private Partner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95aa6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95aa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FI constitutes a small but important part in the Government’s strategy for delivering public servic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im of PFI is to achieve closer partnership between the public and private sectors at both central government and local authority leve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guiding principles of PFI are that there should be a genuine transfer of risk to the private sector and value for money secur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95aa6"/>
                </a:solidFill>
                <a:latin typeface="Arial"/>
              </a:rPr>
              <a:t>UK Experience of PFI</a:t>
            </a:r>
            <a:endParaRPr b="0" lang="en-US" sz="3000" spc="-1" strike="noStrike">
              <a:solidFill>
                <a:srgbClr val="095aa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t end 2006, 835 PFI projects have been  signed with a capital value of £61.7b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00 projects worth £26bn are likely to be signed by 2010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FI accounts for 10-15 per cent of UK public investment since 1996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tracts have been focused in the areas of Transport, Health and Educ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vernment payments in 2007-08 are estimated at £7.3bn. Payments are currently forecast until 2031-32 – so we are in this for the long ter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24000" y="1557360"/>
          <a:ext cx="84960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57360"/>
                    <a:ext cx="84960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6948360" y="623736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urce: IFS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95aa6"/>
                </a:solidFill>
                <a:latin typeface="Arial"/>
              </a:rPr>
              <a:t>PFI in Europe</a:t>
            </a:r>
            <a:endParaRPr b="0" lang="en-US" sz="3000" spc="-1" strike="noStrike">
              <a:solidFill>
                <a:srgbClr val="095aa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total value of EU PFI contracts (excluding UK) stands a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€55bn (end 2006). 189 contracts are currently being negotiated worth €55b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95aa6"/>
                </a:solidFill>
                <a:latin typeface="Arial"/>
              </a:rPr>
              <a:t>Mechanics of PFI</a:t>
            </a:r>
            <a:endParaRPr b="0" lang="en-US" sz="3000" spc="-1" strike="noStrike">
              <a:solidFill>
                <a:srgbClr val="095aa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FI contracts usually include three sources of finance: senior debt, mezzanine debt and equit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isk capital contributes 10-20 per cent of the total capital in a PFI projec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nce 2001, the UK accounting rules have permitted expenses (after the preferred bidder stage) to be capitalised. Until this stage they must be expens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nce a September 2006 Office for National Statistics ruling, however, the Government has included finance lease liabilities which arise from PFI in its calculation of PSND. This revision raised PSND by £5bn or 0.4 per cent of GDP at end of March 2006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re is no specific IFRS setting out how public sector elements on PFI projects should be report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95aa6"/>
                </a:solidFill>
                <a:latin typeface="Arial"/>
              </a:rPr>
              <a:t>Does PFI Offer Value for Money?</a:t>
            </a:r>
            <a:endParaRPr b="0" lang="en-US" sz="3000" spc="-1" strike="noStrike">
              <a:solidFill>
                <a:srgbClr val="095aa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ponents of PFI argue it provides better value for money by achieving lower construction costs, transferring risk and lowering operating co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wever, repeated studies have found the taxpayer is not always getting the best dea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vernment has established standard contract guidance to provide a framework for individual project negotia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NAO study shows that only 22 per cent of PFI projects were delivered late compared to 70 per cent of comparable public sector projec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rge IT contracts often run into difficulty (to put it mildly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08:52:26Z</dcterms:created>
  <dc:creator>Helena Dillon</dc:creator>
  <dc:description/>
  <dc:language>en-US</dc:language>
  <cp:lastModifiedBy>mumcum</cp:lastModifiedBy>
  <dcterms:modified xsi:type="dcterms:W3CDTF">2007-08-06T07:39:45Z</dcterms:modified>
  <cp:revision>4</cp:revision>
  <dc:subject/>
  <dc:title>Public-Private Partnership Angela Knight Chief Executive</dc:title>
</cp:coreProperties>
</file>