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DFDE52-36C2-491A-A849-2B0D431CA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ubstituent număr diapozitiv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DC22447-90F6-4CDC-B7BC-1600B84E27A5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ubstituent antet 4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suggest “</a:t>
            </a: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Based on public-private consultations THROUGH RI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C1CB-8972-4B87-B5EC-0BBDB048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204F-FEAE-42E1-B705-3AA7753B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EDB9-6FA4-4087-9BA0-3FC15344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570-986A-439E-ABEE-D6B4A6E1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D7A2-7EBD-4831-9ED5-9849FDA2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9A44-8370-472C-B5A1-98B9289C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5099-A5BA-46B0-9468-FACFB7F0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A323-97CE-4390-B3B5-B1ABDCB3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9A1B-6BE9-4ECB-8C19-08E44F20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F510-E7A5-4AAD-BA1A-F944C556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8924-7D6D-4609-B8EA-9C517085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4E35-FDCC-400C-ABFE-2919401E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C474-62A7-4A92-83EF-94B5AF0B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25FA2-A370-4131-AB82-57F685DE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1E19-7459-49EA-BD87-86426C8E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E664-C176-4491-8547-266A46C97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C2B3-B110-4505-9189-C3C23869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20F6-612D-4E9C-98D7-BEC5FBBB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29E-EE61-40C2-8B0F-C1A15085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EA18-173B-45D9-A7EC-771234BF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13E3-4FA4-4EAD-94D4-CE5C0CC6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18D3-6321-4B0E-B4DA-2EB34798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EEE5-FDE3-4382-BFE5-5A459B76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3DC-8AA2-439E-AE3E-7E4CFCEF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FAA9-9790-4781-AC19-BBEFE575B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20A8-36AE-4A37-BFA4-D553BBFCB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i-romania.eu/spi-secretariat/activity-reports/" TargetMode="External"/><Relationship Id="rId3" Type="http://schemas.openxmlformats.org/officeDocument/2006/relationships/hyperlink" Target="http://www.spi-romania.eu/spi-secretariat/activity-reports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90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C098-813F-40BD-BDD0-B34A786CB246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4868640"/>
            <a:ext cx="8370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European Banking Federation                               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27</a:t>
            </a:r>
            <a:r>
              <a:rPr b="0" lang="en-US" sz="2400" spc="-1" strike="noStrike" baseline="30000">
                <a:solidFill>
                  <a:srgbClr val="898989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 Meeting of the Associates                                                                     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Brussels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4 December 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2008</a:t>
            </a:r>
            <a:r>
              <a:rPr b="0" lang="ro-RO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Luigi Passamo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Head, Convergence Program,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blic-Priv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outh-East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’s Convergence Program SPI Plat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276640"/>
            <a:ext cx="734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168720" cy="117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2565360"/>
            <a:ext cx="8209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4 Dec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5365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SPI Romania Activity</a:t>
            </a:r>
            <a:br>
              <a:rPr sz="2400"/>
            </a:b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spi-romania.eu/spi-secretariat/activity-reports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asetăText 19"/>
          <p:cNvSpPr/>
          <p:nvPr/>
        </p:nvSpPr>
        <p:spPr>
          <a:xfrm>
            <a:off x="250920" y="1484280"/>
            <a:ext cx="49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ncial Impact of Finalized SPI Projects (€ Mln) – First Ful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ubstituent număr diapozitiv 18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56EA-11C3-489A-BCEF-8E3F727C3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55760" y="1754280"/>
            <a:ext cx="39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lume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57040" y="6324480"/>
            <a:ext cx="50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Lending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0360" y="2198520"/>
            <a:ext cx="404316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630360" y="2182680"/>
            <a:ext cx="0" cy="384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777960" y="59612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596880" y="56088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596880" y="51832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96880" y="47592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596880" y="43354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596880" y="39099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596880" y="34862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96880" y="30621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596880" y="26384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596880" y="221292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630360" y="603252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 flipV="1">
            <a:off x="63036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23176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 flipV="1">
            <a:off x="400212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46720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480600" y="597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418680" y="5546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418680" y="512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418680" y="469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418680" y="4273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418680" y="3848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2"/>
          <p:cNvSpPr/>
          <p:nvPr/>
        </p:nvSpPr>
        <p:spPr>
          <a:xfrm>
            <a:off x="418680" y="342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418680" y="3000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4"/>
          <p:cNvSpPr/>
          <p:nvPr/>
        </p:nvSpPr>
        <p:spPr>
          <a:xfrm>
            <a:off x="418680" y="2576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418680" y="2152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620280" y="6124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22201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390456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45745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3"/>
          <p:cNvSpPr/>
          <p:nvPr/>
        </p:nvSpPr>
        <p:spPr>
          <a:xfrm flipV="1">
            <a:off x="660240" y="5033520"/>
            <a:ext cx="925560" cy="98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1688760" y="3664080"/>
            <a:ext cx="99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it Instrument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1324080" y="35211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2795760" y="33400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2368440" y="2793960"/>
            <a:ext cx="33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"/>
          <p:cNvSpPr/>
          <p:nvPr/>
        </p:nvSpPr>
        <p:spPr>
          <a:xfrm>
            <a:off x="860760" y="5791320"/>
            <a:ext cx="80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9"/>
          <p:cNvSpPr/>
          <p:nvPr/>
        </p:nvSpPr>
        <p:spPr>
          <a:xfrm>
            <a:off x="1439280" y="324468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k 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1"/>
          <p:cNvSpPr/>
          <p:nvPr/>
        </p:nvSpPr>
        <p:spPr>
          <a:xfrm>
            <a:off x="723960" y="5910120"/>
            <a:ext cx="60120" cy="71640"/>
          </a:xfrm>
          <a:prstGeom prst="pie">
            <a:avLst/>
          </a:pr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5"/>
          <p:cNvSpPr/>
          <p:nvPr/>
        </p:nvSpPr>
        <p:spPr>
          <a:xfrm flipV="1">
            <a:off x="1590840" y="3578400"/>
            <a:ext cx="41040" cy="1420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 flipV="1">
            <a:off x="1611360" y="3460320"/>
            <a:ext cx="181080" cy="133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 flipV="1">
            <a:off x="2720880" y="2889360"/>
            <a:ext cx="0" cy="511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9"/>
          <p:cNvSpPr/>
          <p:nvPr/>
        </p:nvSpPr>
        <p:spPr>
          <a:xfrm flipV="1">
            <a:off x="1806480" y="3403440"/>
            <a:ext cx="912960" cy="52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1558800" y="5000760"/>
            <a:ext cx="93960" cy="7452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0"/>
          <p:cNvSpPr/>
          <p:nvPr/>
        </p:nvSpPr>
        <p:spPr>
          <a:xfrm flipH="1">
            <a:off x="1596240" y="3699000"/>
            <a:ext cx="8244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1"/>
          <p:cNvSpPr/>
          <p:nvPr/>
        </p:nvSpPr>
        <p:spPr>
          <a:xfrm>
            <a:off x="1585800" y="3527280"/>
            <a:ext cx="57240" cy="828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2"/>
          <p:cNvSpPr/>
          <p:nvPr/>
        </p:nvSpPr>
        <p:spPr>
          <a:xfrm>
            <a:off x="1774800" y="3416400"/>
            <a:ext cx="6660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3"/>
          <p:cNvSpPr/>
          <p:nvPr/>
        </p:nvSpPr>
        <p:spPr>
          <a:xfrm>
            <a:off x="2695680" y="3373560"/>
            <a:ext cx="56880" cy="540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4"/>
          <p:cNvSpPr/>
          <p:nvPr/>
        </p:nvSpPr>
        <p:spPr>
          <a:xfrm>
            <a:off x="2695680" y="2867040"/>
            <a:ext cx="56880" cy="522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5"/>
          <p:cNvSpPr/>
          <p:nvPr/>
        </p:nvSpPr>
        <p:spPr>
          <a:xfrm rot="16200000">
            <a:off x="-2206080" y="3906720"/>
            <a:ext cx="46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8"/>
          <p:cNvSpPr/>
          <p:nvPr/>
        </p:nvSpPr>
        <p:spPr>
          <a:xfrm rot="5400000">
            <a:off x="3799080" y="44424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st Savings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0"/>
          <p:cNvSpPr/>
          <p:nvPr/>
        </p:nvSpPr>
        <p:spPr>
          <a:xfrm>
            <a:off x="776160" y="1700280"/>
            <a:ext cx="4029120" cy="331560"/>
          </a:xfrm>
          <a:prstGeom prst="rightArrow">
            <a:avLst>
              <a:gd name="adj1" fmla="val 50000"/>
              <a:gd name="adj2" fmla="val 303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2"/>
          <p:cNvSpPr/>
          <p:nvPr/>
        </p:nvSpPr>
        <p:spPr>
          <a:xfrm rot="16200000">
            <a:off x="3294000" y="3887280"/>
            <a:ext cx="3848040" cy="425520"/>
          </a:xfrm>
          <a:prstGeom prst="rightArrow">
            <a:avLst>
              <a:gd name="adj1" fmla="val 50000"/>
              <a:gd name="adj2" fmla="val 22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4575240" y="27446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4"/>
          <p:cNvSpPr/>
          <p:nvPr/>
        </p:nvSpPr>
        <p:spPr>
          <a:xfrm>
            <a:off x="636480" y="602784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5"/>
          <p:cNvSpPr/>
          <p:nvPr/>
        </p:nvSpPr>
        <p:spPr>
          <a:xfrm flipV="1">
            <a:off x="1111320" y="5920920"/>
            <a:ext cx="201600" cy="165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6"/>
          <p:cNvSpPr/>
          <p:nvPr/>
        </p:nvSpPr>
        <p:spPr>
          <a:xfrm flipH="1">
            <a:off x="1306080" y="5904000"/>
            <a:ext cx="1116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7"/>
          <p:cNvSpPr/>
          <p:nvPr/>
        </p:nvSpPr>
        <p:spPr>
          <a:xfrm flipV="1">
            <a:off x="1309680" y="5973840"/>
            <a:ext cx="223920" cy="201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9"/>
          <p:cNvSpPr/>
          <p:nvPr/>
        </p:nvSpPr>
        <p:spPr>
          <a:xfrm>
            <a:off x="2716200" y="2894040"/>
            <a:ext cx="1962000" cy="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3"/>
          <p:cNvSpPr/>
          <p:nvPr/>
        </p:nvSpPr>
        <p:spPr>
          <a:xfrm>
            <a:off x="189000" y="274644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Arial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4"/>
          <p:cNvSpPr/>
          <p:nvPr/>
        </p:nvSpPr>
        <p:spPr>
          <a:xfrm flipV="1">
            <a:off x="2816280" y="602424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5"/>
          <p:cNvSpPr/>
          <p:nvPr/>
        </p:nvSpPr>
        <p:spPr>
          <a:xfrm>
            <a:off x="604800" y="2881440"/>
            <a:ext cx="349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ector drept 170"/>
          <p:cNvSpPr/>
          <p:nvPr/>
        </p:nvSpPr>
        <p:spPr>
          <a:xfrm>
            <a:off x="627120" y="3875040"/>
            <a:ext cx="2185920" cy="216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ector drept 171"/>
          <p:cNvSpPr/>
          <p:nvPr/>
        </p:nvSpPr>
        <p:spPr>
          <a:xfrm>
            <a:off x="638280" y="2506680"/>
            <a:ext cx="3671640" cy="3500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tăText 95"/>
          <p:cNvSpPr/>
          <p:nvPr/>
        </p:nvSpPr>
        <p:spPr>
          <a:xfrm rot="2788800">
            <a:off x="1830240" y="465192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ector drept 173"/>
          <p:cNvSpPr/>
          <p:nvPr/>
        </p:nvSpPr>
        <p:spPr>
          <a:xfrm>
            <a:off x="2011320" y="2205000"/>
            <a:ext cx="2641680" cy="260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setăText 100"/>
          <p:cNvSpPr/>
          <p:nvPr/>
        </p:nvSpPr>
        <p:spPr>
          <a:xfrm rot="2788800">
            <a:off x="2630160" y="40564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7"/>
          <p:cNvSpPr/>
          <p:nvPr/>
        </p:nvSpPr>
        <p:spPr>
          <a:xfrm flipH="1" flipV="1">
            <a:off x="2752200" y="2899440"/>
            <a:ext cx="1782000" cy="9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tăText 176"/>
          <p:cNvSpPr/>
          <p:nvPr/>
        </p:nvSpPr>
        <p:spPr>
          <a:xfrm>
            <a:off x="4148280" y="6035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2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setăText 104"/>
          <p:cNvSpPr/>
          <p:nvPr/>
        </p:nvSpPr>
        <p:spPr>
          <a:xfrm>
            <a:off x="3746520" y="2637000"/>
            <a:ext cx="12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setăText 91"/>
          <p:cNvSpPr/>
          <p:nvPr/>
        </p:nvSpPr>
        <p:spPr>
          <a:xfrm>
            <a:off x="1490760" y="6093000"/>
            <a:ext cx="45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0"/>
          <p:cNvSpPr/>
          <p:nvPr/>
        </p:nvSpPr>
        <p:spPr>
          <a:xfrm flipH="1">
            <a:off x="4500720" y="2203560"/>
            <a:ext cx="41040" cy="3835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7"/>
          <p:cNvSpPr/>
          <p:nvPr/>
        </p:nvSpPr>
        <p:spPr>
          <a:xfrm>
            <a:off x="4214880" y="19432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9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1"/>
          <p:cNvSpPr/>
          <p:nvPr/>
        </p:nvSpPr>
        <p:spPr>
          <a:xfrm flipH="1" flipV="1">
            <a:off x="4486320" y="2846520"/>
            <a:ext cx="77760" cy="55440"/>
          </a:xfrm>
          <a:prstGeom prst="pi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2"/>
          <p:cNvSpPr/>
          <p:nvPr/>
        </p:nvSpPr>
        <p:spPr>
          <a:xfrm>
            <a:off x="1671840" y="4979880"/>
            <a:ext cx="110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i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setăText 88"/>
          <p:cNvSpPr/>
          <p:nvPr/>
        </p:nvSpPr>
        <p:spPr>
          <a:xfrm rot="2788800">
            <a:off x="903960" y="524124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Dec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100"/>
          <p:cNvSpPr/>
          <p:nvPr/>
        </p:nvSpPr>
        <p:spPr>
          <a:xfrm rot="2788800">
            <a:off x="3458160" y="3239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setăText 4"/>
          <p:cNvSpPr/>
          <p:nvPr/>
        </p:nvSpPr>
        <p:spPr>
          <a:xfrm>
            <a:off x="6219720" y="1062000"/>
            <a:ext cx="27860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tal number of projects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pdated October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lf regulatory action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sion of positive information   sha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tgage loan servicing and loss given default 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mer financial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F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exposures stress testing                   tech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processing of debi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 Law Amend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unde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goods safeguard, values and persons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 loan loss provis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als to be complet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bank letters of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and Berger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and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rating ag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Oval 180"/>
          <p:cNvGrpSpPr/>
          <p:nvPr/>
        </p:nvGrpSpPr>
        <p:grpSpPr>
          <a:xfrm>
            <a:off x="5867280" y="1628640"/>
            <a:ext cx="382680" cy="378000"/>
            <a:chOff x="5867280" y="1628640"/>
            <a:chExt cx="382680" cy="378000"/>
          </a:xfrm>
        </p:grpSpPr>
        <p:pic>
          <p:nvPicPr>
            <p:cNvPr id="285" name="Oval 180" descr=""/>
            <p:cNvPicPr/>
            <p:nvPr/>
          </p:nvPicPr>
          <p:blipFill>
            <a:blip r:embed="rId4"/>
            <a:stretch/>
          </p:blipFill>
          <p:spPr>
            <a:xfrm>
              <a:off x="5867280" y="162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931000" y="169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Oval 181"/>
          <p:cNvGrpSpPr/>
          <p:nvPr/>
        </p:nvGrpSpPr>
        <p:grpSpPr>
          <a:xfrm>
            <a:off x="5867280" y="5486400"/>
            <a:ext cx="384120" cy="384120"/>
            <a:chOff x="5867280" y="5486400"/>
            <a:chExt cx="384120" cy="384120"/>
          </a:xfrm>
        </p:grpSpPr>
        <p:pic>
          <p:nvPicPr>
            <p:cNvPr id="288" name="Oval 181" descr=""/>
            <p:cNvPicPr/>
            <p:nvPr/>
          </p:nvPicPr>
          <p:blipFill>
            <a:blip r:embed="rId5"/>
            <a:stretch/>
          </p:blipFill>
          <p:spPr>
            <a:xfrm>
              <a:off x="5867280" y="54864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33160" y="5550120"/>
              <a:ext cx="2527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Oval 182"/>
          <p:cNvGrpSpPr/>
          <p:nvPr/>
        </p:nvGrpSpPr>
        <p:grpSpPr>
          <a:xfrm>
            <a:off x="5867280" y="4724280"/>
            <a:ext cx="389160" cy="378000"/>
            <a:chOff x="5867280" y="4724280"/>
            <a:chExt cx="389160" cy="378000"/>
          </a:xfrm>
        </p:grpSpPr>
        <p:pic>
          <p:nvPicPr>
            <p:cNvPr id="291" name="Oval 182" descr=""/>
            <p:cNvPicPr/>
            <p:nvPr/>
          </p:nvPicPr>
          <p:blipFill>
            <a:blip r:embed="rId6"/>
            <a:stretch/>
          </p:blipFill>
          <p:spPr>
            <a:xfrm>
              <a:off x="5867280" y="4724280"/>
              <a:ext cx="389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932440" y="4785840"/>
              <a:ext cx="2577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Dreptunghi 93"/>
          <p:cNvSpPr/>
          <p:nvPr/>
        </p:nvSpPr>
        <p:spPr>
          <a:xfrm>
            <a:off x="5791320" y="990720"/>
            <a:ext cx="3214440" cy="521496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Oval 94"/>
          <p:cNvGrpSpPr/>
          <p:nvPr/>
        </p:nvGrpSpPr>
        <p:grpSpPr>
          <a:xfrm>
            <a:off x="5867280" y="4005360"/>
            <a:ext cx="382680" cy="377640"/>
            <a:chOff x="5867280" y="4005360"/>
            <a:chExt cx="382680" cy="377640"/>
          </a:xfrm>
        </p:grpSpPr>
        <p:pic>
          <p:nvPicPr>
            <p:cNvPr id="295" name="Oval 94" descr=""/>
            <p:cNvPicPr/>
            <p:nvPr/>
          </p:nvPicPr>
          <p:blipFill>
            <a:blip r:embed="rId7"/>
            <a:stretch/>
          </p:blipFill>
          <p:spPr>
            <a:xfrm>
              <a:off x="5867280" y="4005360"/>
              <a:ext cx="3826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930640" y="40672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Oval 180"/>
          <p:cNvGrpSpPr/>
          <p:nvPr/>
        </p:nvGrpSpPr>
        <p:grpSpPr>
          <a:xfrm>
            <a:off x="5796000" y="3068640"/>
            <a:ext cx="382680" cy="378000"/>
            <a:chOff x="5796000" y="3068640"/>
            <a:chExt cx="382680" cy="378000"/>
          </a:xfrm>
        </p:grpSpPr>
        <p:pic>
          <p:nvPicPr>
            <p:cNvPr id="298" name="Oval 180" descr=""/>
            <p:cNvPicPr/>
            <p:nvPr/>
          </p:nvPicPr>
          <p:blipFill>
            <a:blip r:embed="rId8"/>
            <a:stretch/>
          </p:blipFill>
          <p:spPr>
            <a:xfrm>
              <a:off x="5796000" y="306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59720" y="313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0" y="65530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SPI Romania 2007 Annual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processing of large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key projects/year (€20k/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: 0.5% of annual gains for banking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Platform domestic sustainability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governance and “Better Regulation” tools extend country’s reform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Committee becomes country’s reform “champ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gency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Better Regulation” Technical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Examples: Prudential IFRS, stress-testing, capital adequacy,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reform teams draw on industry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ies associated throughout analytic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acquire “right of initiat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authorities’ non-ob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hing”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ies will launch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ccepted analytic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, “Basel Core Principles for Banking Supervi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tion ranks lower than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d proxy: “Regulatory Guillot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will recognize modernization opportunities are within reach of collectiv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overcome coordination problems and initiate strengthening of analytical and advocacy activities to engag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process (governance obstacles, poor track record of value for investment in ideas, weak dialogue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authorities undertake 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objective to core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needs are broad, diverse and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rengthen Bank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in analytical capacity unsustainable unless quick results accrue through dialogu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hape public-privat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undertaking of a moderniz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suited to inter-institutional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Associations grow as trusted dialogu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ies could outsource analytics on most steps of non-core decisions based on “Better Reg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3962520"/>
            <a:ext cx="87631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U Neighborhood                         Financial Modernization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600200"/>
            <a:ext cx="8001000" cy="106884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 Neighbors Modernization          Public-Privat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3048120"/>
            <a:ext cx="2895840" cy="52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487692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487692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487692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76520" y="4800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902200"/>
            <a:ext cx="1371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32440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038480"/>
            <a:ext cx="5029200" cy="398880"/>
          </a:xfrm>
          <a:prstGeom prst="rect">
            <a:avLst/>
          </a:prstGeom>
          <a:solidFill>
            <a:srgbClr val="f4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590220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9022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Sponsors’ Vantag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local authorities extend engagement beyond stability into market efficiency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ransparent and cost-efficient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ing “Better Regulation”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Banking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banking and policy analysis expertise to help solve under-attended efficien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ing EU institutions assistance in area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growth of its Associat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for Associat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ector becomes more growth-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economic rebound after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uch broader work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 with EU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si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optimization helps with cost ef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duct choice offers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eminars with EU institutions to deepen understanding of SPI Platform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with own mandates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ility to futur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from market participants of unmet modernization needs in EU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Associate Members very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EBF members’ technical assistance cap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F proposal to European Commission for EU Neighborhood Financial Modernization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28600" y="1447920"/>
            <a:ext cx="8610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ed in 2005 by the World Bank with support from Italy’s Ministry of Economy and Fina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outh-East Europe through public-private sector co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a “BOT” concept (Build-Operate-Transfer), the Convergence Program helps authorities and market participants set up and operate a partnership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ose governance, organization and “Better Regulation” analytical methods enable the pursuit of a broad-based modernization program largely executed by local public-private te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intended that local stakeholders take operational and financial responsibility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a two-year Convergence Program invol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vergence Program has been active in Albania, Bulgaria, Croatia and Romania. It has ongoing discussions in Moldova and Serbia. Its mandate, renewed in December 2007, ends in 2009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vergen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presentation Gap In Key Marke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528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248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572000"/>
            <a:ext cx="17524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Dom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572000"/>
            <a:ext cx="1905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9528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 Harmo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572000"/>
            <a:ext cx="1828800" cy="15238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623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6095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2036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20040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219320"/>
            <a:ext cx="1752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21932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219320"/>
            <a:ext cx="1676520" cy="8254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F AC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200400"/>
            <a:ext cx="1371600" cy="45972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6576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95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2438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133720"/>
            <a:ext cx="0" cy="106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971800"/>
            <a:ext cx="213372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 Building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Associate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 supports EBF AC supervis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€3 million program in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B supports AC Central Ba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in Russia, Serbia, Bosnia-Herzegovin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upports AC Bank Associ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behind in public-privat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outside resources stimulate authorities to make more use of banking sector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ttangolo 4"/>
          <p:cNvSpPr/>
          <p:nvPr/>
        </p:nvSpPr>
        <p:spPr>
          <a:xfrm>
            <a:off x="76320" y="685800"/>
            <a:ext cx="380988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country accounting standards with international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financial statements' certification mandatory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professional accountants'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credit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redit bureaus'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bureaus to contain both positive and nega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provide personal information to credit bureaus without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effectively monitor the activities of the borr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micro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bank internal rating procedur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a Corporate Banking Information datas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share information about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formation flow among banks belonging to a gro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oss-border exchange of information between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microcredit guarantee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letters of 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investment banking services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access to non-bank lenders' and creditors' data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personal data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land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land registries' access poli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bank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wage ass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consumption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tax and utilities bank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real estate asses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real estate assess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young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women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7"/>
          <p:cNvSpPr/>
          <p:nvPr/>
        </p:nvSpPr>
        <p:spPr>
          <a:xfrm>
            <a:off x="76320" y="685800"/>
            <a:ext cx="380988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sellaDiTesto 9"/>
          <p:cNvSpPr/>
          <p:nvPr/>
        </p:nvSpPr>
        <p:spPr>
          <a:xfrm>
            <a:off x="0" y="3808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formational asymme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5"/>
          <p:cNvSpPr/>
          <p:nvPr/>
        </p:nvSpPr>
        <p:spPr>
          <a:xfrm>
            <a:off x="3962520" y="685800"/>
            <a:ext cx="2514600" cy="60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access to international funding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up-to-date regulation of OTC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competition among market provi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new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existing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IT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geographical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population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financial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public authorities' skills on advanced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roject finan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group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micro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 secured corporate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standardized pay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potential market particip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eas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factor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venture capit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rivate equity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derivatives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asset manage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/L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ife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ension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ecu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d develop stock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tudents' lo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s b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 insu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9"/>
          <p:cNvSpPr/>
          <p:nvPr/>
        </p:nvSpPr>
        <p:spPr>
          <a:xfrm>
            <a:off x="3962520" y="685800"/>
            <a:ext cx="236196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sellaDiTesto 11"/>
          <p:cNvSpPr/>
          <p:nvPr/>
        </p:nvSpPr>
        <p:spPr>
          <a:xfrm>
            <a:off x="3581280" y="4255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completeness of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3"/>
          <p:cNvSpPr/>
          <p:nvPr/>
        </p:nvSpPr>
        <p:spPr>
          <a:xfrm>
            <a:off x="6400800" y="685800"/>
            <a:ext cx="274320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fi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bank offic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inancial skills to public auth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judges about advanced financial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bank bra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AT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specialized cou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orm bankruptc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implification / standardization of financial contra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ternational contractual fo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ontracts specifically tailored for financial produ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investors’ / creditors' pro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better interface between real and financial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simple / standardized legal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efficient credit recovery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arbitration procedures (previously agreed upon by counterpar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pre-trial settle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firms / associations of firms and financial institutions /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associations of consumers and 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12"/>
          <p:cNvSpPr/>
          <p:nvPr/>
        </p:nvSpPr>
        <p:spPr>
          <a:xfrm>
            <a:off x="640080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12"/>
          <p:cNvSpPr/>
          <p:nvPr/>
        </p:nvSpPr>
        <p:spPr>
          <a:xfrm>
            <a:off x="6172200" y="4572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access to financial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ttangolo 4"/>
          <p:cNvSpPr/>
          <p:nvPr/>
        </p:nvSpPr>
        <p:spPr>
          <a:xfrm>
            <a:off x="5603760" y="685800"/>
            <a:ext cx="262584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antitrust authority, with the power to investigate financial institutions and enforce antitrust regulation, and veto power over M&amp;A operations in the financial s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 Antitrust Authority indepen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international standards on antitrust reg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ransparent criteria to identify abusive dominant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the antitrust authority and the national associations of banks and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prospective 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limits on interest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commissions on paymen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competitive risk / lending polic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parate lending from account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nk deposit insurance premiums to risk pro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inter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etitive market procedures for the acquisition of distressed national banks /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 bilateral agreements to allow foreign licensed institutions to operate in the national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antitrust law to international standards regarding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rrect information to th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mortgage insurance mark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tangolo 7"/>
          <p:cNvSpPr/>
          <p:nvPr/>
        </p:nvSpPr>
        <p:spPr>
          <a:xfrm>
            <a:off x="556272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0"/>
          <p:cNvSpPr/>
          <p:nvPr/>
        </p:nvSpPr>
        <p:spPr>
          <a:xfrm>
            <a:off x="5562720" y="457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com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11"/>
          <p:cNvSpPr/>
          <p:nvPr/>
        </p:nvSpPr>
        <p:spPr>
          <a:xfrm>
            <a:off x="609480" y="685800"/>
            <a:ext cx="3810240" cy="56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core principles for paymen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development of new payment instruments (mobile phon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payment orders'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payment orders' procedure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documentation for international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reporting and registration procedures of international lo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 IT infra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for credi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of electronic branches (A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local network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uter purchasing incen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mputer science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user friendly bank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network 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ooperation schemes with Po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insurance schemes for on line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remuneration on mandatory prov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bank governance rules consistent with compan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financial markets' rules across product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rnize documentation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bank account opening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filters non-consistent with Basel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corporat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payment of insurance fees on deposits by corporate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forfeit busin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loan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standards on working week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timize consumer protection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duplication in mandatory documentation for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mortgag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mortgag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8"/>
          <p:cNvSpPr/>
          <p:nvPr/>
        </p:nvSpPr>
        <p:spPr>
          <a:xfrm>
            <a:off x="609480" y="38088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Transac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13"/>
          <p:cNvSpPr/>
          <p:nvPr/>
        </p:nvSpPr>
        <p:spPr>
          <a:xfrm>
            <a:off x="609480" y="685800"/>
            <a:ext cx="381024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nancial Modernization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18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arco Spallone, “Conceptual Framework to Assess Financial Modernization Needs”, Bari, 7 Nov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EBA5-CD3F-4BD1-8F4A-2723D114EC82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81080" y="1371600"/>
            <a:ext cx="541044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Public-Privat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Bank - Banking Associ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try of Finance - 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55640" y="2743200"/>
            <a:ext cx="2598840" cy="3633840"/>
            <a:chOff x="755640" y="2743200"/>
            <a:chExt cx="2598840" cy="3633840"/>
          </a:xfrm>
        </p:grpSpPr>
        <p:sp>
          <p:nvSpPr>
            <p:cNvPr id="149" name="Line 29"/>
            <p:cNvSpPr/>
            <p:nvPr/>
          </p:nvSpPr>
          <p:spPr>
            <a:xfrm flipV="1">
              <a:off x="755640" y="2743200"/>
              <a:ext cx="198756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62120" y="3505320"/>
              <a:ext cx="2592360" cy="2871720"/>
              <a:chOff x="762120" y="3505320"/>
              <a:chExt cx="2592360" cy="2871720"/>
            </a:xfrm>
          </p:grpSpPr>
          <p:sp>
            <p:nvSpPr>
              <p:cNvPr id="151" name="Text Box 45"/>
              <p:cNvSpPr/>
              <p:nvPr/>
            </p:nvSpPr>
            <p:spPr>
              <a:xfrm>
                <a:off x="762120" y="3505320"/>
                <a:ext cx="2592360" cy="2871720"/>
              </a:xfrm>
              <a:prstGeom prst="rect">
                <a:avLst/>
              </a:prstGeom>
              <a:solidFill>
                <a:srgbClr val="00ffff">
                  <a:alpha val="14000"/>
                </a:srgbClr>
              </a:solidFill>
              <a:ln cap="rnd" w="22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900000" y="5516640"/>
                <a:ext cx="2449800" cy="790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c and Private Expe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2"/>
              <p:cNvSpPr/>
              <p:nvPr/>
            </p:nvSpPr>
            <p:spPr>
              <a:xfrm>
                <a:off x="1332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7"/>
              <p:cNvSpPr/>
              <p:nvPr/>
            </p:nvSpPr>
            <p:spPr>
              <a:xfrm>
                <a:off x="1332000" y="3860640"/>
                <a:ext cx="1728720" cy="503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Own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3"/>
              <p:cNvSpPr/>
              <p:nvPr/>
            </p:nvSpPr>
            <p:spPr>
              <a:xfrm flipV="1">
                <a:off x="2195640" y="5300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8"/>
              <p:cNvSpPr/>
              <p:nvPr/>
            </p:nvSpPr>
            <p:spPr>
              <a:xfrm flipV="1">
                <a:off x="2195640" y="4436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492360" y="2819160"/>
            <a:ext cx="5472360" cy="3552840"/>
            <a:chOff x="3492360" y="2819160"/>
            <a:chExt cx="5472360" cy="3552840"/>
          </a:xfrm>
        </p:grpSpPr>
        <p:grpSp>
          <p:nvGrpSpPr>
            <p:cNvPr id="158" name=""/>
            <p:cNvGrpSpPr/>
            <p:nvPr/>
          </p:nvGrpSpPr>
          <p:grpSpPr>
            <a:xfrm>
              <a:off x="3492360" y="3123720"/>
              <a:ext cx="2592360" cy="3248280"/>
              <a:chOff x="3492360" y="3123720"/>
              <a:chExt cx="2592360" cy="32482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3492360" y="3500280"/>
                <a:ext cx="2592360" cy="2871720"/>
                <a:chOff x="3492360" y="3500280"/>
                <a:chExt cx="2592360" cy="2871720"/>
              </a:xfrm>
            </p:grpSpPr>
            <p:sp>
              <p:nvSpPr>
                <p:cNvPr id="160" name="Text Box 46"/>
                <p:cNvSpPr/>
                <p:nvPr/>
              </p:nvSpPr>
              <p:spPr>
                <a:xfrm>
                  <a:off x="349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"/>
                <p:cNvSpPr/>
                <p:nvPr/>
              </p:nvSpPr>
              <p:spPr>
                <a:xfrm>
                  <a:off x="356400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18"/>
                <p:cNvSpPr/>
                <p:nvPr/>
              </p:nvSpPr>
              <p:spPr>
                <a:xfrm>
                  <a:off x="378000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9"/>
                <p:cNvSpPr/>
                <p:nvPr/>
              </p:nvSpPr>
              <p:spPr>
                <a:xfrm flipV="1">
                  <a:off x="4716360" y="443664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Rectangle 14"/>
              <p:cNvSpPr/>
              <p:nvPr/>
            </p:nvSpPr>
            <p:spPr>
              <a:xfrm>
                <a:off x="3780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 flipV="1">
                <a:off x="4724280" y="3123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34"/>
              <p:cNvSpPr/>
              <p:nvPr/>
            </p:nvSpPr>
            <p:spPr>
              <a:xfrm flipV="1">
                <a:off x="4716360" y="5300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012000" y="2819160"/>
              <a:ext cx="2952720" cy="3552840"/>
              <a:chOff x="6012000" y="2819160"/>
              <a:chExt cx="2952720" cy="3552840"/>
            </a:xfrm>
          </p:grpSpPr>
          <p:sp>
            <p:nvSpPr>
              <p:cNvPr id="168" name="Line 22"/>
              <p:cNvSpPr/>
              <p:nvPr/>
            </p:nvSpPr>
            <p:spPr>
              <a:xfrm flipH="1" flipV="1">
                <a:off x="6552720" y="2819160"/>
                <a:ext cx="20574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012000" y="3500280"/>
                <a:ext cx="2952720" cy="2871720"/>
                <a:chOff x="6012000" y="3500280"/>
                <a:chExt cx="2952720" cy="2871720"/>
              </a:xfrm>
            </p:grpSpPr>
            <p:sp>
              <p:nvSpPr>
                <p:cNvPr id="170" name="Text Box 47"/>
                <p:cNvSpPr/>
                <p:nvPr/>
              </p:nvSpPr>
              <p:spPr>
                <a:xfrm>
                  <a:off x="637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9"/>
                <p:cNvSpPr/>
                <p:nvPr/>
              </p:nvSpPr>
              <p:spPr>
                <a:xfrm>
                  <a:off x="644364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10"/>
                <p:cNvSpPr/>
                <p:nvPr/>
              </p:nvSpPr>
              <p:spPr>
                <a:xfrm>
                  <a:off x="6012000" y="558972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15"/>
                <p:cNvSpPr/>
                <p:nvPr/>
              </p:nvSpPr>
              <p:spPr>
                <a:xfrm>
                  <a:off x="6732720" y="4724280"/>
                  <a:ext cx="1728720" cy="503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Manag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16"/>
                <p:cNvSpPr/>
                <p:nvPr/>
              </p:nvSpPr>
              <p:spPr>
                <a:xfrm>
                  <a:off x="6012000" y="472428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9"/>
                <p:cNvSpPr/>
                <p:nvPr/>
              </p:nvSpPr>
              <p:spPr>
                <a:xfrm>
                  <a:off x="673272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23"/>
                <p:cNvSpPr/>
                <p:nvPr/>
              </p:nvSpPr>
              <p:spPr>
                <a:xfrm>
                  <a:off x="6012000" y="400536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35"/>
                <p:cNvSpPr/>
                <p:nvPr/>
              </p:nvSpPr>
              <p:spPr>
                <a:xfrm flipV="1">
                  <a:off x="7740720" y="530028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40"/>
                <p:cNvSpPr/>
                <p:nvPr/>
              </p:nvSpPr>
              <p:spPr>
                <a:xfrm flipV="1">
                  <a:off x="7667640" y="450864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9" name="Text Box 44"/>
          <p:cNvSpPr/>
          <p:nvPr/>
        </p:nvSpPr>
        <p:spPr>
          <a:xfrm>
            <a:off x="1042920" y="3500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79640" y="6453360"/>
            <a:ext cx="8064360" cy="436680"/>
            <a:chOff x="1079640" y="6453360"/>
            <a:chExt cx="8064360" cy="436680"/>
          </a:xfrm>
        </p:grpSpPr>
        <p:sp>
          <p:nvSpPr>
            <p:cNvPr id="181" name="Text Box 49"/>
            <p:cNvSpPr/>
            <p:nvPr/>
          </p:nvSpPr>
          <p:spPr>
            <a:xfrm>
              <a:off x="1079640" y="649116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OLUTION FI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(Through RIA-based public-private consulta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8"/>
            <p:cNvSpPr/>
            <p:nvPr/>
          </p:nvSpPr>
          <p:spPr>
            <a:xfrm rot="5400000">
              <a:off x="4644360" y="3067560"/>
              <a:ext cx="142560" cy="6913440"/>
            </a:xfrm>
            <a:custGeom>
              <a:avLst/>
              <a:gdLst>
                <a:gd name="textAreaLeft" fmla="*/ 0 w 142560"/>
                <a:gd name="textAreaRight" fmla="*/ 51480 w 142560"/>
                <a:gd name="textAreaTop" fmla="*/ 180000 h 6913440"/>
                <a:gd name="textAreaBottom" fmla="*/ 6733440 h 69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0"/>
          <p:cNvSpPr/>
          <p:nvPr/>
        </p:nvSpPr>
        <p:spPr>
          <a:xfrm>
            <a:off x="0" y="974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ETTING,  SOLUTION ENDORSEMENT AND ENACTMENT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: The SPI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19520" y="2290680"/>
            <a:ext cx="3673440" cy="834840"/>
            <a:chOff x="2819520" y="2290680"/>
            <a:chExt cx="3673440" cy="834840"/>
          </a:xfrm>
        </p:grpSpPr>
        <p:grpSp>
          <p:nvGrpSpPr>
            <p:cNvPr id="186" name=""/>
            <p:cNvGrpSpPr/>
            <p:nvPr/>
          </p:nvGrpSpPr>
          <p:grpSpPr>
            <a:xfrm>
              <a:off x="2819520" y="2604960"/>
              <a:ext cx="3673440" cy="520560"/>
              <a:chOff x="2819520" y="2604960"/>
              <a:chExt cx="3673440" cy="520560"/>
            </a:xfrm>
          </p:grpSpPr>
          <p:sp>
            <p:nvSpPr>
              <p:cNvPr id="187" name="Rectangle 24"/>
              <p:cNvSpPr/>
              <p:nvPr/>
            </p:nvSpPr>
            <p:spPr>
              <a:xfrm rot="5400000">
                <a:off x="4440240" y="983880"/>
                <a:ext cx="431640" cy="367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8"/>
              <p:cNvSpPr/>
              <p:nvPr/>
            </p:nvSpPr>
            <p:spPr>
              <a:xfrm>
                <a:off x="3352680" y="2604960"/>
                <a:ext cx="28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PI Secretaria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Line 21"/>
            <p:cNvSpPr/>
            <p:nvPr/>
          </p:nvSpPr>
          <p:spPr>
            <a:xfrm flipV="1">
              <a:off x="4716360" y="22906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4292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5002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0"/>
          <p:cNvSpPr/>
          <p:nvPr/>
        </p:nvSpPr>
        <p:spPr>
          <a:xfrm>
            <a:off x="1600200" y="299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MANAGEMENT AND CONSENSUS-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Romania Has Mobilized &gt; 120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ine 39" descr="pic05006.gif"/>
          <p:cNvPicPr/>
          <p:nvPr/>
        </p:nvPicPr>
        <p:blipFill>
          <a:blip r:embed="rId1"/>
          <a:stretch/>
        </p:blipFill>
        <p:spPr>
          <a:xfrm>
            <a:off x="900000" y="115920"/>
            <a:ext cx="7344000" cy="1152360"/>
          </a:xfrm>
          <a:prstGeom prst="rect">
            <a:avLst/>
          </a:prstGeom>
          <a:ln w="0">
            <a:noFill/>
          </a:ln>
        </p:spPr>
      </p:pic>
      <p:sp>
        <p:nvSpPr>
          <p:cNvPr id="196" name="Substituent conținut 2"/>
          <p:cNvSpPr/>
          <p:nvPr/>
        </p:nvSpPr>
        <p:spPr>
          <a:xfrm>
            <a:off x="611280" y="1916280"/>
            <a:ext cx="43574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National Bank of Ro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sumers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istry of Econo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inistry of Agricult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Rur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stry of Interior and Administration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nt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Laundering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rans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the Supervision of Personal Data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ural Credit Guarantee Fu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rading Commission for 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tibl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ee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Commoditi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Stock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Securities Co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ational Association for Consumers’ Protection and Promotion of Programs and Strateg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from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alian Banking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ternational Financ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World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setăText 8"/>
          <p:cNvSpPr/>
          <p:nvPr/>
        </p:nvSpPr>
        <p:spPr>
          <a:xfrm>
            <a:off x="4800600" y="1957320"/>
            <a:ext cx="35179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Romanian Banking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ca pentru Locuin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P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c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pha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D-G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iria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B Romanian International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edit Europ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G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i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 Bank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face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arg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KPM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elo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ifford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lgorit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ear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nancial Ombudsman Service,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wood Financial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56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268280"/>
            <a:ext cx="845820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12:01Z</dcterms:created>
  <dc:creator>wb76399</dc:creator>
  <dc:description/>
  <dc:language>en-US</dc:language>
  <cp:lastModifiedBy>WB76399</cp:lastModifiedBy>
  <dcterms:modified xsi:type="dcterms:W3CDTF">2008-12-04T09:27:46Z</dcterms:modified>
  <cp:revision>62</cp:revision>
  <dc:subject/>
  <dc:title>Slide 1</dc:title>
</cp:coreProperties>
</file>