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86575" cy="9677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A013-5930-4A01-9974-CB10DD3B7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360C-0FF3-4B1C-8186-B79BB1A0D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C683-0878-4A33-9B38-712731BC8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4373-75BB-4CCA-88E9-ECE295F4F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B65F0-68BB-4EDE-8269-B2654B028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F6CA9-97D9-4DAA-81CA-4F0911731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8C6E1-BCEC-4F9B-9434-A3F248FAB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67D28-46C4-427B-A9FF-386F36C8B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AAF4C-9475-4E14-BFE5-A486D0115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65029-1E1A-4227-A3E8-DD771B9FA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11812-909E-4514-8C6D-9021D4FF3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90AA-EF7B-4BAF-B192-7C4429895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038A1-1763-4456-AEB9-8FCB7303B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FD322-C6CB-4158-AB1D-EDD78595D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64D37-C014-4AFE-A1E5-6EB8A373C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19939-BC2F-4D12-966E-053C5E3F3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69555-3AB1-4626-87F7-CFB0058DB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03FB-CFBB-42A5-9E60-BBE5ABB12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6D55-887D-409B-A23F-488FFDDB1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F178-57EE-4A80-A0B4-09B912E94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3BF4-F475-47A2-B12E-5BA41620C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7121-20F6-4355-A444-467FF0D3F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32AF-0AF9-4691-8199-4F47A2613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896D-6FBF-4BC7-A167-B8B99C871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ff5050"/>
                </a:gs>
                <a:gs pos="100000">
                  <a:srgbClr val="7524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2A7DC-E8AA-445F-BADF-54FB01DBF4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ff5050"/>
                </a:gs>
                <a:gs pos="100000">
                  <a:srgbClr val="7524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C4EF4-FF1B-4E04-925A-B60FAF464D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66840" y="456840"/>
            <a:ext cx="629136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13400" y="6210360"/>
            <a:ext cx="423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cc0000"/>
                </a:solidFill>
                <a:latin typeface="Times New Roman"/>
              </a:rPr>
              <a:t>Département des Finances &amp; de l’Économ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762120"/>
            <a:ext cx="7696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1" sz="5400" spc="-1" strike="noStrike">
                <a:solidFill>
                  <a:srgbClr val="cc0000"/>
                </a:solidFill>
                <a:latin typeface="Times New Roman"/>
              </a:rPr>
              <a:t>European Banking Feder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502920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3200" spc="-1" strike="noStrike">
                <a:solidFill>
                  <a:srgbClr val="cc0000"/>
                </a:solidFill>
                <a:latin typeface="Times New Roman"/>
              </a:rPr>
              <a:t>Monaco, June 200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505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rance   : 28%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505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onaco : 22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505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taly       : 19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505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K         : 8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505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elgium : 3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0000"/>
                </a:solidFill>
                <a:latin typeface="Arial"/>
              </a:rPr>
              <a:t>C – Population 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16760" y="1828800"/>
            <a:ext cx="5374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Break down by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ationality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243828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2209680"/>
            <a:ext cx="70866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cc0000"/>
                </a:solidFill>
                <a:latin typeface="Arial"/>
              </a:rPr>
              <a:t>D – Focus 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cc0000"/>
                </a:solidFill>
                <a:latin typeface="Arial"/>
              </a:rPr>
              <a:t>          </a:t>
            </a:r>
            <a:r>
              <a:rPr b="1" sz="4400" spc="-1" strike="noStrike">
                <a:solidFill>
                  <a:srgbClr val="cc0000"/>
                </a:solidFill>
                <a:latin typeface="Arial"/>
              </a:rPr>
              <a:t>Banking activities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D – Banking activities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42 credit institutions :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l subsidiaries or branches from European gro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AUM  : 75 billion 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II Banking  sector regulation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160" y="1599840"/>
            <a:ext cx="7924680" cy="215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1. A close and long standing relationship with France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3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1.1.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 Monaco and France : </a:t>
            </a:r>
            <a:br>
              <a:rPr sz="3600"/>
            </a:b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  </a:t>
            </a:r>
            <a:br>
              <a:rPr sz="3600"/>
            </a:b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A monetary union </a:t>
            </a:r>
            <a:br>
              <a:rPr sz="3600"/>
            </a:b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well before the euro zone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1.2 Implementation of the French banking regulation : CCLRF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800" y="30481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1.3 licensing by French Committee 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CECE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cc0000"/>
                </a:solidFill>
                <a:latin typeface="Arial"/>
              </a:rPr>
              <a:t>1.4 Supervision by the French authorities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sz="3600" spc="-1" strike="noStrike">
                <a:solidFill>
                  <a:srgbClr val="cc0000"/>
                </a:solidFill>
                <a:latin typeface="Arial"/>
              </a:rPr>
              <a:t>Commission Bancai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2. Monaco – part of the Euro zone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828800"/>
            <a:ext cx="74674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 </a:t>
            </a:r>
            <a:br>
              <a:rPr sz="4000"/>
            </a:b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I Economy</a:t>
            </a: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II Banking  sector regulation </a:t>
            </a:r>
            <a:br>
              <a:rPr sz="4000"/>
            </a:br>
            <a:r>
              <a:rPr b="0" lang="en-GB" sz="36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440" y="289548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2.1 Monaco joined the Euro zon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on 1.1.2002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251460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2.2 Monaco has recently joined SEPA   :    March 2009</a:t>
            </a:r>
            <a:br>
              <a:rPr sz="4800"/>
            </a:b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0000"/>
                </a:solidFill>
                <a:latin typeface="Arial"/>
              </a:rPr>
              <a:t>Thank you 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314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A – Monaco GDP 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A – GDP 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47640" y="1700280"/>
            <a:ext cx="698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1600200"/>
            <a:ext cx="7848720" cy="40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GDP 2007: 4,3 billion €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around 15 % growth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GDP  per capita : 60 K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1904760"/>
            <a:ext cx="77709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Sectors :  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Trade   : 16 % 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Banking and finance : 15 % 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Support activities: 15 %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Real Estate : 10 %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Tourism  : 10 %</a:t>
            </a:r>
            <a:br>
              <a:rPr sz="3600"/>
            </a:b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09680" y="838080"/>
            <a:ext cx="472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A – GD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B – Monaco Budget </a:t>
            </a:r>
            <a:br>
              <a:rPr sz="4000"/>
            </a:b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B - Budget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240" y="2209320"/>
            <a:ext cx="80773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79880" indent="-47988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 Budget : 900 M€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ome    :  75% of tax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nses : very strong social syste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0 M€ in public 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public deb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 2008  :  + 4 M€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62120" y="3048120"/>
            <a:ext cx="678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C – Monaco popul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0000"/>
                </a:solidFill>
                <a:latin typeface="Arial"/>
              </a:rPr>
              <a:t>C – Population 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35 000 reside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Working population : 45.0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reak down by continents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ff505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urope : 92 %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ff505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ther continents : 8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1T13:16:25Z</dcterms:created>
  <dc:creator> </dc:creator>
  <dc:description/>
  <dc:language>en-US</dc:language>
  <cp:lastModifiedBy>Service Informatique</cp:lastModifiedBy>
  <dcterms:modified xsi:type="dcterms:W3CDTF">2009-06-18T06:45:30Z</dcterms:modified>
  <cp:revision>118</cp:revision>
  <dc:subject/>
  <dc:title>Conférence des Ambassadeurs</dc:title>
</cp:coreProperties>
</file>