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1.jpeg" ContentType="image/jpeg"/>
  <Override PartName="/ppt/media/image15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17192-9DA7-428D-BAF3-511ED1230DF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09CB8-D16E-4D25-A4A5-AC64968FC1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CFA1-BF59-4849-9D8A-C2293AED8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EC9C9-69A3-4E3D-911F-94A8A7AEA7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947DC-B0A5-4DA7-B139-C62C8D89C09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D9673-CACE-44EE-AB07-DBA571E1358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06CC2-1DE6-488A-BFAF-0545422933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97E5D-CDA0-4DE4-A067-07C1E43BE1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E3C3-9FF2-49CE-BE2A-971E10D9ECB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2D61D-41A6-46B9-840C-A936DCA607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56D5C-1A1F-48BC-9002-58CB535B3B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4A9BD-A82E-482B-A7D6-6427193F5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D47F-1E3A-48C3-86F6-F9FF047139B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17000" y="5927760"/>
            <a:ext cx="927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628640"/>
            <a:ext cx="91440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June 18, 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32946-4DA1-40C7-9953-AB785C7092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Economic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280" y="134100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declines since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inflation stabilized around 10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ublic finance disciplin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is critically dependent on capital in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n ongoing savings defic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 fast increase in foreign debt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unemployment which was around 10% increased with the cri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7C8C8-0AA7-4304-B7DA-77031A8D06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13372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21E91-05FF-482A-BB36-B99B1D3B65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umber of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97000"/>
          <a:ext cx="82184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8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12E6C-98C2-4857-9D7A-1F6EEB3388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Number of Branches and Personnel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628640"/>
          <a:ext cx="4036680" cy="4524840"/>
        </p:xfrm>
        <a:graphic>
          <a:graphicData uri="http://schemas.openxmlformats.org/drawingml/2006/table">
            <a:tbl>
              <a:tblPr/>
              <a:tblGrid>
                <a:gridCol w="4036680"/>
              </a:tblGrid>
              <a:tr h="452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68360" y="1341360"/>
          <a:ext cx="821844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18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3F382-7A54-437A-914E-28E300D9AB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USD billion)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/GDP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413000"/>
          <a:ext cx="84358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435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FB8CA-085E-4A8E-AC30-EF0278BCA1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L/FX Composition of Assets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052640"/>
          <a:ext cx="828036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1ACFB-6664-4042-85AC-C854A45011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Loans under follow-up/ </a:t>
            </a:r>
            <a:br>
              <a:rPr sz="3200"/>
            </a:b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otal Loan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341360"/>
          <a:ext cx="813600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136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CEF60-4D28-408D-9A9F-2D8F191807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Loans/Deposit Ratio</a:t>
            </a:r>
            <a:r>
              <a:rPr b="0" lang="tr-T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2296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8C042-8F27-4E02-B782-72585EF0AD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ital Ad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 and Share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1197000"/>
          <a:ext cx="8280360" cy="48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803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432E5-EDBF-4EC1-8073-98D09991E4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Outlook of 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98064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number of brances an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total assets an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oney substitution is around 3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ans under follow up is at a low level (3%) and 90% of them are provisio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ratio of loans/deposit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AR of the sector is around 17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B1D0F-AEF5-459F-A9A3-5428927C14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7618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</a:t>
            </a:r>
            <a:br>
              <a:rPr sz="3600"/>
            </a:b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EAEFB-28E5-4B04-934E-6E3A2922CA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95480" y="2205000"/>
            <a:ext cx="69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lobal Crisi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urkish Banking Sector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5B000-6EF1-408F-814E-A32C9634C0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9800" y="1628640"/>
          <a:ext cx="8226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28640"/>
                    <a:ext cx="8226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D3266-5023-453A-91D8-EE5E37DD5D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84280"/>
          <a:ext cx="8229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84280"/>
                    <a:ext cx="8229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BFA3B-A319-4C99-8FE1-A5E6F52E52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341360"/>
          <a:ext cx="864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2E5D8-3141-4A19-A2AC-E85BA2BAB0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24364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2436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09009-A1C1-4304-8184-4CA0FA0B5E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posi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1125360"/>
          <a:ext cx="843588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4358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F1FA6-FC58-40DA-A845-D3E30DDA85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iquid Asse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268280"/>
          <a:ext cx="822960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FF260-13CC-443A-8DA2-D7EB2FC23F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Securities (TL/USD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125360"/>
          <a:ext cx="864216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D5470-3731-4AEB-9443-A3A7776DC7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125360"/>
          <a:ext cx="822960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8229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DADD5-FA99-4DDE-9CBE-459EA2681B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under follow-up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052640"/>
          <a:ext cx="822960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66A56-F1F4-49B1-B9B1-7B65BD6824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GDP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 in real terms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413000"/>
          <a:ext cx="829152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2915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8B1DC-0CF8-4396-855A-4618B578F0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FX Position (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268280"/>
          <a:ext cx="822960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6C8D1-3E29-42A5-BBB9-3547464CC7C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Effects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6922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abilities decreased slightly in real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position of total assets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otal loans decreased slightly, while securities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ans under follow-up increased shar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X risk, liquidity risk and interest risk are ignorably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pital adequacy ratio remained at high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quality of loan stock deteriorates due to decreasing economi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2DB5F-37BD-4858-B918-B28CFD0584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Inflation 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9700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950C7-EDC8-4CD0-A09D-1022E350B2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SBR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1990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-200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197000"/>
          <a:ext cx="8362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62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CAA27-32DE-4521-826F-3267EB075B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et Savings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125360"/>
          <a:ext cx="82915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91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B1F67-54FD-46B1-9180-BDA4B2A251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Growth and Capital Flows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907920"/>
          <a:ext cx="821844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184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904B8-4167-4AA4-AF55-F8F75DE1A8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xternal Debt Stock (USD billion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981000"/>
          <a:ext cx="84358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4358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0D5FC-262B-40BB-822E-1BA3AB9CDE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mployment Rate (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981000"/>
          <a:ext cx="82915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291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8E2D6-C573-41F2-BF06-9CEDC5D790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 </dc:creator>
  <dc:description/>
  <dc:language>en-US</dc:language>
  <cp:lastModifiedBy>mumcum</cp:lastModifiedBy>
  <dcterms:modified xsi:type="dcterms:W3CDTF">2009-06-16T09:56:14Z</dcterms:modified>
  <cp:revision>125</cp:revision>
  <dc:subject/>
  <dc:title>Slide 1</dc:title>
</cp:coreProperties>
</file>