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266036-099A-4F09-8DAC-FC539C19C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D787AA-F829-417A-AE46-9F890E44D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199EA1-6886-4E8F-901C-C31855561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7A4000-B08E-4903-9BC3-4FB7846B3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9BD2B1-3537-403C-9972-D6017FB67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641697-8BF0-44E9-AC9C-16EBA9909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1D12EA-7C4C-4FAD-A953-0378C2136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22EE03-B003-4B75-B903-602DDBC4E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E04FC9-4F52-4840-B7E2-1DD2D0787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ABF3F0-430C-437A-9F82-0EB97D771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BDBF85-C67F-4E28-A7A3-CBFE7AD71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05217B-4BB3-4C0D-B5F2-78A6B9107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27EC21-31BE-4408-9FE9-E0E5C113A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EF90DC-2FC6-4F2C-B86A-2995555DF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166-E17A-4A0B-94F2-8C7C7A10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C7C1-266D-45E6-8CDF-FC8207BF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BB60-9DC2-4402-95CA-B73FF78D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C4E-C93E-49F1-9F43-4A1579F6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851-4022-4229-8A98-6E946F80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111-D9B9-4B0F-B777-90B58A5A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D31-0254-47BB-B2C1-2502924C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EFB1-95B2-4003-9F83-C7CC07F6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6D64-B4DA-40C0-B67A-DC35EA8F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4303-5E20-4E41-85C1-7BFFD476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535-63A2-4CB5-A074-38054550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06A-8D63-4C3F-B971-EF7FFDD8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D88B-7F9F-47DA-A960-D81C4521C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pdf/financial_assistance/ipa/2009/political/pf.02_civil_society_en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9FAA-B468-4461-A028-BA63A924F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Increased Involvement by            Banking Associations in Financial Sector Modernization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estern Balkans and Turkey 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80880" y="609480"/>
            <a:ext cx="2521080" cy="1032120"/>
            <a:chOff x="380880" y="609480"/>
            <a:chExt cx="2521080" cy="1032120"/>
          </a:xfrm>
        </p:grpSpPr>
        <p:sp>
          <p:nvSpPr>
            <p:cNvPr id="52" name="AutoShape 6"/>
            <p:cNvSpPr/>
            <p:nvPr/>
          </p:nvSpPr>
          <p:spPr>
            <a:xfrm>
              <a:off x="380880" y="609480"/>
              <a:ext cx="2521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2"/>
            <a:stretch/>
          </p:blipFill>
          <p:spPr>
            <a:xfrm>
              <a:off x="380880" y="609480"/>
              <a:ext cx="2521080" cy="10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11"/>
          <p:cNvSpPr/>
          <p:nvPr/>
        </p:nvSpPr>
        <p:spPr>
          <a:xfrm>
            <a:off x="1523880" y="5257800"/>
            <a:ext cx="73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Banking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th  Associates Mee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3 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gi Passam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, Convergence Program,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SPI Platform Toolkit: 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Commitment to Public-Private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2AB7-F88D-4C0D-AFE8-7A2C8C3D6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600200"/>
            <a:ext cx="8839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bust dialogue structure with public institu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 pursued by EU CSF Pro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 participate in deciding the regulatory agen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contribute to solution-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idence-based pract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nhanc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design more market-friendly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hig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k efficie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nowledge shar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public institutions and other market particip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 Civil Society Facility can give EBF Associates generou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-year fund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hire talent to scale up their infl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legitimacy with members and socie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er integration in regional and EU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 Platform is ideal vehicle to “connect” with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tively promote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filling EU CSF ultimate objective to create a vibrant civil society in future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se importan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opportunities need to be internal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BF Associates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F301-BA92-4E77-8A05-9D19ED532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Project Fund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2493-EA16-44C8-AE3D-F37FDEFBE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1640" y="5867280"/>
            <a:ext cx="895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EU Grant leverage by SPI Platform in-kind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Oval 11"/>
          <p:cNvSpPr/>
          <p:nvPr/>
        </p:nvSpPr>
        <p:spPr>
          <a:xfrm>
            <a:off x="2743200" y="2362320"/>
            <a:ext cx="990720" cy="9144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BF Associat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municate to EBF desire to app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Civil Society Facility gr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activities to be finan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” and “Influ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regionally and with EU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gence Program will help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ll EBF SPI Platform toolkit information and valu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o content for a CSF grant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must be completed by 28 February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FE01-D508-4287-9751-CE857E43B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7621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sh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en the role of Banking Associ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As) in the Accession process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articipation of BAs in decision-making, policy implementation and moni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operation between BAs and other civil society organizations and between BAs an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p to €5 million for three yea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of three BAs plus EU counter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co-pay by benefic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8D6E-163D-4B83-8422-9DB88A18B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2280" y="65530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nlargement/pdf/financial_assistance/ipa/2009/political/pf.02_civil_society_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al: Stronger BA Influence Through Various Partnersh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AC6B-C084-4873-B5EB-AA4E3D4EB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80880" y="2209680"/>
            <a:ext cx="274320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572000" y="44197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6629400" y="14479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6629400" y="36576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419720" y="22860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359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2952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572000" y="3059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5715000" y="3059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1814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31"/>
          <p:cNvCxnSpPr/>
          <p:nvPr/>
        </p:nvCxnSpPr>
        <p:spPr>
          <a:xfrm>
            <a:off x="5105160" y="3276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 flipV="1">
            <a:off x="4952520" y="274248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38"/>
          <p:cNvCxnSpPr>
            <a:endCxn id="69" idx="0"/>
          </p:cNvCxnSpPr>
          <p:nvPr/>
        </p:nvCxnSpPr>
        <p:spPr>
          <a:xfrm>
            <a:off x="5638320" y="2743200"/>
            <a:ext cx="4201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43"/>
          <p:cNvCxnSpPr/>
          <p:nvPr/>
        </p:nvCxnSpPr>
        <p:spPr>
          <a:xfrm flipV="1">
            <a:off x="6552720" y="312336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4"/>
          <p:cNvCxnSpPr/>
          <p:nvPr/>
        </p:nvCxnSpPr>
        <p:spPr>
          <a:xfrm>
            <a:off x="6400440" y="388584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45"/>
          <p:cNvCxnSpPr/>
          <p:nvPr/>
        </p:nvCxnSpPr>
        <p:spPr>
          <a:xfrm flipV="1">
            <a:off x="7085160" y="3277800"/>
            <a:ext cx="3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57"/>
          <p:cNvCxnSpPr/>
          <p:nvPr/>
        </p:nvCxnSpPr>
        <p:spPr>
          <a:xfrm>
            <a:off x="3352320" y="327672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58"/>
          <p:cNvCxnSpPr/>
          <p:nvPr/>
        </p:nvCxnSpPr>
        <p:spPr>
          <a:xfrm flipH="1">
            <a:off x="6246000" y="40402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3352320" y="3809880"/>
            <a:ext cx="12200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63"/>
          <p:cNvCxnSpPr/>
          <p:nvPr/>
        </p:nvCxnSpPr>
        <p:spPr>
          <a:xfrm>
            <a:off x="3123720" y="44193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TextBox 66"/>
          <p:cNvSpPr/>
          <p:nvPr/>
        </p:nvSpPr>
        <p:spPr>
          <a:xfrm>
            <a:off x="7010280" y="2514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70102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4952880" y="5562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1"/>
          <p:cNvSpPr/>
          <p:nvPr/>
        </p:nvSpPr>
        <p:spPr>
          <a:xfrm>
            <a:off x="228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Viktorija’s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lowchart: Connector 27"/>
          <p:cNvSpPr/>
          <p:nvPr/>
        </p:nvSpPr>
        <p:spPr>
          <a:xfrm>
            <a:off x="6553080" y="34290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80348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6322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660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Connector 32"/>
          <p:cNvSpPr/>
          <p:nvPr/>
        </p:nvSpPr>
        <p:spPr>
          <a:xfrm>
            <a:off x="4724280" y="243828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Connector 33"/>
          <p:cNvSpPr/>
          <p:nvPr/>
        </p:nvSpPr>
        <p:spPr>
          <a:xfrm>
            <a:off x="3581280" y="36576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 Will Help Involv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G Enlargement will invite authorities to participate in evaluation of propos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expects authorities to be closely involved in the project as an associated partner, the main counterpart or particip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inform authorities about the overall implementation of the proj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644A-7850-4508-8539-0549C7150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Activities Financ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FA12-7EDE-4C0D-B222-AD5DB7C17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2120" y="4495680"/>
            <a:ext cx="1600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43200" y="4191120"/>
            <a:ext cx="1600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72000" y="3048120"/>
            <a:ext cx="1600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29400" y="2438280"/>
            <a:ext cx="1600200" cy="358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62120" y="47242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 and seminars on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666880" y="426708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training to BA staff on economic impact of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495680" y="3352680"/>
            <a:ext cx="175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activities between BAs, think-tanks, other associations to influenc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53080" y="2666880"/>
            <a:ext cx="175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ment of Platforms to formulate concrete recommenda-tions and practical solutions,    and exchange of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38080" y="1143000"/>
            <a:ext cx="3353040" cy="10666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4876920" y="1143000"/>
            <a:ext cx="33526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60160" y="13716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799960" y="13716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Success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thin 2 years after project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nsultations by public authorities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measures taken to adopt and implement EU a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qu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new joi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itiatives/network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mmo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papers on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actions (workshops, trainings, campaigns, manual/guides, etc)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public authorities regarding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D35E-5507-448B-A474-AA88D76E7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Grant: A Game-Changer for EBF Associ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resourc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operate with public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form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substant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ooper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ursue similar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 high-quality assista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EU partner instit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AE78-C726-4A0D-AF1F-43A6207CA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serv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BF Associa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ol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ort EBF Associat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hancing their contribution to financial sector modernization through structured dialogue with other private and public partner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uide on ac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documents for implementing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ance framewor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operate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World Bank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rgence Program experi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lbania and Roma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1B47-E2C3-4431-B38A-4738C7727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6629400" y="6172200"/>
            <a:ext cx="1600200" cy="538200"/>
            <a:chOff x="6629400" y="6172200"/>
            <a:chExt cx="1600200" cy="538200"/>
          </a:xfrm>
        </p:grpSpPr>
        <p:sp>
          <p:nvSpPr>
            <p:cNvPr id="117" name="AutoShape 6"/>
            <p:cNvSpPr/>
            <p:nvPr/>
          </p:nvSpPr>
          <p:spPr>
            <a:xfrm>
              <a:off x="6629400" y="6172200"/>
              <a:ext cx="1600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6629400" y="6172200"/>
              <a:ext cx="160020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63040"/>
            <a:ext cx="899172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PI Platfor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promo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fund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opera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FA5B-1100-40DE-9464-3CF8E9F06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6629400" y="5943600"/>
            <a:ext cx="1600200" cy="609480"/>
            <a:chOff x="6629400" y="5943600"/>
            <a:chExt cx="1600200" cy="609480"/>
          </a:xfrm>
        </p:grpSpPr>
        <p:sp>
          <p:nvSpPr>
            <p:cNvPr id="126" name="AutoShape 6"/>
            <p:cNvSpPr/>
            <p:nvPr/>
          </p:nvSpPr>
          <p:spPr>
            <a:xfrm>
              <a:off x="6629400" y="594360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7" descr=""/>
            <p:cNvPicPr/>
            <p:nvPr/>
          </p:nvPicPr>
          <p:blipFill>
            <a:blip r:embed="rId2"/>
            <a:stretch/>
          </p:blipFill>
          <p:spPr>
            <a:xfrm>
              <a:off x="6629400" y="5943600"/>
              <a:ext cx="1600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$M</dc:creator>
  <dc:description/>
  <dc:language>en-US</dc:language>
  <cp:lastModifiedBy>Viktorija Proskurovska</cp:lastModifiedBy>
  <dcterms:modified xsi:type="dcterms:W3CDTF">2009-12-07T09:12:38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