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2E8A-25DB-45FD-ACAE-1A4324AD46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9F1F-2EFD-44A7-9426-038E9D5E8A0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7DEA-7BB2-48BC-91AE-E88E7EC2DA4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A986-5976-4F09-AF15-8BEDEA1A370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0C92-FEC4-4EAC-9D78-641A8C86185E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294E-6CAF-411B-86D2-9396D4C5B07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5270-F2F6-417F-969E-4041D331B31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129E-AC56-441B-A624-AE785A204FF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510-1025-456A-B55D-BB5CA96D8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01CB-CE16-425F-AE82-F160B681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9687-32EA-489B-8407-9B748CD5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DE7E-D75D-4354-8F58-1FA206B4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C8E8-EC6E-42E0-A3E5-7FF726B5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514C-1D82-48E2-A981-A33D8FE8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7E63-6CA2-44F6-800B-FB98B8C9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FC3B-927D-497D-955A-C888DFFC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607F-FC3A-4A2E-A9AF-AB00E2A1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BD88-32F6-431D-8265-EB9AF958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737D-8691-4FC1-B9E7-587DA6F5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17FA-A059-4317-B935-88FAA78A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4B6F-FD82-417E-9D1A-FBF3918B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DB89-E6A9-43B5-A8A8-8B2733D0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E622-25E9-4923-8C08-A2014B76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9C53-005A-41F0-A556-D17811DD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8902-64E8-4E24-9EDF-6869C36C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0614-DF1D-4E1F-94DD-F328D76E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9D29-B681-45A2-9F46-A3467FC7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ECAB-3EF9-4DA4-BA3E-5DF22AEF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725D-E2DB-40AB-A3BE-2A4D3B18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5FDF-F1E1-4749-BE20-1EF76792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BC89-5164-4146-A6E7-42D8AE7C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DD0-50FC-4E7F-AE56-8AA9A1EF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1FFE-F71A-4840-AD4B-29B8A052FD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34D5-A1E3-47D0-8495-CE977AD02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B704-4BEC-4170-800C-17E3AC46BD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4FEA-D555-4518-B87C-AA9F246168F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r.wikipedia.org/wiki/Slika:Flag_of_Bosnia_and_Herzegovina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k-map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4400" spc="-1" strike="noStrike">
                <a:solidFill>
                  <a:srgbClr val="000000"/>
                </a:solidFill>
                <a:latin typeface="Calibri"/>
              </a:rPr>
              <a:t>Bosnia and Herzegovi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4" descr="Zastava Bosne i Hercegovi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2000160"/>
            <a:ext cx="5572080" cy="315936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1B05-EA0A-46D9-9BEC-32A5CB813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33F2-EF5D-4205-824C-7FD04F006B4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igures</a:t>
            </a:r>
            <a:br>
              <a:rPr sz="1100"/>
            </a:br>
            <a:br>
              <a:rPr sz="1100"/>
            </a:b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(in mio KM)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Source: Banking Agencies of FBiH and R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14240" y="1714680"/>
          <a:ext cx="7858440" cy="3857400"/>
        </p:xfrm>
        <a:graphic>
          <a:graphicData uri="http://schemas.openxmlformats.org/drawingml/2006/table">
            <a:tbl>
              <a:tblPr/>
              <a:tblGrid>
                <a:gridCol w="642960"/>
                <a:gridCol w="1857600"/>
                <a:gridCol w="1285920"/>
                <a:gridCol w="1285560"/>
                <a:gridCol w="1214640"/>
                <a:gridCol w="857160"/>
                <a:gridCol w="714600"/>
              </a:tblGrid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1.12.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6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9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s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.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a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7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2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37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po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4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capi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75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expendi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t pro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F Stand-by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nna initiative 6+3 (mother banks to keep exposure with B&amp;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umer protection legislation –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high expectation from banking sec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able results of first stress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PL increased, but still acceptable (2,8% Q2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 of income with increased interest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ing – reduced and more expen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811C-0439-4FF9-9BEF-43657F70BFA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esent challang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5712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ounded in 2004, fully indepen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irst Association on stat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ly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self funded by member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ll registered banks in full memb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rganized troug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Board of Dire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Executive Secret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9 Commissions for different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OUR MISSION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improve and develope close cooperation among th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member bank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establish partnership with stat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institutions, supervisors and legislator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Public relations and media communicat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Edu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catio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o  cooperate with similar institutions in the country and abr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E299-25A9-409E-98D2-9417ED5D7FA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 Association of Bosnia and Herzegovina</a:t>
            </a:r>
            <a:br>
              <a:rPr sz="25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ofile</a:t>
            </a:r>
            <a:br>
              <a:rPr sz="25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fully dedicated to the spirit of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membership with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al support and know-how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hange of information and expertise in legislation, good banking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37F4-372E-4E47-96ED-F56F4327318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s for your confid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66D0-4AE0-4E67-A3AC-BDC01BAEC11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24_05_2006_clip_image002"/>
          <p:cNvPicPr/>
          <p:nvPr/>
        </p:nvPicPr>
        <p:blipFill>
          <a:blip r:embed="rId1"/>
          <a:stretch/>
        </p:blipFill>
        <p:spPr>
          <a:xfrm>
            <a:off x="2928960" y="4214880"/>
            <a:ext cx="29718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70c0"/>
                </a:solidFill>
                <a:latin typeface="Calibri"/>
              </a:rPr>
              <a:t>UBBiH   </a:t>
            </a:r>
            <a:r>
              <a:rPr b="1" lang="en-US" sz="11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ŽENJE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GA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УДРУЖЕЊЕ БАНАКА БОСНE И ХЕРЦЕГОВИН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ANKS ASSOCIATION OF BOSNIA AND HERZEGOVINA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Branilaca Sarajeva 20/III, 71000 Sarajevo, Bosna i Hercegovina, Tel: (387 33) 714 630, Fax: (387 33) 714 631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www.ubbih.ba</a:t>
            </a:r>
            <a:br>
              <a:rPr sz="2400"/>
            </a:br>
            <a:br>
              <a:rPr sz="2400"/>
            </a:br>
            <a:br>
              <a:rPr sz="1600"/>
            </a:br>
            <a:br>
              <a:rPr sz="1600"/>
            </a:b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 ECONOMY AND BANKING SECTOR  IN  BOSNIA AND HERZEGOVINA </a:t>
            </a:r>
            <a:br>
              <a:rPr sz="3200"/>
            </a:b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r. Dino Osmanbegović, Presid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240" y="5143320"/>
            <a:ext cx="69152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Rectangle 4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1BFA-3913-4F98-88C6-54023532919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43160" y="5929200"/>
            <a:ext cx="4071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68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MMA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.  B&amp;H in bri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y Macroeconomic D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jor Ris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I Banking Indu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gur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esent Challeng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fi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F93E-5FFF-4B35-AB65-08F5C514DD1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35652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hr-HR" sz="1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br>
              <a:rPr sz="29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ulation: 3,8 mio (est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ital: Saraje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: 51.197 km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rency (€1 = KM1.9558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 stat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n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entities+1 distr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F530-97B6-4A6C-8476-497040BAF7D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Map of Bosnia and Herzegovi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928800"/>
            <a:ext cx="5473440" cy="482436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5"/>
          <p:cNvSpPr/>
          <p:nvPr/>
        </p:nvSpPr>
        <p:spPr>
          <a:xfrm>
            <a:off x="3124080" y="6356520"/>
            <a:ext cx="416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ral Bank of B&amp;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urrency Board Arran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andatory  Reser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nking Super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 banking agencies (still separate but coordinat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latively conservative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ministration for indirect taxation (VAT and custo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entralized collection with entity level distribu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corporate income, personal) on entity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B25A-BBDA-45EE-AAF0-3BA1D835C1F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bs-BA" sz="2800" spc="-1" strike="noStrike">
                <a:solidFill>
                  <a:srgbClr val="000000"/>
                </a:solidFill>
                <a:latin typeface="Calibri"/>
              </a:rPr>
              <a:t>I  B&amp;H in brief</a:t>
            </a:r>
            <a:br>
              <a:rPr sz="1400"/>
            </a:b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Key  Macroeconomic Data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bs-BA" sz="1200" spc="-1" strike="noStrike">
                <a:solidFill>
                  <a:srgbClr val="000000"/>
                </a:solidFill>
                <a:latin typeface="Calibri"/>
              </a:rPr>
              <a:t>Data Source: Thomson 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</a:rPr>
              <a:t>Reuter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680" y="6000840"/>
            <a:ext cx="4906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00040" y="928800"/>
          <a:ext cx="8072640" cy="5475240"/>
        </p:xfrm>
        <a:graphic>
          <a:graphicData uri="http://schemas.openxmlformats.org/drawingml/2006/table">
            <a:tbl>
              <a:tblPr/>
              <a:tblGrid>
                <a:gridCol w="2639880"/>
                <a:gridCol w="981360"/>
                <a:gridCol w="981000"/>
                <a:gridCol w="1131840"/>
                <a:gridCol w="1149480"/>
                <a:gridCol w="1189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9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10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ominal GDP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 GDP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usehold consumption (real, 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dustrial output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umer prices (avg.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nemployment rate  (avg,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eneral budge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urrent Accoun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ublic debt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fficial FX reserves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342D-E407-465C-B99E-EEF5D8C7132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2357280" y="6492960"/>
            <a:ext cx="414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&amp;H in br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jor Macroeconomic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DP growth-present negative with forecasted very low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dget deficit-still over IMF Stand-by Agrm. Tar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of Current Account Deficit-despite of significant reduction of both export and impo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dit portfolio volume-reduced for 2%, compared to 27% growth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FX risk and controlled inflation, due to the Currency 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1C18-BBE1-499A-BADD-FA1F6A9EF89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857160"/>
            <a:ext cx="84297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100" spc="-1" strike="noStrike">
                <a:solidFill>
                  <a:srgbClr val="000000"/>
                </a:solidFill>
                <a:latin typeface="Calibri"/>
              </a:rPr>
              <a:t>Source: Central Bank B&amp;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8E59-11FF-4111-A3A8-D18D5866AF4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85840" y="2000160"/>
          <a:ext cx="8358120" cy="3071880"/>
        </p:xfrm>
        <a:graphic>
          <a:graphicData uri="http://schemas.openxmlformats.org/drawingml/2006/table">
            <a:tbl>
              <a:tblPr/>
              <a:tblGrid>
                <a:gridCol w="2431800"/>
                <a:gridCol w="739800"/>
                <a:gridCol w="741600"/>
                <a:gridCol w="741240"/>
                <a:gridCol w="739800"/>
                <a:gridCol w="741240"/>
                <a:gridCol w="741600"/>
                <a:gridCol w="739800"/>
                <a:gridCol w="741240"/>
              </a:tblGrid>
              <a:tr h="285120">
                <a:tc rowSpan="2"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</a:tr>
              <a:tr h="3193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ment fund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sing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urance and reinsurance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crocredit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Footer Placeholder 5"/>
          <p:cNvSpPr/>
          <p:nvPr/>
        </p:nvSpPr>
        <p:spPr>
          <a:xfrm>
            <a:off x="3000240" y="628668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% of Financial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1 Registered Ban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deration BiH, 19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ublic of Srpska 10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Banks under Administ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90% foreign ow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75% of total assets with 4 key play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% of GDP penetr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evant share of retail loan portfol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capital adequacy ratio (CAR) – over 16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 profitabili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6FDA-0A54-42EA-AD10-F071D082F58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58:07Z</dcterms:created>
  <dc:creator>samir</dc:creator>
  <dc:description/>
  <dc:language>en-US</dc:language>
  <cp:lastModifiedBy>samir</cp:lastModifiedBy>
  <dcterms:modified xsi:type="dcterms:W3CDTF">2009-12-03T13:34:02Z</dcterms:modified>
  <cp:revision>32</cp:revision>
  <dc:subject/>
  <dc:title>Bosnia and Herzegovina </dc:title>
</cp:coreProperties>
</file>