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16.wmf" ContentType="image/x-wmf"/>
  <Override PartName="/ppt/media/image15.wmf" ContentType="image/x-wmf"/>
  <Override PartName="/ppt/media/image14.wmf" ContentType="image/x-wmf"/>
  <Override PartName="/ppt/media/image9.wmf" ContentType="image/x-wmf"/>
  <Override PartName="/ppt/media/image1.png" ContentType="image/png"/>
  <Override PartName="/ppt/media/image6.jpeg" ContentType="image/jpe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13.wmf" ContentType="image/x-wmf"/>
  <Override PartName="/ppt/media/image5.png" ContentType="image/png"/>
  <Override PartName="/ppt/media/image10.wmf" ContentType="image/x-wmf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6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7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8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9479AD-1A21-4FB7-A242-94190AB0D5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844560" y="743040"/>
            <a:ext cx="495288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844560" y="743040"/>
            <a:ext cx="495288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844560" y="743040"/>
            <a:ext cx="495288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844560" y="743040"/>
            <a:ext cx="495288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844560" y="743040"/>
            <a:ext cx="495288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72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0320"/>
            <a:ext cx="82072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20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3560" y="194148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8440" y="194148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032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3560" y="409032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8440" y="409032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74F2BC-5D6B-4D26-9DDB-8CF4FF4EB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72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8D32A3-74A1-4283-AEDC-D48FD1F88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72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76A880-0636-44E1-B75F-6B540A820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0D6834-0CCB-4A6E-89E7-1909F8EAC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5B7B47-2386-4C2C-ACD4-359F3CEA2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719280"/>
            <a:ext cx="863604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A07384-4AA5-4F5B-BC88-7795A35B2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BCE616-AE2F-4B95-856C-AA800745F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72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20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6AC706-BD13-437D-BE70-01DF4C1DD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0320"/>
            <a:ext cx="82072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FBCCDA-9036-4EC7-846C-629BF4106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72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0320"/>
            <a:ext cx="82072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7A1417-687D-4400-8861-91E1BA037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20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FC958A-057E-4BCC-A0B3-373B5ACBB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3560" y="194148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8440" y="194148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032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3560" y="409032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8440" y="409032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2E466D-9309-4855-B37A-2710DB3AD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72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280"/>
            <a:ext cx="863604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20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0320"/>
            <a:ext cx="82072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" descr="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" descr="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72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320" y="634356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4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200" spc="-1" strike="noStrike">
                <a:solidFill>
                  <a:srgbClr val="cc9900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219F37A-777F-48E2-B280-21A69A4256C1}" type="slidenum">
              <a:rPr b="0" lang="en-US" sz="1200" spc="-1" strike="noStrike">
                <a:solidFill>
                  <a:srgbClr val="cc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46160" y="6357960"/>
            <a:ext cx="19047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" descr="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360" y="1612800"/>
            <a:ext cx="777060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3"/>
          </p:nvPr>
        </p:nvSpPr>
        <p:spPr>
          <a:xfrm>
            <a:off x="3358800" y="634356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4"/>
          </p:nvPr>
        </p:nvSpPr>
        <p:spPr>
          <a:xfrm>
            <a:off x="6019560" y="6343560"/>
            <a:ext cx="2894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125280" y="6357960"/>
            <a:ext cx="19036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B5BAC027-FF81-490B-AF73-8B21CC3712E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160360" y="5056200"/>
            <a:ext cx="6189480" cy="128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67320" bIns="46080" anchor="t">
            <a:noAutofit/>
          </a:bodyPr>
          <a:p>
            <a:pPr marL="343080" indent="-343080" algn="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hr-HR" sz="2400" spc="-1" strike="noStrike">
                <a:solidFill>
                  <a:srgbClr val="ffcc00"/>
                </a:solidFill>
                <a:latin typeface="Arial"/>
              </a:rPr>
              <a:t>Item III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hr-HR" sz="2400" spc="-1" strike="noStrike">
                <a:solidFill>
                  <a:srgbClr val="ffcc00"/>
                </a:solidFill>
                <a:latin typeface="Arial"/>
              </a:rPr>
              <a:t>Zoran Bohaček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hr-HR" sz="2400" spc="-1" strike="noStrike">
                <a:solidFill>
                  <a:srgbClr val="ffcc00"/>
                </a:solidFill>
                <a:latin typeface="Arial"/>
              </a:rPr>
              <a:t>28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. V</a:t>
            </a:r>
            <a:r>
              <a:rPr b="1" lang="hr-HR" sz="2400" spc="-1" strike="noStrike">
                <a:solidFill>
                  <a:srgbClr val="ffcc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hr-HR" sz="2400" spc="-1" strike="noStrike">
                <a:solidFill>
                  <a:srgbClr val="ffcc00"/>
                </a:solidFill>
                <a:latin typeface="Arial"/>
              </a:rPr>
              <a:t>2010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882720" y="1341360"/>
            <a:ext cx="7378560" cy="153828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-324360" y="3239640"/>
            <a:ext cx="626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972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Arial"/>
              </a:rPr>
              <a:t>Croatia</a:t>
            </a:r>
            <a:endParaRPr b="0" lang="en-US" sz="6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17160" y="610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o, what did the CBA do?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60000" y="1955880"/>
            <a:ext cx="8209080" cy="416376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 fontScale="99000"/>
          </a:bodyPr>
          <a:p>
            <a:pPr marL="677160" indent="-6760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Extremely active role (continued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677160" indent="-6760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Extensive media coverage (reduced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677160" indent="-6760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Most questions to banks ended up with us - coordinating respons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677160" indent="-6760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BA “vademecum” since February 2009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677160" indent="-6760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Published analyses, outlook, viewpoint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677160" indent="-6760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o far, maintained positive rol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677160" indent="-6760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In addition, coordination of CRD, PSD, CCD transposition and many more...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17160" y="764640"/>
            <a:ext cx="8637480" cy="67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BA in Media (from January 1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28680" y="1436760"/>
            <a:ext cx="820872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8000"/>
          </a:bodyPr>
          <a:p>
            <a:pPr marL="33444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4440" indent="-33444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Newspapers 131 - “value” close to €240K (2009-534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4440" indent="-33444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V 21 presences - “value” above €500K (2009-132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4440" indent="-33444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adio 22, additional web portal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4440" indent="-33444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Media classification – 98% “neutral”, 2% “positive”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328680" y="1985760"/>
            <a:ext cx="820872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ffffcc"/>
                </a:solidFill>
                <a:latin typeface="Arial"/>
              </a:rPr>
              <a:t>Seems we survived the first wave........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ffffcc"/>
                </a:solidFill>
                <a:latin typeface="Arial"/>
              </a:rPr>
              <a:t>Good luck and thank you!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92120" y="37944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"/>
              </a:rPr>
              <a:t>Real GDP growth rates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68360" y="1844640"/>
            <a:ext cx="3959280" cy="368280"/>
          </a:xfrm>
          <a:prstGeom prst="rect">
            <a:avLst/>
          </a:prstGeom>
          <a:solidFill>
            <a:srgbClr val="808080"/>
          </a:solidFill>
          <a:ln w="0">
            <a:noFill/>
          </a:ln>
          <a:effectLst>
            <a:outerShdw dist="17819" dir="135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roati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716360" y="1844640"/>
            <a:ext cx="3959280" cy="368280"/>
          </a:xfrm>
          <a:prstGeom prst="rect">
            <a:avLst/>
          </a:prstGeom>
          <a:solidFill>
            <a:srgbClr val="808080"/>
          </a:solidFill>
          <a:ln w="0">
            <a:noFill/>
          </a:ln>
          <a:effectLst>
            <a:outerShdw dist="17819" dir="135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eer countri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716360" y="5157720"/>
            <a:ext cx="396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– </a:t>
            </a:r>
            <a:r>
              <a:rPr b="0" lang="hr-HR" sz="1200" spc="-1" strike="noStrike">
                <a:solidFill>
                  <a:srgbClr val="ffffcc"/>
                </a:solidFill>
                <a:latin typeface="Arial"/>
              </a:rPr>
              <a:t>a</a:t>
            </a: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verage </a:t>
            </a:r>
            <a:r>
              <a:rPr b="0" lang="hr-HR" sz="1200" spc="-1" strike="noStrike">
                <a:solidFill>
                  <a:srgbClr val="ffffcc"/>
                </a:solidFill>
                <a:latin typeface="Arial"/>
              </a:rPr>
              <a:t>annual growth </a:t>
            </a: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rate, 199</a:t>
            </a:r>
            <a:r>
              <a:rPr b="0" lang="hr-HR" sz="1200" spc="-1" strike="noStrike">
                <a:solidFill>
                  <a:srgbClr val="ffffcc"/>
                </a:solidFill>
                <a:latin typeface="Arial"/>
              </a:rPr>
              <a:t>9 – </a:t>
            </a: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200</a:t>
            </a:r>
            <a:r>
              <a:rPr b="0" lang="hr-HR" sz="1200" spc="-1" strike="noStrike">
                <a:solidFill>
                  <a:srgbClr val="ffffcc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Sources: Eurostat, CNB</a:t>
            </a:r>
            <a:r>
              <a:rPr b="0" lang="hr-HR" sz="1200" spc="-1" strike="noStrike">
                <a:solidFill>
                  <a:srgbClr val="ffffcc"/>
                </a:solidFill>
                <a:latin typeface="Arial"/>
              </a:rPr>
              <a:t>, national statistical offic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5157720"/>
            <a:ext cx="396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The data until 2006 are harmonised with final annual calculation of the GDP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ource: CNB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57200" y="2611440"/>
            <a:ext cx="4038480" cy="25066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4648320" y="2610000"/>
            <a:ext cx="4038480" cy="25095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511200" y="41400"/>
            <a:ext cx="84787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100" spc="-1" strike="noStrike">
                <a:solidFill>
                  <a:srgbClr val="ffffcc"/>
                </a:solidFill>
                <a:latin typeface="Arial"/>
              </a:rPr>
              <a:t>A brief overview</a:t>
            </a:r>
            <a:endParaRPr b="0" lang="en-US" sz="21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9640" y="987480"/>
            <a:ext cx="3780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"/>
              </a:rPr>
              <a:t>Banks' loans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172880" y="5219640"/>
            <a:ext cx="206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year-on-year rate of chang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287280" y="2422440"/>
            <a:ext cx="4175280" cy="25844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4859280" y="2411280"/>
            <a:ext cx="3959280" cy="2605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040360" y="988920"/>
            <a:ext cx="38624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Average lending interest rat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598920" y="5400720"/>
            <a:ext cx="216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ource: CNB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11200" y="41400"/>
            <a:ext cx="84787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100" spc="-1" strike="noStrike">
                <a:solidFill>
                  <a:srgbClr val="ffffcc"/>
                </a:solidFill>
                <a:latin typeface="Arial"/>
              </a:rPr>
              <a:t>A brief overview</a:t>
            </a:r>
            <a:endParaRPr b="0" lang="en-US" sz="21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60000" y="1068120"/>
            <a:ext cx="3598920" cy="15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Current account deficit and FDI inflows in Croatia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293760" y="2987640"/>
            <a:ext cx="4043160" cy="25192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4680000" y="3005280"/>
            <a:ext cx="3924360" cy="24858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4632480" y="1438200"/>
            <a:ext cx="41875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External debt by debtor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382920" y="5400720"/>
            <a:ext cx="216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ource: CNB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1200" y="41400"/>
            <a:ext cx="84787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11200" y="41400"/>
            <a:ext cx="84787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100" spc="-1" strike="noStrike">
                <a:solidFill>
                  <a:srgbClr val="ffffcc"/>
                </a:solidFill>
                <a:latin typeface="Arial"/>
              </a:rPr>
              <a:t>A brief overview</a:t>
            </a:r>
            <a:endParaRPr b="0" lang="en-US" sz="21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60360" y="590040"/>
            <a:ext cx="382752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"/>
              </a:rPr>
              <a:t>Total assets of all banks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360360" y="2340000"/>
            <a:ext cx="4016520" cy="25192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4788000" y="2340000"/>
            <a:ext cx="3992400" cy="25192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4680000" y="1035000"/>
            <a:ext cx="4367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Capital adequacy of bank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788000" y="5075280"/>
            <a:ext cx="4103640" cy="307080"/>
          </a:xfrm>
          <a:prstGeom prst="rect">
            <a:avLst/>
          </a:prstGeom>
          <a:solidFill>
            <a:srgbClr val="808080"/>
          </a:solidFill>
          <a:ln w="0">
            <a:noFill/>
          </a:ln>
          <a:effectLst>
            <a:outerShdw dist="17819" dir="135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regulatory capital</a:t>
            </a:r>
            <a:r>
              <a:rPr b="0" lang="hr-HR" sz="1400" spc="-1" strike="noStrike">
                <a:solidFill>
                  <a:srgbClr val="ffffff"/>
                </a:solidFill>
                <a:latin typeface="Verdana"/>
              </a:rPr>
              <a:t>/</a:t>
            </a: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total exposure to risks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419640" y="5478480"/>
            <a:ext cx="216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ource: CNB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11200" y="41400"/>
            <a:ext cx="84787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11200" y="41400"/>
            <a:ext cx="84787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100" spc="-1" strike="noStrike">
                <a:solidFill>
                  <a:srgbClr val="ffffcc"/>
                </a:solidFill>
                <a:latin typeface="Arial"/>
              </a:rPr>
              <a:t>A brief overview</a:t>
            </a:r>
            <a:endParaRPr b="0" lang="en-US" sz="21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11200" y="41400"/>
            <a:ext cx="84787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100" spc="-1" strike="noStrike">
                <a:solidFill>
                  <a:srgbClr val="ffffcc"/>
                </a:solidFill>
                <a:latin typeface="Arial"/>
              </a:rPr>
              <a:t>A brief overview</a:t>
            </a:r>
            <a:endParaRPr b="0" lang="en-US" sz="21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59880" y="723960"/>
            <a:ext cx="30783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"/>
              </a:rPr>
              <a:t>RO</a:t>
            </a:r>
            <a:r>
              <a:rPr b="0" lang="hr-HR" sz="3200" spc="-1" strike="noStrike">
                <a:solidFill>
                  <a:srgbClr val="ffcc00"/>
                </a:solidFill>
                <a:latin typeface="Arial"/>
              </a:rPr>
              <a:t>A</a:t>
            </a:r>
            <a:r>
              <a:rPr b="0" lang="en-GB" sz="3200" spc="-1" strike="noStrike">
                <a:solidFill>
                  <a:srgbClr val="ffcc00"/>
                </a:solidFill>
                <a:latin typeface="Arial"/>
              </a:rPr>
              <a:t>A and RO</a:t>
            </a:r>
            <a:r>
              <a:rPr b="0" lang="hr-HR" sz="3200" spc="-1" strike="noStrike">
                <a:solidFill>
                  <a:srgbClr val="ffcc00"/>
                </a:solidFill>
                <a:latin typeface="Arial"/>
              </a:rPr>
              <a:t>A</a:t>
            </a:r>
            <a:r>
              <a:rPr b="0" lang="en-GB" sz="3200" spc="-1" strike="noStrike">
                <a:solidFill>
                  <a:srgbClr val="ffcc00"/>
                </a:solidFill>
                <a:latin typeface="Arial"/>
              </a:rPr>
              <a:t>E</a:t>
            </a:r>
            <a:r>
              <a:rPr b="0" lang="hr-HR" sz="32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330120" y="2421000"/>
            <a:ext cx="4168800" cy="25844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4726080" y="2441520"/>
            <a:ext cx="4093920" cy="25434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4319640" y="1106640"/>
            <a:ext cx="472752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assification of placements</a:t>
            </a:r>
            <a:r>
              <a:rPr b="0" lang="hr-HR" sz="3200" spc="-1" strike="noStrike">
                <a:solidFill>
                  <a:srgbClr val="ffffcc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nd contingent liabiliti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564000" y="5400720"/>
            <a:ext cx="216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ource: CNB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1200" y="41400"/>
            <a:ext cx="84787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11200" y="41400"/>
            <a:ext cx="84787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100" spc="-1" strike="noStrike">
                <a:solidFill>
                  <a:srgbClr val="ffffcc"/>
                </a:solidFill>
                <a:latin typeface="Arial"/>
              </a:rPr>
              <a:t>A brief overview</a:t>
            </a:r>
            <a:endParaRPr b="0" lang="en-US" sz="21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7160" y="151920"/>
            <a:ext cx="863748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o, what did the monetary authorities do?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28680" y="1796760"/>
            <a:ext cx="8208720" cy="465300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 fontScale="99000"/>
          </a:bodyPr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End 2008 – relaxed some constraints to increase liquidity – </a:t>
            </a: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targeted to public sector.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Early 2009 – increased regulatory burden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Controlled exchange rate and liquidity on open market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Declared that exchange rate stability is priority, opening pressures on interest rates.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Early 2010 – further relaxation of reserve requirement – targeted to increase credit availability through government plans.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Maintained stable exchange rate and low inflation in spite of the pressures.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Continuously called on structural reforms and fiscal response to monetary moves.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o, what did the government do?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60000" y="1800000"/>
            <a:ext cx="820908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Calls on government since October 2008 to make decisive move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Recognized recession 6 months later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Announced 10 “Anti-Recession Measures”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Rebalanced the budget 3 times – from March to July 2009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Introduced “crisis tax” and increased VAT by 1%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Country rating slightly decreased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Issued 750 mill € bonds in May 2009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Issued 1,5 bill $ bonds in October 2009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End 2009 – announced several models to increase lending/decrease interest rate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April 2010 – announced a complete, hopefully more concrete plan to make necessary reforms and fiscal adjustment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17160" y="549360"/>
            <a:ext cx="8637480" cy="6746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o, what did the banks do?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50920" y="2087640"/>
            <a:ext cx="8208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 fontScale="99000"/>
          </a:bodyPr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Unlike some other countries – banks helped bail out the government – 2,8 bln €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No squeezing out of private sector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Maintained reasonable credit activity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Syndicated loan to government – 750 mill €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Raised interest rate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33680" indent="-281160">
              <a:lnSpc>
                <a:spcPct val="93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Increased price (due to risk) on international market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33680" indent="-281160">
              <a:lnSpc>
                <a:spcPct val="93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Increased competition on domestic market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Successfully avoided financial crisis, but risks lie in real sector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2T11:39:33Z</dcterms:created>
  <dc:creator>Zoran Bohaček</dc:creator>
  <dc:description/>
  <dc:language>en-US</dc:language>
  <cp:lastModifiedBy>Zoran Bohacek</cp:lastModifiedBy>
  <cp:lastPrinted>2009-06-16T13:41:08Z</cp:lastPrinted>
  <dcterms:modified xsi:type="dcterms:W3CDTF">2010-05-26T10:22:12Z</dcterms:modified>
  <cp:revision>75</cp:revision>
  <dc:subject/>
  <dc:title>KREDITNI REGISTAR KAO INSTITUCIJA RAZVIJENOG FINANCIJSKOG TRŽIŠ</dc:title>
</cp:coreProperties>
</file>