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CD3A-E9BA-4375-B40E-113B02A1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5993-2084-49D9-A034-A4057299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66AE-8881-4521-AA8C-20DCE9529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5346-1B99-4334-A89D-46846F449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4A22-6192-4688-99C8-D3D58B5ED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8F47-FCE1-46BA-B9C1-DCEFFAE9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372E-35F4-493F-AF44-C2F3BE04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2A53-2A7B-40E8-8226-A565C759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0627-5FE7-45EB-9020-DEF44C79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127D-52C6-4FB8-9AB9-D0C7A393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C036-3CBB-47C1-9940-C1FEFA84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57BF-4CA0-49C2-85E1-5914E408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3C09-56F8-4FD9-A9FC-6A72C3A6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D23B-A150-4110-9811-2CCC159A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A932-8D59-4DC4-8495-1D475F35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F4B7-A476-4D05-A8D0-ECEE3F024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5D2D-F300-4C3A-9FAD-5C672F3C1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BB36-4731-4C70-B43E-927EB66E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915D-17F4-41DA-B046-F32F99CC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C529-3452-473B-BD0D-AB4056C7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38F9-C4DF-4E1A-9483-44ED6E97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C847-D7CD-4CDF-B3A2-12EC5983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5C01-EC62-4D78-ADFB-C21EB14C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CBE4-1B5C-42E6-A7A8-0AD553A0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4CC1-A4F7-4F1A-B79E-49EDE3F28E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906A-82E0-452F-B8EB-6E1D6736B1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EBF-FINAL_noWhiteBorder.GIF"/>
          <p:cNvPicPr/>
          <p:nvPr/>
        </p:nvPicPr>
        <p:blipFill>
          <a:blip r:embed="rId4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B2C5-CE93-484B-A90B-2C4AFFB7FD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454B-8BA3-4605-A953-911422584D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50560" y="1483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PROPOSED FTT DIRECTIVE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COM(2011) 594 of 28.09.2011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7890120" y="260280"/>
            <a:ext cx="103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2193A-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0B15-8730-40F3-B033-85CEDEE90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IMPACT EXPECTED BY THE COMMISSION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4000" y="1483920"/>
            <a:ext cx="8640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Revenue estimation: ≈ €55 bn annually, depending on market reactions and effectiveness of tax colle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Market reaction / functioning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he turnover on securities markets is assumed to decline by up to 20%, namely with respect to the segment of HF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he turnover on derivatives markets is expected to decline by up to 90% in some market segments, especially in the market segment of HFT and highly-leveraged produc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mpact on financial centres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mportant decline in the (inflated) turnover in some market segments (namely HFT and highly-leveraged products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Need for adjusting business models to the new tax environme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mall impact on employme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B9F9-E69B-458F-B484-D830ED34A4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THE COMMISSION’S MOTIVATIONS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0920" y="1557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Ensure that the financial sector makes a fair contribution at a time of fiscal consolidation in the Member States, assuming that the financial sector is currently under-taxed vis-à-vis other sector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trengthen the EU Single Market by setting up a harmonized framework to tax financial transactions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help reduce competitive distortions;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deter from excessive risk-taking activities;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complement regulatory measures aimed at prevent future crises;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promote common rules for the introduction of a FTT at global level.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47FE-CFDF-4E9A-972A-674E9AD185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RESIDENCE PRINCIPLE 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87280" y="1341000"/>
            <a:ext cx="8677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t least one of the parties to transaction needs to be “established in a MS”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“financial institution” “established in MS” concerne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s party to the transaction acting either for its own accou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r for the account of another pers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r is acting in the name of a party to the transa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s a rule “establishment of financial institution” determines which MS has to tax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financial institution is not considered to be established in a MS in case it proves that there is no link between the economic substance of the transaction and the territory of any M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0BD0-9ED1-402C-B43E-E09E055872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COLLECTION &amp; ADMINISTRATION </a:t>
            </a:r>
            <a:br>
              <a:rPr sz="3200"/>
            </a:b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OF THE TAX</a:t>
            </a: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Focus on Financial Institutions, broadly defined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ax chargeable event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= Execution of a financial transaction involving an EU Financial Institu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Liability of Financial Institutions for the payment of the FTT to tax authoriti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t the moment of the tax chargeable event in case of electronic financial transaction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within three working days from chargeability in all other cas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Joint liability of each party to the transaction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E0C2-C736-4528-A435-679A0AD60A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SCOPE OF THE TAX 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Broad based approach in terms of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nstruments ;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ransactions (both organised markets and OTC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Reference to relevant regulatory EU framework used as much as possible for definition of financial instruments and “Financial transactions”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Purchase and sale of transferable securities, money-market instruments, units and shares in collective investment undertakings, structured produc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ecurities lending and borrowing and repo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Conclusion/Modification and trading of derivatives agreemen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ransfers of financial instruments between group entities (other than purchase and sale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derivatives agreement resulting in a sale or purchase of a financial instrument (physical settlement) triggers additional taxable transa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290D-3C9C-4D48-ABF4-99927D2E61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OUT OF SCOP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3640" y="148428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SMEs and Private Households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Enterprise borrowing/lending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Mortgage loan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Consumer credit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Insurance contract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ayment transactions, etc.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large and international business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1f497d"/>
                </a:solidFill>
                <a:latin typeface="Calibri"/>
              </a:rPr>
              <a:t>S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ot currency transactions (as opposed to currency derivatives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rimary market transactions for raising capital through the issuing of shares and bonds (except for shares and units of collective investment undertakings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public borrowing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Issuing of government bond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monetary policy and post-trading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Transactions with ECB, Central Banks of Member State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EFSF (not considered to be a financial institution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Central Counter Parties (idem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2381-39F6-4727-9829-4F2FEE4469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TAXABLE BAS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23640" y="1599840"/>
            <a:ext cx="8569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Financial transactions other than those related to derivatives agreements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Amount paid or owed for the transfer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Market price (= at arm’s length price) in case :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Amount paid for transfer is lower than market price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Or transfers of financial instruments between entities of a group in case they do not constitute a « purchase or a sale »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Derivatives agreements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Notional amount of the derivatives agreement (underlying notional or face amount that is used to calculate payments made on a given derivatives agreement)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Common provision on exchange rate to be applied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Taxing gross transactions before netting and settlement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46C4-3CDD-4B93-8133-7F2A384637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RATES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920" y="1557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Financial instruments other than derivatives and derivatives are different in nature/economic value/taxable amount =&gt; rates to be differentiated between two categori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Level of rates defined in the Proposal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would guarantee a part of revenue for the EU budget and a part for the Member States’ budge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need to be sufficiently high for harmonisation objectiv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need to be low enough to avoid excessive market reactions and reloc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Tax rates: 0,01% for derivatives and 0,1% for other transactions (for each taxable party to the transaction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Character of the rate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Minimum rat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One single rate (for each of the two product groups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1DEC-E51D-4E61-A73D-F7C379237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IMPLEMENTATION CALENDAR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560" y="1483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Proposed implementation as of 1 January 2014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Review clause: after five years, first time by 31/12/ 2016, report on application of FTT, possibly with a modification proposa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DF96-E13F-49BD-AC78-36E08630A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6:25:09Z</dcterms:created>
  <dc:creator>Mireille Thiery</dc:creator>
  <dc:description/>
  <dc:language>en-US</dc:language>
  <cp:lastModifiedBy>Mireille Thiery</cp:lastModifiedBy>
  <dcterms:modified xsi:type="dcterms:W3CDTF">2011-12-08T09:57:40Z</dcterms:modified>
  <cp:revision>44</cp:revision>
  <dc:subject/>
  <dc:title>Slide 1</dc:title>
</cp:coreProperties>
</file>