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8656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27FD-8D0A-4209-AB45-C49A7DAF3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F5A1-14F3-413A-8A4B-24F03A3F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2662-2DC3-4FE1-9A57-182F75A55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4FD4-30E3-4165-833D-B84F5C1F9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233B-727F-4E4E-8DEB-3C36BECEC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EC0F-D18F-4A10-ADE3-5B1A340F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C1CF-791D-4B73-B25B-CDAB2818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01CC-8E88-45AB-922F-240E8159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04AA-D057-4646-BE4E-AE627D06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D3159-B3E4-4D91-B6DF-E9A9DBEC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6BE7-70F2-4694-B882-3B51220E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C77C-9085-4EE7-BA47-78E52447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2867B-C128-447E-B394-5BAEB47F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069B-EB04-4D61-AA53-8E0E7AED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165B-098C-4AEB-89C8-D7620717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1CB3-A122-44A7-8962-735626800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409C0-330F-40C9-8AAB-A525D7476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B8D2-F79D-4972-B585-1DE8DB08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CC90-7579-46DC-98AC-0D522B1E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9D31-0ACB-4951-84F4-C42EF0DB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A56B-E449-4471-B18D-8EFCD8AD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E5FB-4FAA-469E-970B-BDA9F3B1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829D-D476-4891-9217-38BCD8F4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2081-9D16-4936-9F49-2C6E5AEF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900C-785E-4231-8B03-AE1CF6956D9F}" type="slidenum"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1628640"/>
            <a:ext cx="7010280" cy="71640"/>
          </a:xfrm>
          <a:prstGeom prst="roundRect">
            <a:avLst>
              <a:gd name="adj" fmla="val 0"/>
            </a:avLst>
          </a:prstGeom>
          <a:solidFill>
            <a:srgbClr val="86d1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5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2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9E13-ED1D-49B2-9FD1-D0ED4CC9C81D}" type="slidenum"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920" y="-114480"/>
            <a:ext cx="9144000" cy="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1295640" y="1376640"/>
            <a:ext cx="71996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ffffff"/>
                </a:solidFill>
                <a:latin typeface="Arial"/>
              </a:rPr>
              <a:t>Elektronik Bankacılıkta</a:t>
            </a:r>
            <a:br>
              <a:rPr sz="4800"/>
            </a:br>
            <a:r>
              <a:rPr b="0" lang="tr-TR" sz="4800" spc="-1" strike="noStrike">
                <a:solidFill>
                  <a:srgbClr val="ffffff"/>
                </a:solidFill>
                <a:latin typeface="Arial"/>
              </a:rPr>
              <a:t>Uluslararası Yaklaşımla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Ahmet Türkay VAR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ilgi Yönetimi Dairesi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/ BDD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Daire Başkan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EAF5-0486-424E-83C3-3B9B014E516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Önemli Konu Başlıkları / </a:t>
            </a:r>
            <a:br>
              <a:rPr sz="4000"/>
            </a:b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Karşılaşılan Riskl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246400" y="1628640"/>
            <a:ext cx="520524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imlik Doğrul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İnkar Edeme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Güvenlik (Gizlili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Mahremiy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Veri Bütünlüğ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Müşteri Bilgilendir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2C6B-8359-4A2B-A5B7-3355B93FD0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Öne Çıkan Korunma Teknikler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403280" y="1484280"/>
            <a:ext cx="6912000" cy="39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Çok Faktörlü Kimlik Doğrul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Müşterinin Bildiği Bir Uns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Müşterinin Sahip Olduğu Bir Uns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Müşterinin Biyolojik Tekil Bir Özelliğ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-im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İletilen Verinin Şifrelenme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4801-22B3-4A91-A128-7CE2E97142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Karşılaşılan Güçlükl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10920" y="1987200"/>
            <a:ext cx="806436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Bazı Tekniklerin Kullanım Alt Yapısının Oluşmamış Olması (E-İmz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Teknolojinin Gelişen ve Değişen Yapıs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Genel Erişime Açık Ort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ullanıcı Bilinçlendir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3F75-9E7F-4F71-ABFD-D43FC86483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BDDK Çalışmalar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71280" y="2211120"/>
            <a:ext cx="6985080" cy="35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Bankalarda Bilgi Sistemlerinin Yönetiminde Esas Alınacak İlkelere İlişkin Tebli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İnternet Bankacılığ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5BA0-EBF3-489E-88B9-890A156544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512640" y="333360"/>
            <a:ext cx="771156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İLGİNİZ İÇİN TEŞEKÜRL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SORUL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37A2-B04E-493D-B066-312CD3862D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513000" y="32544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Çatı Kuruml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362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ank for International Settlements (BIS) – Electronic Banking Group of Basel Committee on Banking Superv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Elektronik Bankacılık için Risk Yönetimi İlkeleri” – Temmuz 2003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(Risk Management Principles for Electronic Bank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uropean Committee for Banking Standards (ECB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Elektronik Bankacılık için Güvenlik Kılavuzları: Basel Risk Yönetimi İlkeleri Uygulamaları” – Ağustos 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(Security Guidelines for e-Banking: Application of Basel Risk Management Principl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077F-D472-466F-843A-F628E41BF7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lektronik Bankacılık İçin Risk Yönetim Prensipleri (I)*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66760" y="2176560"/>
            <a:ext cx="693432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Ana Başlıkla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Üst Yönetim Gözeti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Güvenlik Kontrolle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Yasal Risk ve İtibar Riski Yöneti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5720" y="6580080"/>
            <a:ext cx="78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* BIS’in Temmuz 2003 tarihli “Risk Management Principles for Electronic Banking” dokümanınd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17CD-E07B-4B0B-BC53-E6F0DE0EE3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lektronik Bankacılık İçin Risk Yönetim Prensipleri (II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53656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-Bankacılık Faaliyetleri Üzerinde Etkin Yönetim Gözeti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apsamlı Güvenlik Kontrol Süreçlerinin Tesis Edilme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Destek Hizmeti Alımına İlişkin Faaliyetlerin Gözetimi, Hizmet Kalitesi ve Diğer Unsurların Taki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47640" y="1785960"/>
            <a:ext cx="51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99"/>
                </a:solidFill>
                <a:latin typeface="Arial"/>
              </a:rPr>
              <a:t>Üst Yönetim Gözetimi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F9CA-73BC-45D0-8561-260CDC9A6A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lektronik Bankacılık İçin Risk Yönetim Prensipleri (III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1280" y="2355840"/>
            <a:ext cx="8229600" cy="40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Kimlik Doğrul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-bankacılık İşlemleri İçin İnkar Edememe ve Güvenilirl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Görevler Ayrılığı İçin Uygun Önlem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-bankacılık Sistemleri, Veritabanları ve Uygulamaları İçin Uygun Yetkilendir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-bankacılık İşlemleri, Kayıtları ve Bilgileri İçin Veri Bütünlüğ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-bankacılık İşlemleri İçin Denetim İzlerinin (log) Tutulm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Kritik Banka Bilgileri İçin Gizlil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95640" y="162864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99"/>
                </a:solidFill>
                <a:latin typeface="Arial"/>
              </a:rPr>
              <a:t>Güvenlik Kontrolleri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7818-D2D5-428E-BE0B-DC1E3299E1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lektronik Bankacılık İçin Risk Yönetim Prensipleri (IV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46384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-bankacılık Hizmetleri İle İlgili Yeterli Açıkl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Müşteri Bilgilerinin Mahremiye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-bankacılık Sistemlerinin ve Servislerinin Sürekliliğini Sağlamak Üzere Kapasite, İş Sürekliliği ve İhtimal Planlamas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Olay Cevap Plan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0000" y="169236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99"/>
                </a:solidFill>
                <a:latin typeface="Arial"/>
              </a:rPr>
              <a:t>Yasal Risk ve İtibar Riski Yönetimi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D060-8E81-4A90-A698-3AD1001139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le Alınma Biçimler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30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Düzenl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Mevcut Düzenlemeler Kapsamında Değerlendir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Konuya İlişkin Yeni Düzenlemelerin Hazırlanm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Kılavu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55640" y="5229360"/>
            <a:ext cx="68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Sertifikasy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(WebTrust, BBBOnline, TrustUK,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D4DC-8A6B-4FAE-9578-A1094E5ABB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Sertifikasyon - 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68360" y="1308240"/>
            <a:ext cx="8207280" cy="516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0647-C875-4F87-B52B-5387343BE1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Sertifikasyon - I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68360" y="1963800"/>
            <a:ext cx="8244000" cy="44895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68360" y="1225440"/>
            <a:ext cx="8280360" cy="73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DF24-DCA9-4461-B190-91BEA30C64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0:47:00Z</dcterms:created>
  <dc:creator>Zerrin Saba</dc:creator>
  <dc:description/>
  <dc:language>en-US</dc:language>
  <cp:lastModifiedBy>avarli</cp:lastModifiedBy>
  <dcterms:modified xsi:type="dcterms:W3CDTF">2007-05-22T12:08:34Z</dcterms:modified>
  <cp:revision>37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