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D10B-01B5-43DA-9852-9F0DC61EE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3EEE-85D3-41C2-858F-BFD008E4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315C-F18A-4AEE-9B72-3F895244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7BB9-19FB-4F61-88D7-4EA288DBC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67DB-6DEB-4B45-8098-406C97E0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F9E8-B9D3-46F1-8AF7-DA8DED3E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C9A3-6619-49F0-9C1B-99559D8C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AD18-9A26-487B-9781-0B4D5071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A36D-04A8-4B00-82E4-79AE4EA9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CDAB-C126-4917-A7BD-3E1C1F3D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8573-39C9-472A-944E-FE698F0E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25EC-AA11-4488-B658-6C528E11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941F-78D3-4A7E-AD67-1BFC0A297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3333cc"/>
                </a:solidFill>
                <a:latin typeface="Times New Roman"/>
              </a:rPr>
              <a:t>Son Ekonomik Göstergeler</a:t>
            </a:r>
            <a:r>
              <a:rPr b="1" lang="tr-TR" sz="2800" spc="-1" strike="noStrike">
                <a:solidFill>
                  <a:srgbClr val="3333cc"/>
                </a:solidFill>
                <a:latin typeface="Times New Roman"/>
              </a:rPr>
              <a:t>*</a:t>
            </a:r>
            <a:br>
              <a:rPr sz="4800"/>
            </a:br>
            <a:br>
              <a:rPr sz="4800"/>
            </a:br>
            <a:r>
              <a:rPr b="1" lang="tr-TR" sz="1800" spc="-1" strike="noStrike">
                <a:solidFill>
                  <a:srgbClr val="3333cc"/>
                </a:solidFill>
                <a:latin typeface="Times New Roman"/>
              </a:rPr>
              <a:t>Dr. Ekrem Keskin</a:t>
            </a:r>
            <a:br>
              <a:rPr sz="1800"/>
            </a:br>
            <a:r>
              <a:rPr b="1" lang="tr-TR" sz="1800" spc="-1" strike="noStrike">
                <a:solidFill>
                  <a:srgbClr val="3333cc"/>
                </a:solidFill>
                <a:latin typeface="Times New Roman"/>
              </a:rPr>
              <a:t>13 Nisan 2004</a:t>
            </a:r>
            <a:br>
              <a:rPr sz="3200"/>
            </a:br>
            <a:br>
              <a:rPr sz="4800"/>
            </a:br>
            <a:br>
              <a:rPr sz="4800"/>
            </a:br>
            <a:r>
              <a:rPr b="0" lang="tr-TR" sz="1800" spc="-1" strike="noStrike">
                <a:solidFill>
                  <a:srgbClr val="3333cc"/>
                </a:solidFill>
                <a:latin typeface="Times New Roman"/>
              </a:rPr>
              <a:t>*Bu sunumda yer alan tablo ve grafikler, TBB tarafından düzenlenen </a:t>
            </a:r>
            <a:br>
              <a:rPr sz="1800"/>
            </a:br>
            <a:r>
              <a:rPr b="0" lang="tr-TR" sz="1800" spc="-1" strike="noStrike">
                <a:solidFill>
                  <a:srgbClr val="3333cc"/>
                </a:solidFill>
                <a:latin typeface="Times New Roman"/>
              </a:rPr>
              <a:t>Ekonomi Muhabirleri Eğitim Programı’nda yapılan konuşma için hazırlanmıştı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762120" y="990720"/>
          <a:ext cx="801504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90720"/>
                    <a:ext cx="80150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685800" y="914400"/>
          <a:ext cx="769608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76960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609480" y="838080"/>
          <a:ext cx="769644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838080"/>
                    <a:ext cx="769644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457200" y="838080"/>
          <a:ext cx="800100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38080"/>
                    <a:ext cx="80010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533520" y="838080"/>
          <a:ext cx="807696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38080"/>
                    <a:ext cx="80769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"/>
          <p:cNvGraphicFramePr/>
          <p:nvPr/>
        </p:nvGraphicFramePr>
        <p:xfrm>
          <a:off x="781200" y="838080"/>
          <a:ext cx="798192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838080"/>
                    <a:ext cx="79819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533520" y="457200"/>
          <a:ext cx="792468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7200"/>
                    <a:ext cx="79246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612720" y="674640"/>
            <a:ext cx="1533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Para Tal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046040" y="110016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63720" y="110016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604920" y="110016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714440" y="1125360"/>
            <a:ext cx="73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Yıl 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3720" y="148284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Trilyon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768440" y="1482840"/>
            <a:ext cx="63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% de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4440" y="1857240"/>
            <a:ext cx="49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2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1480" y="18320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4.1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73680" y="18320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3.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37480" y="18320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5.0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36880" y="18748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3360" y="2225520"/>
            <a:ext cx="68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Re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680720" y="2201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9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902920" y="2201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.0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964920" y="2201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.0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440200" y="22431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4800" y="2593800"/>
            <a:ext cx="66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2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424040" y="25700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36.4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46240" y="25700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2.9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08240" y="25700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7.5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440200" y="26128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3360" y="2963880"/>
            <a:ext cx="47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51480" y="29383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2.2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73680" y="29383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8.9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37480" y="29383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2.5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372520" y="298116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2280" y="3700440"/>
            <a:ext cx="302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.dışın. menkul kıymet (BD)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51480" y="36766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.8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773680" y="36766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2.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37480" y="36766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6.2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440200" y="3719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2640" y="4070520"/>
            <a:ext cx="59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551480" y="4044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0.8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73680" y="4044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9.6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37480" y="4044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4.4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336880" y="40878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2640" y="4438800"/>
            <a:ext cx="59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680720" y="4414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0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02920" y="4414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5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964920" y="4414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.8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270640" y="445788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-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3360" y="480708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Yat. Fo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680720" y="47829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5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73680" y="4782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.1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37480" y="4782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.0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36880" y="4826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4440" y="5176800"/>
            <a:ext cx="76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51480" y="51516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9.4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73680" y="51516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3.4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837480" y="51516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1.3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336880" y="51944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3000" y="5551560"/>
            <a:ext cx="19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ilgi için (M2RY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24040" y="55278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5.8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46240" y="55278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16.3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708240" y="55278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8.9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440200" y="55738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6520" y="5991120"/>
            <a:ext cx="982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0000"/>
                </a:solidFill>
                <a:latin typeface="Times New Roman"/>
              </a:rPr>
              <a:t>* Piyasa değe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12720" y="490680"/>
            <a:ext cx="1533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Para Tal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04604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6372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0492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714440" y="941400"/>
            <a:ext cx="73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Yıl 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54120" y="1298520"/>
            <a:ext cx="127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768440" y="1298520"/>
            <a:ext cx="63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% de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58800" y="1647720"/>
            <a:ext cx="523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M2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605120" y="1647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38.8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27680" y="1647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59.6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91120" y="1647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72.2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80440" y="16905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58800" y="2016000"/>
            <a:ext cx="730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Re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733640" y="2016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.7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55840" y="2016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.1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017840" y="2016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.3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483400" y="20588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8800" y="2386080"/>
            <a:ext cx="707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M2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05120" y="23860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82.6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00960" y="238608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08.6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762960" y="238608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19.7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80440" y="24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59160" y="2754360"/>
            <a:ext cx="71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605120" y="2754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3.7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27680" y="2754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8.9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91120" y="2754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7.5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415360" y="279720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54840" y="3492360"/>
            <a:ext cx="2981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B.dışın. menkul kıymet (B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605120" y="3492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1.1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827680" y="3492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37.1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91120" y="3492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2.7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380440" y="353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58440" y="3860640"/>
            <a:ext cx="50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605120" y="38606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8.6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827680" y="38606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35.2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91120" y="38606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1.3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380440" y="39038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58800" y="4229280"/>
            <a:ext cx="518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733640" y="42292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.4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955840" y="42292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.8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017840" y="42292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.4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14200" y="427212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-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59160" y="4599000"/>
            <a:ext cx="1021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Yat. Fo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33640" y="4599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.7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55840" y="4599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7.9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91120" y="45990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1.4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380440" y="46418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57360" y="496728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605120" y="49672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3.9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827680" y="49672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5.0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91120" y="49672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54.2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380440" y="5010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58440" y="5705640"/>
            <a:ext cx="224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Bilgi için (M2RYB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478760" y="57056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06.5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00960" y="57056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53.7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762960" y="57056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74.0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380440" y="5748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22440" y="6165720"/>
            <a:ext cx="9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* Piyasa değe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107720" y="860400"/>
            <a:ext cx="1533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Para Tal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107000" y="1230480"/>
            <a:ext cx="145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% dağılım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26880" y="16444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244560" y="16444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386120" y="16444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101600" y="2386080"/>
            <a:ext cx="610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Nak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25360" y="2386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47560" y="2386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911360" y="2386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99080" y="2755800"/>
            <a:ext cx="186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Vadesiz mevdu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625360" y="2755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47560" y="2755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911360" y="2755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102320" y="312408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Re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625360" y="3124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47560" y="3124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911360" y="3124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099440" y="3492360"/>
            <a:ext cx="172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Vadeli mevdu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497920" y="3492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720120" y="3492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82120" y="3492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102680" y="3862440"/>
            <a:ext cx="552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97920" y="3862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20120" y="3862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782120" y="3862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01600" y="4230720"/>
            <a:ext cx="738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M2Y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68680" y="423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591240" y="423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53240" y="423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099080" y="4968720"/>
            <a:ext cx="2292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ilgi için (M2RYB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68680" y="496404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591240" y="496404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3240" y="496404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103040" y="5337000"/>
            <a:ext cx="531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97920" y="5332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720120" y="5332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782120" y="5332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102320" y="5705640"/>
            <a:ext cx="532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497920" y="57006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720120" y="57006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782120" y="57006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52280" y="1828800"/>
          <a:ext cx="8458200" cy="441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28800"/>
                    <a:ext cx="8458200" cy="441000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984600" y="990720"/>
            <a:ext cx="67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Finansal Sektör ve Temel Gösterg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8520" y="1596960"/>
            <a:ext cx="3655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Banka Sistemi Kredi Hac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160" y="1967040"/>
            <a:ext cx="3984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Mevduat Bankaları Kredileri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45880" y="201312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841360" y="201312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11200" y="201312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975080" y="201312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973640" y="239220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-83880" y="2760840"/>
            <a:ext cx="2498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(Trilyon T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04800" y="2760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2.2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66720" y="2760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9.8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046280" y="2760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5.1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683920" y="27608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0320" y="3129120"/>
            <a:ext cx="6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104800" y="3129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.4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66720" y="3129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1.7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046280" y="3129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8.1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683920" y="31291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00" y="3498840"/>
            <a:ext cx="66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10480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.8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6672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8.1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04628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.0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724960" y="3498840"/>
            <a:ext cx="21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-95400" y="4235400"/>
            <a:ext cx="2670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(milyon dol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104800" y="42354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9.5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66720" y="42354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.4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046280" y="42354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1.9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683920" y="4235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0320" y="4605480"/>
            <a:ext cx="6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04800" y="4605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.5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66720" y="4605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.5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046280" y="4605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8.9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683920" y="4605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600" y="4973760"/>
            <a:ext cx="66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223960" y="4973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66720" y="49737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2.8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046280" y="49737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2.9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803800" y="4973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42840" y="674640"/>
            <a:ext cx="399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Mevduat Bankaları Kredil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520" y="1044720"/>
            <a:ext cx="399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Sorunlu krediler ve karşılık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745880" y="10904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841360" y="10904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11200" y="10904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975080" y="109044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973640" y="146988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-214920" y="1838160"/>
            <a:ext cx="4435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asfiye olunacak alacaklar (TOA) (brü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-11160" y="2206800"/>
            <a:ext cx="141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rilyon 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223960" y="2206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.9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186240" y="2206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5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64000" y="2206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2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724960" y="2206800"/>
            <a:ext cx="21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-24480" y="2576520"/>
            <a:ext cx="161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223960" y="25765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1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186240" y="25765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2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164000" y="25765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3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803800" y="25765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-53640" y="2944800"/>
            <a:ext cx="20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Ayrılan karşılık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223960" y="2944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3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186240" y="2944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0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164000" y="2944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3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803800" y="2944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000" y="3313080"/>
            <a:ext cx="1126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A (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23960" y="33130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5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186240" y="33130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.5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343280" y="331308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605440" y="3313080"/>
            <a:ext cx="34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-170640" y="3683160"/>
            <a:ext cx="374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A (brüt)/sorunsuz krediler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523120" y="3683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483600" y="3683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463160" y="3683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-219960" y="4051440"/>
            <a:ext cx="446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A(net)/  Sorunsuz kredilere oranı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641560" y="40514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603840" y="40514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583040" y="40514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-207720" y="4421160"/>
            <a:ext cx="4295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A (net)/ Toplam kredilere oranı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641560" y="44211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603840" y="44211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583040" y="44211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-223560" y="5157720"/>
            <a:ext cx="4554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krediler (sorunsuz+sorunlu (net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-11160" y="5527800"/>
            <a:ext cx="141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rilyon 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104800" y="55278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.8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066720" y="55278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1.3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046280" y="55278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6.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803800" y="5527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-24480" y="5896080"/>
            <a:ext cx="161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04800" y="58960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3.5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66720" y="58960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7.9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046280" y="58960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4.5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683920" y="58960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339480" y="1089000"/>
            <a:ext cx="452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Tüketici kredileri ve kredi kart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07800" y="15112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46040" y="15112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66920" y="15112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870320" y="151128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868880" y="187632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91160" y="2241720"/>
            <a:ext cx="222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(trilyon T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247360" y="22417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42960" y="2241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.2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971760" y="2241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9.1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538480" y="2241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97720" y="2606760"/>
            <a:ext cx="203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üketici Krediler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247360" y="2606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9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158520" y="2606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6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71760" y="26067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.7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538480" y="2606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29560" y="2971800"/>
            <a:ext cx="339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247360" y="2971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9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158520" y="2971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6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971760" y="29718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.7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538480" y="2971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3080" y="3338640"/>
            <a:ext cx="40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654520" y="33386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567120" y="33386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495920" y="33386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27240" y="3703680"/>
            <a:ext cx="1669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Kredi Kartlar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247360" y="3703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0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158520" y="3703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5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087320" y="3703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3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538480" y="3703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23800" y="4068720"/>
            <a:ext cx="40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247360" y="40687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0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158520" y="40687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5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087320" y="40687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3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538480" y="4068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23080" y="4433760"/>
            <a:ext cx="40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538240" y="443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449400" y="443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79640" y="443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461080" y="4433760"/>
            <a:ext cx="34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68840" y="4799160"/>
            <a:ext cx="247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(milyon dol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247360" y="47991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2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42960" y="47991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.8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971760" y="47991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.5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538480" y="4799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33000" y="5530680"/>
            <a:ext cx="39952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ük.kre. ve kre. kart./Mev. ban. k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(sorunsuz)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515200" y="5791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26720" y="5791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356960" y="5791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47880" y="2225520"/>
            <a:ext cx="5330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ff0000"/>
                </a:solidFill>
                <a:latin typeface="Times New Roman"/>
              </a:rPr>
              <a:t>Mevduat bankaları sorunsuz kredileri*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5280" y="2671920"/>
            <a:ext cx="482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* Tüketici kredileri ve kredi kartları hariç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707360" y="2671920"/>
            <a:ext cx="939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93120" y="2671920"/>
            <a:ext cx="939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55040" y="2671920"/>
            <a:ext cx="939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907760" y="2671920"/>
            <a:ext cx="794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906320" y="3059280"/>
            <a:ext cx="80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-44280" y="3446640"/>
            <a:ext cx="1398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TL trily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041800" y="3446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25.27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994360" y="3446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34.66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966000" y="3446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35.99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8725680" y="344664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-70560" y="3833640"/>
            <a:ext cx="1695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041800" y="3833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15.30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94360" y="3833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24.62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966000" y="3833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27.36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04000" y="38336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-38880" y="4309920"/>
            <a:ext cx="210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500" spc="-1" strike="noStrike">
                <a:solidFill>
                  <a:srgbClr val="000000"/>
                </a:solidFill>
                <a:latin typeface="Times New Roman"/>
              </a:rPr>
              <a:t>* Yurtiçi şubelerden açıl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41040" y="490680"/>
            <a:ext cx="320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Banka Sistemi Mevduat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4588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84136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81120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75080" y="91584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160" y="1285920"/>
            <a:ext cx="122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rilyon 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973640" y="128592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-135720" y="1654200"/>
            <a:ext cx="3257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ankalardaki TL Mevduat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104800" y="16542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6.4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66720" y="16542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5.9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046280" y="16542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6.8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683920" y="16542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-167760" y="2022480"/>
            <a:ext cx="373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ankalardaki YP Mevduat (D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104800" y="2022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4.5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66720" y="2022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1.3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046280" y="2022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4.8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724960" y="2022480"/>
            <a:ext cx="21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7000" y="2392200"/>
            <a:ext cx="84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986000" y="23922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31.0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946480" y="23922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7.3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926040" y="23922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1.6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803800" y="23922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-11880" y="3129120"/>
            <a:ext cx="1424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-135720" y="3498840"/>
            <a:ext cx="3257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ankalardaki TL Mevduat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10480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.2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6672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3.9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04628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6.0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683920" y="34988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-167760" y="3867120"/>
            <a:ext cx="373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ankalardaki YP Mevduat (D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104800" y="3867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5.1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066720" y="3867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0.7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046280" y="3867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9.2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724960" y="3867120"/>
            <a:ext cx="21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7000" y="4235400"/>
            <a:ext cx="84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104800" y="42354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9.3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946480" y="42354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4.6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926040" y="42354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5.3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683920" y="4235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-151920" y="4973760"/>
            <a:ext cx="3467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Sorunsuz krediler/mevduat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523120" y="497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483600" y="497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463160" y="497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2920" y="5342040"/>
            <a:ext cx="467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523120" y="534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483600" y="534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463160" y="534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2920" y="5711760"/>
            <a:ext cx="46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523120" y="5711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483600" y="5711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463160" y="5711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-249120" y="6080040"/>
            <a:ext cx="489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(Sorunsuz+sorunlu (net)) kredi/mevduat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523120" y="6080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483600" y="6080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463160" y="6080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43200" y="19080"/>
            <a:ext cx="4838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Times New Roman"/>
              </a:rPr>
              <a:t>Kamu iç borçlanması ve mali sistem (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764960" y="3538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30.12.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901840" y="3538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965280" y="3538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929000" y="3538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02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3120" y="1014480"/>
            <a:ext cx="278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amu kağıtları stoğu/M2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496120" y="990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91520" y="99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504560" y="99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417160" y="99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3120" y="1328760"/>
            <a:ext cx="29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amu kağıtları stoğu/M2Y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496120" y="13050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491520" y="130500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504560" y="130500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417160" y="130500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-180360" y="1643040"/>
            <a:ext cx="3126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amu kağıtları stoku/M2YRF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610680" y="16192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623360" y="16192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8536320" y="16192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-237960" y="2270160"/>
            <a:ext cx="383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ankalardaki menkul kıymetler/M2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96120" y="2246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610680" y="2246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623360" y="2246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8536320" y="2246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-252000" y="2584440"/>
            <a:ext cx="400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ankalardaki menkul kıymetler/M2Y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496120" y="2560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610680" y="2560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623360" y="2560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536320" y="2560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-242640" y="3213000"/>
            <a:ext cx="388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anka dışı kesimlerde kamu k./M2Y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610680" y="3187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623360" y="3187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536320" y="3187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3120" y="3840120"/>
            <a:ext cx="286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Kamu kağıtları stoku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470920" y="3816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585120" y="3816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598160" y="3816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-141840" y="4154400"/>
            <a:ext cx="265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redi stoku* (canlı)/M2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496120" y="41306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610680" y="41306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623360" y="41306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536320" y="41306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-146160" y="4468680"/>
            <a:ext cx="2709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redi stoku (canlı)/M2Y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496120" y="4443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610680" y="4443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623360" y="4443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8536320" y="4443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-227160" y="4782960"/>
            <a:ext cx="370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redi stoku (TGA (net) dahil)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496120" y="4757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610680" y="4757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623360" y="4757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2760" y="5095800"/>
            <a:ext cx="382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Kredi stoku (TGA (brüt) dahil)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470920" y="507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585120" y="507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598160" y="507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3840" y="5410080"/>
            <a:ext cx="139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M2RF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70920" y="5386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585120" y="5386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598160" y="5386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3840" y="5724360"/>
            <a:ext cx="156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M2YRF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470920" y="5699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585120" y="5699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598160" y="5699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-52560" y="6039000"/>
            <a:ext cx="156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2RFD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610680" y="6013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3360" y="6013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-65880" y="6351480"/>
            <a:ext cx="172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2YRFD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610680" y="6327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623360" y="6327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-110520" y="6642000"/>
            <a:ext cx="206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* Yurtiçinden açılan kred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914400"/>
          <a:ext cx="8686800" cy="5513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868680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a50021"/>
                </a:solidFill>
                <a:latin typeface="Times New Roman"/>
              </a:rPr>
              <a:t>Dış Borç Stoku (milyar dola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1981080"/>
          <a:ext cx="7772400" cy="4800600"/>
        </p:xfrm>
        <a:graphic>
          <a:graphicData uri="http://schemas.openxmlformats.org/drawingml/2006/table">
            <a:tbl>
              <a:tblPr/>
              <a:tblGrid>
                <a:gridCol w="1905120"/>
                <a:gridCol w="1218960"/>
                <a:gridCol w="1067040"/>
                <a:gridCol w="1295280"/>
                <a:gridCol w="1219320"/>
                <a:gridCol w="10666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opl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2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8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3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30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47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am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8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6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3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5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4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4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1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4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Öz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9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5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3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5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2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inans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0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4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4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9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4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7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03280" y="712800"/>
            <a:ext cx="1893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Finansal aktifl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720" y="1054080"/>
            <a:ext cx="2924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(GSMH'ye oran</a:t>
            </a: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85920" y="1054080"/>
            <a:ext cx="480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066680"/>
            <a:ext cx="1879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%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6516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199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0828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199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140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20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9272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200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3548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200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87860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200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560" y="2077920"/>
            <a:ext cx="2385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Para ve para benzer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628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1904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6216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0348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4660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28936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600" y="2421000"/>
            <a:ext cx="491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7628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1904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6216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0348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4660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28936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5880" y="2762280"/>
            <a:ext cx="71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DT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9040" y="27622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1904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6216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0348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4660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8936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4720" y="3103560"/>
            <a:ext cx="274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Menkul kiymetler (oze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7628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1904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6216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0348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4660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8936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3640" y="3444840"/>
            <a:ext cx="1521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Hisse sened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7628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1904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6216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0348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4660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28936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4000" y="3786120"/>
            <a:ext cx="2951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Menkul kiymetler (kamu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9040" y="378612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1904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6216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0348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4660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28936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3280" y="4127400"/>
            <a:ext cx="1657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Devlet tahvil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9040" y="412740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1904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6216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0348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4660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28936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2560" y="4468680"/>
            <a:ext cx="1819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Hazine bonos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9040" y="44686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41800" y="44686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84920" y="44686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03480" y="44686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46600" y="44686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89360" y="44686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4360" y="4809960"/>
            <a:ext cx="415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Ya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79920" y="480996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03040" y="4809960"/>
            <a:ext cx="1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70440" y="480996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50000" y="4809960"/>
            <a:ext cx="808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m fon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904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4180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8492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2768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7080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41212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3280" y="5494320"/>
            <a:ext cx="89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76280" y="54943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664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6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796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1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8072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6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2384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2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6660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2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85800" y="685800"/>
          <a:ext cx="7924680" cy="512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7924680" cy="51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82600" y="463680"/>
            <a:ext cx="8597520" cy="5631840"/>
            <a:chOff x="282600" y="463680"/>
            <a:chExt cx="8597520" cy="5631840"/>
          </a:xfrm>
        </p:grpSpPr>
        <p:sp>
          <p:nvSpPr>
            <p:cNvPr id="136" name=""/>
            <p:cNvSpPr/>
            <p:nvPr/>
          </p:nvSpPr>
          <p:spPr>
            <a:xfrm>
              <a:off x="282600" y="463680"/>
              <a:ext cx="8597520" cy="5631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54280" y="1339560"/>
              <a:ext cx="8012520" cy="394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4280" y="528336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54280" y="484452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54280" y="440568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54280" y="396864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54280" y="352944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54280" y="265392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54280" y="221508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54280" y="177624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54280" y="133956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54280" y="1339560"/>
              <a:ext cx="8012520" cy="39438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54280" y="1339560"/>
              <a:ext cx="1440" cy="3943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2080" y="528336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2080" y="484452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2080" y="440568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02080" y="396864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2080" y="352944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02080" y="309096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02080" y="265392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2080" y="221508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2080" y="177624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2080" y="133956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54280" y="309096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8542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98388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11149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23120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13626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14918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16214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7395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8691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19983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1297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22590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3770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5066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26359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27669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28832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0146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14388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2734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4045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5211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6518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7818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9110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0291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1587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28796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44190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54860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6666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7959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9258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05656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1732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3042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338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55630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56944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8107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59418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0710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2006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3187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44796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5779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70860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68382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695628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70858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72151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73465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74628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75938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77234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785268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79837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810000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82314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83606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84902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86083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87379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88671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19800" y="1861560"/>
              <a:ext cx="63720" cy="8280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8" y="0"/>
                  </a:moveTo>
                  <a:lnTo>
                    <a:pt x="39" y="23"/>
                  </a:lnTo>
                  <a:lnTo>
                    <a:pt x="31" y="46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49400" y="198684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16" y="0"/>
                  </a:moveTo>
                  <a:lnTo>
                    <a:pt x="32" y="34"/>
                  </a:lnTo>
                  <a:lnTo>
                    <a:pt x="16" y="46"/>
                  </a:lnTo>
                  <a:lnTo>
                    <a:pt x="0" y="1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41200" y="2195280"/>
              <a:ext cx="37440" cy="615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5" y="0"/>
                  </a:moveTo>
                  <a:lnTo>
                    <a:pt x="23" y="23"/>
                  </a:lnTo>
                  <a:lnTo>
                    <a:pt x="8" y="34"/>
                  </a:lnTo>
                  <a:lnTo>
                    <a:pt x="0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66040" y="2236680"/>
              <a:ext cx="39240" cy="6156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8" y="0"/>
                  </a:moveTo>
                  <a:lnTo>
                    <a:pt x="24" y="11"/>
                  </a:lnTo>
                  <a:lnTo>
                    <a:pt x="16" y="34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7080" y="2320200"/>
              <a:ext cx="5220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52600" y="2278800"/>
              <a:ext cx="5256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11"/>
                  </a:moveTo>
                  <a:lnTo>
                    <a:pt x="32" y="0"/>
                  </a:lnTo>
                  <a:lnTo>
                    <a:pt x="32" y="23"/>
                  </a:lnTo>
                  <a:lnTo>
                    <a:pt x="0" y="3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08120" y="2236680"/>
              <a:ext cx="5256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11"/>
                  </a:moveTo>
                  <a:lnTo>
                    <a:pt x="32" y="0"/>
                  </a:lnTo>
                  <a:lnTo>
                    <a:pt x="32" y="23"/>
                  </a:lnTo>
                  <a:lnTo>
                    <a:pt x="0" y="3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65800" y="2278800"/>
              <a:ext cx="50400" cy="6156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8" y="0"/>
                  </a:moveTo>
                  <a:lnTo>
                    <a:pt x="31" y="11"/>
                  </a:lnTo>
                  <a:lnTo>
                    <a:pt x="23" y="34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03240" y="2298240"/>
              <a:ext cx="129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21320" y="2256840"/>
              <a:ext cx="129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34640" y="2256840"/>
              <a:ext cx="5220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8" y="0"/>
                  </a:moveTo>
                  <a:lnTo>
                    <a:pt x="32" y="12"/>
                  </a:lnTo>
                  <a:lnTo>
                    <a:pt x="24" y="35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63880" y="2320200"/>
              <a:ext cx="52200" cy="10332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16" y="0"/>
                  </a:moveTo>
                  <a:lnTo>
                    <a:pt x="32" y="46"/>
                  </a:lnTo>
                  <a:lnTo>
                    <a:pt x="16" y="57"/>
                  </a:lnTo>
                  <a:lnTo>
                    <a:pt x="0" y="1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42720" y="254880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16" y="0"/>
                  </a:moveTo>
                  <a:lnTo>
                    <a:pt x="32" y="35"/>
                  </a:lnTo>
                  <a:lnTo>
                    <a:pt x="16" y="46"/>
                  </a:lnTo>
                  <a:lnTo>
                    <a:pt x="0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06440" y="279900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46040" y="3007440"/>
              <a:ext cx="52200" cy="10512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16" y="0"/>
                  </a:moveTo>
                  <a:lnTo>
                    <a:pt x="32" y="46"/>
                  </a:lnTo>
                  <a:lnTo>
                    <a:pt x="16" y="58"/>
                  </a:lnTo>
                  <a:lnTo>
                    <a:pt x="0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11200" y="3257640"/>
              <a:ext cx="52200" cy="84960"/>
            </a:xfrm>
            <a:custGeom>
              <a:avLst/>
              <a:gdLst/>
              <a:ahLst/>
              <a:rect l="l" t="t" r="r" b="b"/>
              <a:pathLst>
                <a:path w="32" h="47">
                  <a:moveTo>
                    <a:pt x="8" y="0"/>
                  </a:moveTo>
                  <a:lnTo>
                    <a:pt x="32" y="35"/>
                  </a:lnTo>
                  <a:lnTo>
                    <a:pt x="24" y="47"/>
                  </a:lnTo>
                  <a:lnTo>
                    <a:pt x="0" y="1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41160" y="3404520"/>
              <a:ext cx="52200" cy="637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12"/>
                  </a:moveTo>
                  <a:lnTo>
                    <a:pt x="32" y="0"/>
                  </a:lnTo>
                  <a:lnTo>
                    <a:pt x="32" y="23"/>
                  </a:lnTo>
                  <a:lnTo>
                    <a:pt x="0" y="3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98480" y="3384720"/>
              <a:ext cx="50760" cy="6156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0"/>
                  </a:moveTo>
                  <a:lnTo>
                    <a:pt x="31" y="11"/>
                  </a:lnTo>
                  <a:lnTo>
                    <a:pt x="31" y="34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54000" y="3404520"/>
              <a:ext cx="52200" cy="637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12"/>
                  </a:moveTo>
                  <a:lnTo>
                    <a:pt x="32" y="0"/>
                  </a:lnTo>
                  <a:lnTo>
                    <a:pt x="32" y="23"/>
                  </a:lnTo>
                  <a:lnTo>
                    <a:pt x="0" y="3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96560" y="3342960"/>
              <a:ext cx="5256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11"/>
                  </a:moveTo>
                  <a:lnTo>
                    <a:pt x="24" y="0"/>
                  </a:lnTo>
                  <a:lnTo>
                    <a:pt x="32" y="23"/>
                  </a:lnTo>
                  <a:lnTo>
                    <a:pt x="8" y="3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49120" y="3342960"/>
              <a:ext cx="129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65400" y="3257640"/>
              <a:ext cx="12960" cy="435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78360" y="3257640"/>
              <a:ext cx="5220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8" y="0"/>
                  </a:moveTo>
                  <a:lnTo>
                    <a:pt x="32" y="12"/>
                  </a:lnTo>
                  <a:lnTo>
                    <a:pt x="24" y="35"/>
                  </a:lnTo>
                  <a:lnTo>
                    <a:pt x="0" y="2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22720" y="3301200"/>
              <a:ext cx="507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65280" y="3238200"/>
              <a:ext cx="65160" cy="8280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07840" y="3112560"/>
              <a:ext cx="6552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51840" y="2987640"/>
              <a:ext cx="63720" cy="831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23"/>
                  </a:moveTo>
                  <a:lnTo>
                    <a:pt x="31" y="0"/>
                  </a:lnTo>
                  <a:lnTo>
                    <a:pt x="39" y="23"/>
                  </a:lnTo>
                  <a:lnTo>
                    <a:pt x="7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81800" y="279900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0" y="35"/>
                  </a:moveTo>
                  <a:lnTo>
                    <a:pt x="24" y="0"/>
                  </a:lnTo>
                  <a:lnTo>
                    <a:pt x="32" y="12"/>
                  </a:lnTo>
                  <a:lnTo>
                    <a:pt x="8" y="46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85120" y="261216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0" y="34"/>
                  </a:moveTo>
                  <a:lnTo>
                    <a:pt x="16" y="0"/>
                  </a:lnTo>
                  <a:lnTo>
                    <a:pt x="32" y="11"/>
                  </a:lnTo>
                  <a:lnTo>
                    <a:pt x="16" y="4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63600" y="240372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0" y="46"/>
                  </a:moveTo>
                  <a:lnTo>
                    <a:pt x="8" y="0"/>
                  </a:lnTo>
                  <a:lnTo>
                    <a:pt x="24" y="0"/>
                  </a:lnTo>
                  <a:lnTo>
                    <a:pt x="16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02840" y="2153520"/>
              <a:ext cx="39240" cy="8280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0" y="46"/>
                  </a:moveTo>
                  <a:lnTo>
                    <a:pt x="8" y="0"/>
                  </a:lnTo>
                  <a:lnTo>
                    <a:pt x="24" y="0"/>
                  </a:lnTo>
                  <a:lnTo>
                    <a:pt x="16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042080" y="1923120"/>
              <a:ext cx="37440" cy="8316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46"/>
                  </a:moveTo>
                  <a:lnTo>
                    <a:pt x="8" y="0"/>
                  </a:lnTo>
                  <a:lnTo>
                    <a:pt x="23" y="0"/>
                  </a:lnTo>
                  <a:lnTo>
                    <a:pt x="16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68360" y="1672920"/>
              <a:ext cx="37800" cy="8316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34"/>
                  </a:moveTo>
                  <a:lnTo>
                    <a:pt x="7" y="0"/>
                  </a:lnTo>
                  <a:lnTo>
                    <a:pt x="23" y="11"/>
                  </a:lnTo>
                  <a:lnTo>
                    <a:pt x="15" y="4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79880" y="1672920"/>
              <a:ext cx="26280" cy="194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06160" y="1422360"/>
              <a:ext cx="25920" cy="83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32080" y="1172520"/>
              <a:ext cx="26280" cy="83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58720" y="921960"/>
              <a:ext cx="25920" cy="83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84640" y="67212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0" y="46"/>
                  </a:moveTo>
                  <a:lnTo>
                    <a:pt x="8" y="0"/>
                  </a:lnTo>
                  <a:lnTo>
                    <a:pt x="24" y="0"/>
                  </a:lnTo>
                  <a:lnTo>
                    <a:pt x="16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10920" y="50508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37200" y="755640"/>
              <a:ext cx="25920" cy="828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50520" y="1005480"/>
              <a:ext cx="37440" cy="8316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16" y="0"/>
                  </a:moveTo>
                  <a:lnTo>
                    <a:pt x="23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76440" y="1256040"/>
              <a:ext cx="24840" cy="83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87960" y="150588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14240" y="175644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40160" y="2006280"/>
              <a:ext cx="26280" cy="637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40160" y="2070000"/>
              <a:ext cx="26280" cy="194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79760" y="225684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19000" y="2465280"/>
              <a:ext cx="52200" cy="10512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16" y="0"/>
                  </a:moveTo>
                  <a:lnTo>
                    <a:pt x="32" y="46"/>
                  </a:lnTo>
                  <a:lnTo>
                    <a:pt x="16" y="58"/>
                  </a:lnTo>
                  <a:lnTo>
                    <a:pt x="0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84520" y="2715840"/>
              <a:ext cx="50760" cy="6300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0" y="0"/>
                  </a:moveTo>
                  <a:lnTo>
                    <a:pt x="31" y="12"/>
                  </a:lnTo>
                  <a:lnTo>
                    <a:pt x="31" y="35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27080" y="2715840"/>
              <a:ext cx="52200" cy="8280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0" y="23"/>
                  </a:moveTo>
                  <a:lnTo>
                    <a:pt x="24" y="0"/>
                  </a:lnTo>
                  <a:lnTo>
                    <a:pt x="32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782960" y="2715840"/>
              <a:ext cx="52200" cy="8280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8" y="0"/>
                  </a:moveTo>
                  <a:lnTo>
                    <a:pt x="32" y="23"/>
                  </a:lnTo>
                  <a:lnTo>
                    <a:pt x="24" y="46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25880" y="286272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8" y="0"/>
                  </a:moveTo>
                  <a:lnTo>
                    <a:pt x="32" y="23"/>
                  </a:lnTo>
                  <a:lnTo>
                    <a:pt x="24" y="46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69880" y="2965680"/>
              <a:ext cx="50400" cy="6300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0" y="0"/>
                  </a:moveTo>
                  <a:lnTo>
                    <a:pt x="31" y="12"/>
                  </a:lnTo>
                  <a:lnTo>
                    <a:pt x="31" y="35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12440" y="3090960"/>
              <a:ext cx="39240" cy="6372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8" y="0"/>
                  </a:moveTo>
                  <a:lnTo>
                    <a:pt x="24" y="23"/>
                  </a:lnTo>
                  <a:lnTo>
                    <a:pt x="16" y="35"/>
                  </a:lnTo>
                  <a:lnTo>
                    <a:pt x="0" y="1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38720" y="3132720"/>
              <a:ext cx="129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342040" y="3216240"/>
              <a:ext cx="39240" cy="6300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8" y="0"/>
                  </a:moveTo>
                  <a:lnTo>
                    <a:pt x="24" y="12"/>
                  </a:lnTo>
                  <a:lnTo>
                    <a:pt x="16" y="35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367960" y="3238200"/>
              <a:ext cx="2628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99360" y="3279600"/>
              <a:ext cx="507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1920" y="3196080"/>
              <a:ext cx="6516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784120" y="3071160"/>
              <a:ext cx="6552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28480" y="2946240"/>
              <a:ext cx="63720" cy="8280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23"/>
                  </a:moveTo>
                  <a:lnTo>
                    <a:pt x="31" y="0"/>
                  </a:lnTo>
                  <a:lnTo>
                    <a:pt x="39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58080" y="275724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0" y="35"/>
                  </a:moveTo>
                  <a:lnTo>
                    <a:pt x="16" y="0"/>
                  </a:lnTo>
                  <a:lnTo>
                    <a:pt x="32" y="12"/>
                  </a:lnTo>
                  <a:lnTo>
                    <a:pt x="16" y="46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87680" y="269568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44640" y="2715840"/>
              <a:ext cx="378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82800" y="2715840"/>
              <a:ext cx="129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00520" y="2673720"/>
              <a:ext cx="1332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00520" y="2653920"/>
              <a:ext cx="5256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11"/>
                  </a:moveTo>
                  <a:lnTo>
                    <a:pt x="24" y="0"/>
                  </a:lnTo>
                  <a:lnTo>
                    <a:pt x="32" y="23"/>
                  </a:lnTo>
                  <a:lnTo>
                    <a:pt x="8" y="3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56040" y="2612160"/>
              <a:ext cx="6552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8" y="0"/>
                  </a:moveTo>
                  <a:lnTo>
                    <a:pt x="40" y="23"/>
                  </a:lnTo>
                  <a:lnTo>
                    <a:pt x="32" y="46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98960" y="2715840"/>
              <a:ext cx="5220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0"/>
                  </a:moveTo>
                  <a:lnTo>
                    <a:pt x="32" y="12"/>
                  </a:lnTo>
                  <a:lnTo>
                    <a:pt x="32" y="35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42960" y="2653920"/>
              <a:ext cx="63720" cy="8280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23"/>
                  </a:moveTo>
                  <a:lnTo>
                    <a:pt x="31" y="0"/>
                  </a:lnTo>
                  <a:lnTo>
                    <a:pt x="39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111800" y="2715840"/>
              <a:ext cx="5220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8" y="0"/>
                  </a:moveTo>
                  <a:lnTo>
                    <a:pt x="32" y="12"/>
                  </a:lnTo>
                  <a:lnTo>
                    <a:pt x="24" y="35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51400" y="2737080"/>
              <a:ext cx="129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67680" y="2673720"/>
              <a:ext cx="129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80640" y="2673720"/>
              <a:ext cx="5256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8" y="0"/>
                  </a:moveTo>
                  <a:lnTo>
                    <a:pt x="32" y="12"/>
                  </a:lnTo>
                  <a:lnTo>
                    <a:pt x="24" y="35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23200" y="2737080"/>
              <a:ext cx="5220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0"/>
                  </a:moveTo>
                  <a:lnTo>
                    <a:pt x="32" y="11"/>
                  </a:lnTo>
                  <a:lnTo>
                    <a:pt x="32" y="34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80520" y="2779200"/>
              <a:ext cx="507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36400" y="275724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891920" y="2779200"/>
              <a:ext cx="2628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918560" y="2779200"/>
              <a:ext cx="2592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47800" y="2779200"/>
              <a:ext cx="5220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0"/>
                  </a:moveTo>
                  <a:lnTo>
                    <a:pt x="32" y="11"/>
                  </a:lnTo>
                  <a:lnTo>
                    <a:pt x="32" y="34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205480" y="2799000"/>
              <a:ext cx="50400" cy="6372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0" y="0"/>
                  </a:moveTo>
                  <a:lnTo>
                    <a:pt x="31" y="12"/>
                  </a:lnTo>
                  <a:lnTo>
                    <a:pt x="31" y="35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60640" y="2799000"/>
              <a:ext cx="525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516520" y="2820600"/>
              <a:ext cx="5220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8" y="0"/>
                  </a:moveTo>
                  <a:lnTo>
                    <a:pt x="32" y="11"/>
                  </a:lnTo>
                  <a:lnTo>
                    <a:pt x="24" y="34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555760" y="2840760"/>
              <a:ext cx="129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659080" y="2757240"/>
              <a:ext cx="6516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19800" y="1650960"/>
              <a:ext cx="6360480" cy="1961640"/>
            </a:xfrm>
            <a:custGeom>
              <a:avLst/>
              <a:gdLst/>
              <a:ahLst/>
              <a:rect l="l" t="t" r="r" b="b"/>
              <a:pathLst>
                <a:path w="489" h="94">
                  <a:moveTo>
                    <a:pt x="0" y="27"/>
                  </a:moveTo>
                  <a:lnTo>
                    <a:pt x="10" y="34"/>
                  </a:lnTo>
                  <a:lnTo>
                    <a:pt x="19" y="45"/>
                  </a:lnTo>
                  <a:lnTo>
                    <a:pt x="29" y="44"/>
                  </a:lnTo>
                  <a:lnTo>
                    <a:pt x="39" y="40"/>
                  </a:lnTo>
                  <a:lnTo>
                    <a:pt x="49" y="38"/>
                  </a:lnTo>
                  <a:lnTo>
                    <a:pt x="59" y="29"/>
                  </a:lnTo>
                  <a:lnTo>
                    <a:pt x="68" y="27"/>
                  </a:lnTo>
                  <a:lnTo>
                    <a:pt x="78" y="19"/>
                  </a:lnTo>
                  <a:lnTo>
                    <a:pt x="88" y="18"/>
                  </a:lnTo>
                  <a:lnTo>
                    <a:pt x="98" y="34"/>
                  </a:lnTo>
                  <a:lnTo>
                    <a:pt x="107" y="55"/>
                  </a:lnTo>
                  <a:lnTo>
                    <a:pt x="117" y="60"/>
                  </a:lnTo>
                  <a:lnTo>
                    <a:pt x="127" y="55"/>
                  </a:lnTo>
                  <a:lnTo>
                    <a:pt x="137" y="65"/>
                  </a:lnTo>
                  <a:lnTo>
                    <a:pt x="147" y="79"/>
                  </a:lnTo>
                  <a:lnTo>
                    <a:pt x="156" y="81"/>
                  </a:lnTo>
                  <a:lnTo>
                    <a:pt x="166" y="81"/>
                  </a:lnTo>
                  <a:lnTo>
                    <a:pt x="176" y="87"/>
                  </a:lnTo>
                  <a:lnTo>
                    <a:pt x="186" y="91"/>
                  </a:lnTo>
                  <a:lnTo>
                    <a:pt x="195" y="94"/>
                  </a:lnTo>
                  <a:lnTo>
                    <a:pt x="205" y="94"/>
                  </a:lnTo>
                  <a:lnTo>
                    <a:pt x="215" y="92"/>
                  </a:lnTo>
                  <a:lnTo>
                    <a:pt x="225" y="90"/>
                  </a:lnTo>
                  <a:lnTo>
                    <a:pt x="235" y="85"/>
                  </a:lnTo>
                  <a:lnTo>
                    <a:pt x="244" y="61"/>
                  </a:lnTo>
                  <a:lnTo>
                    <a:pt x="254" y="0"/>
                  </a:lnTo>
                  <a:lnTo>
                    <a:pt x="264" y="27"/>
                  </a:lnTo>
                  <a:lnTo>
                    <a:pt x="274" y="45"/>
                  </a:lnTo>
                  <a:lnTo>
                    <a:pt x="283" y="43"/>
                  </a:lnTo>
                  <a:lnTo>
                    <a:pt x="293" y="33"/>
                  </a:lnTo>
                  <a:lnTo>
                    <a:pt x="303" y="35"/>
                  </a:lnTo>
                  <a:lnTo>
                    <a:pt x="313" y="35"/>
                  </a:lnTo>
                  <a:lnTo>
                    <a:pt x="323" y="29"/>
                  </a:lnTo>
                  <a:lnTo>
                    <a:pt x="332" y="31"/>
                  </a:lnTo>
                  <a:lnTo>
                    <a:pt x="342" y="35"/>
                  </a:lnTo>
                  <a:lnTo>
                    <a:pt x="352" y="36"/>
                  </a:lnTo>
                  <a:lnTo>
                    <a:pt x="362" y="36"/>
                  </a:lnTo>
                  <a:lnTo>
                    <a:pt x="371" y="42"/>
                  </a:lnTo>
                  <a:lnTo>
                    <a:pt x="381" y="49"/>
                  </a:lnTo>
                  <a:lnTo>
                    <a:pt x="391" y="49"/>
                  </a:lnTo>
                  <a:lnTo>
                    <a:pt x="401" y="34"/>
                  </a:lnTo>
                  <a:lnTo>
                    <a:pt x="411" y="31"/>
                  </a:lnTo>
                  <a:lnTo>
                    <a:pt x="420" y="30"/>
                  </a:lnTo>
                  <a:lnTo>
                    <a:pt x="430" y="29"/>
                  </a:lnTo>
                  <a:lnTo>
                    <a:pt x="440" y="25"/>
                  </a:lnTo>
                  <a:lnTo>
                    <a:pt x="450" y="36"/>
                  </a:lnTo>
                  <a:lnTo>
                    <a:pt x="459" y="35"/>
                  </a:lnTo>
                  <a:lnTo>
                    <a:pt x="469" y="29"/>
                  </a:lnTo>
                  <a:lnTo>
                    <a:pt x="479" y="32"/>
                  </a:lnTo>
                  <a:lnTo>
                    <a:pt x="489" y="19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98240" y="650160"/>
              <a:ext cx="6470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200" spc="-1" strike="noStrike">
                  <a:solidFill>
                    <a:srgbClr val="000000"/>
                  </a:solidFill>
                  <a:latin typeface="Times New Roman"/>
                </a:rPr>
                <a:t>Kamu Kağıtlarında Reel Faiz Oranı, TEFE'ye göre %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7040" y="5116680"/>
              <a:ext cx="39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1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6960" y="467784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8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6960" y="42390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6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6960" y="380196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4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16960" y="336312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45840" y="29242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7000" y="248724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7000" y="20484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67000" y="160956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67000" y="117252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4096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9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6340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89664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1944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94260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47836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41160" y="4510800"/>
              <a:ext cx="4370760" cy="1564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79920" y="5283360"/>
              <a:ext cx="507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35800" y="528336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91680" y="528336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47200" y="528336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52320" y="5116680"/>
              <a:ext cx="1171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200" spc="-1" strike="noStrike">
                  <a:solidFill>
                    <a:srgbClr val="000000"/>
                  </a:solidFill>
                  <a:latin typeface="Times New Roman"/>
                </a:rPr>
                <a:t>Beklenen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74760" y="5303160"/>
              <a:ext cx="51948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47880" y="5116680"/>
              <a:ext cx="1454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200" spc="-1" strike="noStrike">
                  <a:solidFill>
                    <a:srgbClr val="000000"/>
                  </a:solidFill>
                  <a:latin typeface="Times New Roman"/>
                </a:rPr>
                <a:t>Gerçekleşe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2600" y="463680"/>
              <a:ext cx="8597520" cy="5631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6104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781200" y="609480"/>
          <a:ext cx="758340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609480"/>
                    <a:ext cx="7583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05:15:46Z</dcterms:created>
  <dc:creator>KeskinE</dc:creator>
  <dc:description/>
  <dc:language>en-US</dc:language>
  <cp:lastModifiedBy>KeskinE</cp:lastModifiedBy>
  <dcterms:modified xsi:type="dcterms:W3CDTF">2004-04-14T08:38:57Z</dcterms:modified>
  <cp:revision>11</cp:revision>
  <dc:subject/>
  <dc:title>No Slide Title</dc:title>
</cp:coreProperties>
</file>