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215BE-E13A-4A97-A11C-195F3EB5A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6902F-8614-40BA-A9E5-FAFA34CE5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B90A8-AA49-44FB-AF8C-B0B1BE11A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39A89-753E-41B8-8AAE-30863415F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BB793-0475-4A9F-90AF-8D64BE542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B8E9E-C091-4B0B-A08F-B53D82FB9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AA075-6BC1-4E0C-AEB1-F986E669F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A109B-379E-4F56-8BE6-20D1F683B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97EF5-7115-459F-95DD-2FFE4C465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299CE-88E1-4C40-88DA-BA80FDFB6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48D8A-518E-49DA-B971-ACFC6B496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40CD5-12C4-4F6A-90A9-339C55DB7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A0A6B-825C-481D-8E55-FC37A41FEE7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11680" y="1143000"/>
            <a:ext cx="8689320" cy="29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HE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ANKS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SOCIATION OF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URKE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Istanbu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16 November 200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The role of currency futures in the global financial marke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2" name="ISMA_Centre_Logo" descr=""/>
          <p:cNvPicPr/>
          <p:nvPr/>
        </p:nvPicPr>
        <p:blipFill>
          <a:blip r:embed="rId1"/>
          <a:stretch/>
        </p:blipFill>
        <p:spPr>
          <a:xfrm>
            <a:off x="304920" y="5562720"/>
            <a:ext cx="2095560" cy="8571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781680" y="5257800"/>
            <a:ext cx="196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Richard Comott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ISMA Cent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Reading Universit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nglan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37240" y="6435720"/>
            <a:ext cx="226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ismacentre.reading.ac.uk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02200" y="6426360"/>
            <a:ext cx="141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omottor@cs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224280" y="304920"/>
            <a:ext cx="868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he role of currency futures in the global financial marke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4920" y="1639800"/>
            <a:ext cx="6675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who uses currency futures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tail --- like simplic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ak or leveraged credits --- need secur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ak banking systems --- need secur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gulated markets --- like transparenc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224280" y="304920"/>
            <a:ext cx="868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he role of currency futures in the global financial marke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13840" y="1639800"/>
            <a:ext cx="59806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ff9933"/>
                </a:solidFill>
                <a:latin typeface="Arial"/>
              </a:rPr>
              <a:t>the future for futu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nvergence with OTC marke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any OTC instruments are becom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mmoditised --- ie simp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llateralised --- ie secu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utomated --- ie transpar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just like currency futures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11680" y="1143000"/>
            <a:ext cx="8689320" cy="29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HE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ANKS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SOCIATION OF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URKE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Istanbu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16 November 200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The role of currency futures in the global financial marke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4" name="ISMA_Centre_Logo" descr=""/>
          <p:cNvPicPr/>
          <p:nvPr/>
        </p:nvPicPr>
        <p:blipFill>
          <a:blip r:embed="rId1"/>
          <a:stretch/>
        </p:blipFill>
        <p:spPr>
          <a:xfrm>
            <a:off x="304920" y="5562720"/>
            <a:ext cx="2095560" cy="85716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6781680" y="5257800"/>
            <a:ext cx="196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Richard Comott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ISMA Cent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Reading Universit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nglan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37240" y="6435720"/>
            <a:ext cx="226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ismacentre.reading.ac.uk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802200" y="6426360"/>
            <a:ext cx="141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omottor@cs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24280" y="304920"/>
            <a:ext cx="868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he role of currency futures in the global financial marke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2760" y="1639800"/>
            <a:ext cx="69818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significance of currency futures in the FX mark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nancial function of currency futu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ailure of innovative currency futu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use are currency futures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o uses currency futures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24280" y="304920"/>
            <a:ext cx="868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he role of currency futures in the global financial marke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10960" y="1639800"/>
            <a:ext cx="8874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ff9933"/>
                </a:solidFill>
                <a:latin typeface="Arial"/>
              </a:rPr>
              <a:t>significance of currency futures in the FX mark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urrency futures = 0.8% of global FX turno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urrency futures = 1.2% of global forward FX turno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urrency futures = 0.5% of all futures contracts outstand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ost currency futures contracts have been delist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ost futures exchanges have delisted all currency futu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642960" y="446040"/>
          <a:ext cx="7607160" cy="589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2960" y="446040"/>
                    <a:ext cx="7607160" cy="589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677960" y="154944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M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286000" y="1828800"/>
            <a:ext cx="30492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286000" y="1828800"/>
            <a:ext cx="175248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41560" y="1523880"/>
            <a:ext cx="160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sia &amp; Russi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400800" y="1905120"/>
            <a:ext cx="15228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802760" y="3886200"/>
            <a:ext cx="9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xic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4952880" y="4191120"/>
            <a:ext cx="7632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224280" y="304920"/>
            <a:ext cx="868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he role of currency futures in the global financial marke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2040" y="1639800"/>
            <a:ext cx="8161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gnificance of currency futures in the FX market --- 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bu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rrency futures important for CME &amp; BM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Latin America, currency futures = 11% of all futu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224280" y="304920"/>
            <a:ext cx="868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he role of currency futures in the global financial marke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12760" y="1639800"/>
            <a:ext cx="6981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gnificance of currency futures in the FX mark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global insignifica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local significa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224280" y="304920"/>
            <a:ext cx="868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he role of currency futures in the global financial marke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18880" y="1639800"/>
            <a:ext cx="89661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gnificance of currency futures in the FX mark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financial function of currency futu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rrency futures are forward FX contrac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e are 2 types of forward FX contrac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utright forwards --- used for currency risk manage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X swaps --- used for interest rate risk manage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est rate risk management is more importa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rrency futures = outright forwar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utright forwards = USD 131 billion per day in April 200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X swaps = USD 656 billion per day in April 200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mited role for currency futu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224280" y="304920"/>
            <a:ext cx="868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he role of currency futures in the global financial marke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6360" y="1639800"/>
            <a:ext cx="8615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failure of innovative currency futu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novative contracts, e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ME Rolling Spot contracts (exchange-traded FX swap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anges in contracts specifica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ttempts to increase deal size to OTC levels, e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rge order facilities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change for physical facilities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ME market-making facil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224280" y="304920"/>
            <a:ext cx="868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he role of currency futures in the global financial marke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15280" y="1639800"/>
            <a:ext cx="764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what use are currency futures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ndardisation --- inflexible but simp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uaranteed settlement --- inconvenient but secu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change-trading --- transparent but fai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4T22:10:34Z</dcterms:created>
  <dc:creator>Richard Comotto</dc:creator>
  <dc:description/>
  <dc:language>en-US</dc:language>
  <cp:lastModifiedBy>GÜNHAN GÜNEÇ</cp:lastModifiedBy>
  <dcterms:modified xsi:type="dcterms:W3CDTF">2001-11-19T08:03:53Z</dcterms:modified>
  <cp:revision>7</cp:revision>
  <dc:subject/>
  <dc:title>The role of currency futures in global financial markets</dc:title>
</cp:coreProperties>
</file>