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342-1A71-40AF-B7BA-47660E74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FB5-615D-460C-97EA-4D34D40F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9D2-8CFF-4259-B22D-F4F18AA9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A73-4201-489A-AB97-88AD914E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B71-BD81-43BC-905F-6644417E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9F70-49DF-456E-9476-8D90C983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929-C21E-432E-83C3-92370CAB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EE69-24CE-42DC-8690-747EE576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6AAF-A57D-4F5E-8DEF-E2308C7E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9325-C83E-4D22-90BB-BE2CDDD3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AF72-23C0-4D2C-A6E8-484D6195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982-B635-4B1C-8BAB-39D97020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8ABF-3F81-465A-8A4B-3909C59F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495E-BEE6-44A7-BBEB-BB6B74C3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8C49-F0B9-4738-A84B-C4ECA9A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CA3-E74B-45C3-8FBA-B7778223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1361-B498-4478-9AA8-458C83C8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171-71B1-4204-A228-F6B1BE9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17E-FBC5-48DC-9079-67A2C3C4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40C-2AA1-400D-A982-20418E87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88F-EB48-4837-A80B-1BC1BBFB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6AA-B932-4571-AFB0-46F7824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71A-C810-44F9-898C-C79020A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9C8-FE87-4D5F-B83C-921A0445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AE64-195A-4DD9-B03D-F490552E9DD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502-6396-4AAA-8B4C-F91182312B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Piyasasının Spot Piyasa Üzerindeki Etki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ürşat Aydoğ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ilkent Üniversit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sım 200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4505400" cy="65534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714280" y="1270080"/>
            <a:ext cx="294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lgular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Hisse Senedi Vadel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İşlem Piyasaları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Döviz Vadeli İşlem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lifton (1985)  Yen, SF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Chatrath, Ramchander ve Song (1996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drangi ve Chatrath (1998) Yen,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  <a:ea typeface="Tahoma"/>
              </a:rPr>
              <a:t>£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, DM, C$    Art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Jochum ve Kodres   Gel. Piyasalar  Etk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hastri, Sultan ve Tandon (1996) Azalı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 Bitim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 bitiminde spot piyasa işlem hacmi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da fazla bir fiyat etkisi yo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BD spot hisse piyasasında 1987 öncesi gözlenen yüksek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triple witching hour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eorik Fiy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 fiyatı teorik fiyattan en fazla işlem maliyeti kadar farklılaşabili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508040" y="2700360"/>
            <a:ext cx="267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F*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 = S</a:t>
            </a:r>
            <a:r>
              <a:rPr b="0" lang="tr-TR" sz="24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(1 + r – 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ükemmel piyasalarda F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ve S</a:t>
            </a:r>
            <a:r>
              <a:rPr b="0" lang="tr-TR" sz="3200" spc="-1" strike="noStrike" baseline="-25000">
                <a:solidFill>
                  <a:srgbClr val="40458c"/>
                </a:solidFill>
                <a:latin typeface="Tahoma"/>
              </a:rPr>
              <a:t>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arasında tam korelasyon olmalıdı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Oysa gerçek piyasalar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enkronize olmayan işlem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Açığa satışlarda kısıtlama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İşlem yoğunluğunda farklılık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vcuttu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Öncü-İzleyici Etkisi: Bulgu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Hisse Senedi Endeksi Vadeli İşlemler Piyasası Spot piyasaya 5 – 45 dakika öncülük ede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azı piyasalarda spot piyasanın vadeli işlem piyasasına 1-2 dakika öncülük ettiği görülmektedi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 ve Likidi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lım-satım marjı: bir likidite gösterge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arjı belirleyen etmenle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ers seçim (</a:t>
            </a:r>
            <a:r>
              <a:rPr b="0" i="1" lang="tr-TR" sz="2800" spc="-1" strike="noStrike">
                <a:solidFill>
                  <a:srgbClr val="40458c"/>
                </a:solidFill>
                <a:latin typeface="Tahoma"/>
              </a:rPr>
              <a:t>adverse selection</a:t>
            </a: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Piyasa yapıcılığının sabit maliyetler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nvanter risk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Ampirik Bulgular: Marj yükseliy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Diğer Hususla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Vadeli işlemlerin mali krizler esnasında oynamış olduğu 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ön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nipulation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ihtim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Türev piyasalardaki gelişme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Vadeli sözleşmeler işlem hacminde artış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Egzotik sözleşme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Türev piyasalarda globalleş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kandal batıklar: Barings, Orange Cou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“</a:t>
            </a: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Türev piyasalar spot piyasalardaki istikrarı bozar”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kuramsal açıdan ne ölçüde doğrudu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Bu önerme ampirik olarak desteklenmekte midi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Tartışmanın temelinde ‘spekülatif işlemlerin’ piyasa istikrarı üzerindeki etkisi yer alı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301320" y="2319480"/>
            <a:ext cx="290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40458c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mi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J. S. Mi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M. Fried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Kald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te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Baum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6880" y="2362320"/>
            <a:ext cx="152640" cy="1371600"/>
          </a:xfrm>
          <a:custGeom>
            <a:avLst/>
            <a:gdLst>
              <a:gd name="textAreaLeft" fmla="*/ 0 w 152640"/>
              <a:gd name="textAreaRight" fmla="*/ 107280 w 15264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77840" y="2590920"/>
            <a:ext cx="54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ma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0560" y="449568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40458c"/>
                </a:solidFill>
                <a:latin typeface="Tahoma"/>
              </a:rPr>
              <a:t>Spekülasyon istikrarsızlığa yol aç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66880" y="4191120"/>
            <a:ext cx="76320" cy="1295280"/>
          </a:xfrm>
          <a:custGeom>
            <a:avLst/>
            <a:gdLst>
              <a:gd name="textAreaLeft" fmla="*/ 0 w 76320"/>
              <a:gd name="textAreaRight" fmla="*/ 5364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Spot piyasalardaki oynaklık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volatilit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Likidite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Piyasa etkinliği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efficiency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açısınd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Vadeli İşlemlerin Özellikle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teminat yükümlülüğü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gin requiremen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Düşük işlem maliye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Merkezi tak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Günlük değerlendirme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marking to market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Kaldıraç (</a:t>
            </a:r>
            <a:r>
              <a:rPr b="0" i="1" lang="tr-TR" sz="3200" spc="-1" strike="noStrike">
                <a:solidFill>
                  <a:srgbClr val="40458c"/>
                </a:solidFill>
                <a:latin typeface="Tahoma"/>
              </a:rPr>
              <a:t>leverage</a:t>
            </a: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) etk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Teorik Yaklaşım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RTAR, likidite AZALIR (bilgili yatırımcı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0458c"/>
                </a:solidFill>
                <a:latin typeface="Tahoma"/>
              </a:rPr>
              <a:t>Yukarıdaki nedenlerle spot piyasalarda oynaklık AZALIR, likidite ARTAR (yeni mali araçla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Vadeli Piyasanın Spot Piyasaya Etkileri – Ampirik Çalışmala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işlem piyasası kurulmasının öncesinde ve sonrasında farklılık sergil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ki oynaklık vadeli piyasa işlem hacmi ile ilişkili mi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ve vadeli piyasalar arasında nedensellik, öncü-izleyici etkis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40458c"/>
                </a:solidFill>
                <a:latin typeface="Tahoma"/>
              </a:rPr>
              <a:t>Spot piyasada likidite farklılık gösteriyor mu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Emtia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914400" y="1309680"/>
            <a:ext cx="74674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660066"/>
                </a:solidFill>
                <a:latin typeface="Tahoma"/>
              </a:rPr>
              <a:t>Bulgular:</a:t>
            </a:r>
            <a:br>
              <a:rPr sz="4400"/>
            </a:br>
            <a:r>
              <a:rPr b="0" lang="tr-TR" sz="3600" spc="-1" strike="noStrike">
                <a:solidFill>
                  <a:srgbClr val="660066"/>
                </a:solidFill>
                <a:latin typeface="Tahoma"/>
              </a:rPr>
              <a:t>Faiz Oranı Piyasaları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96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3:14:12Z</dcterms:created>
  <dc:creator>.</dc:creator>
  <dc:description/>
  <dc:language>en-US</dc:language>
  <cp:lastModifiedBy>GÜNHAN GÜNEÇ</cp:lastModifiedBy>
  <dcterms:modified xsi:type="dcterms:W3CDTF">2001-11-19T08:03:46Z</dcterms:modified>
  <cp:revision>4</cp:revision>
  <dc:subject/>
  <dc:title>Vadeli İşlemler Piyasasının Spot Piyasa Üzerindeki Etkileri</dc:title>
</cp:coreProperties>
</file>