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2913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5867280" y="632448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632448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y "/>
              </a:rPr>
              <a:t>UMS 3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y "/>
              </a:rPr>
              <a:t>FİNANSAL ENSTRÜMANLAR: MALİ TABLOLARA YANSITILMASI VE DEĞERLEME ESAS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 - YENİ TRENDLER, ORTAK ÇALIŞMA GRUB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tak Çalışma Grubu’nun bir sonraki hedefi: Tüm finansal enstrümanları rayiç değerleriyle mali tablolara yansıtılması ve meydana gelen değer artış ve azalışlarının gelir tablosuna kaydedilme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 - FİNANSAL ENSTRÜMANLAR: MALİ TABLOLARA YANSITILMASI VE DEĞERLEME ESASLAR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GÜN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MS 39’un kısa tanıtım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enkul kıymetlerin muhasebele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iğer finansal varlık ve yükümlülüklerin muhasebeleştirilme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ürev enstrümanlar ve hed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Yapılması gereken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or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’UN TARİHÇES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90’lı yıllardan itibaren türev enstrümanların çok sık kullanılmaya başlandı ve finansal enstrümanlar çeşitlilik gösterd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luslararası Muhasebe Standartları Komitesi (UMSK)’nın Ocak 1994’te taslak dökümanı yayımladı (E4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rt 1995’te UMS 32 (“Finansal Enstrümanlar: Açıklama ve Sunum”) UMSK tarafından onaylandı - mali tablo dipnotlarındaki açıklamalara ağırlık verild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’UN TARİHÇES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17 Haziran 1998’de UMS 39’un iskeletini oluşturan taslak döküman (E 62) yayımland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rt 1999’da UMS 39 yayımland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 NEDİ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MS 39, parasal varlık ve yükümlülüklerin, türev enstrümanların ve iştiraklerin mali tablolara ne şekilde yansıtılacağı, değerlenmesi ve mali tablolardan hangi şartlarda çıkarılması gerektiği konularında kuralları kapsamlı olarak belirleyen ilk standarttı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 NEDİ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rt 1999’da yayımlanan UMS 39, 1 Ocak 2001 tarihinde başlayan hesap dönemi itibariyle yürürlüğe girmiş olup, özellikle bankalar ve türev enstrümanları kullanan şirketlerin halihazırda uyguladıkları muhasebe standartlarına kıyasla önemli değişiklikler getirmekted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’UN ETKİLER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üm türev enstrümanların makul değerleriyle bilançoda gösterilme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Hedge amaçlı işlemlerle ilgili kesin kuralların getirilme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enkul değerlerin “vadeye kadar tutulacak” olanları dışında makul değerleriyle mali tablolara yansıtıl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inansal varlıkların 4 kategori dahilinde sınıflandırılması ve kategoriler arasındaki geçişlerin sınırlandırıl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Varlık ve yükümlülüklerin bilançodan çıkarılmasına ilişkin yeni esasların getirilmes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elir ve gider reeskontlarının basit faiz yöntemi yerine iç verim esasına göre hesaplanması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İlk uygulandığı yılda bir önceki döneme ait mali tabloların tekrar düzenlenmesine gerek görülmemesi -retroactif uygulamaya ihtiyaç yok-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üm hesaplama ve sınıflandırılmaların yapılabilmesi için (bilgisayar) sistem çözümlerine ihtiyaç duyulmas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’UN ETKİLER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MS’ye göre raporlama yapa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Times New Roman"/>
              </a:rPr>
              <a:t>tüm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şirketler (yalnızca türev enstrümanları kullanan şirketler veya finansal kuruluşlar deği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UMS’ye göre raporlama yapan şirketlerin iştirakleri ve bağlı ortaklıkları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Yüksek hacimde hazine ve alım/satım operasyonları olan kuruluşlar (özellikle bankal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MS 39 UYGULAMASINDAN EN ÇOK ETKİLENECEK OLAN KURULUŞ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1T11:55:48Z</dcterms:created>
  <dc:creator>PwC</dc:creator>
  <dc:description/>
  <dc:language>en-US</dc:language>
  <cp:lastModifiedBy>PwC</cp:lastModifiedBy>
  <cp:lastPrinted>2001-05-24T10:58:28Z</cp:lastPrinted>
  <dcterms:modified xsi:type="dcterms:W3CDTF">2001-05-24T11:23:03Z</dcterms:modified>
  <cp:revision>10</cp:revision>
  <dc:subject/>
  <dc:title>No Slide Title</dc:title>
</cp:coreProperties>
</file>