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7680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ldImg"/>
          </p:nvPr>
        </p:nvSpPr>
        <p:spPr>
          <a:xfrm>
            <a:off x="882360" y="479520"/>
            <a:ext cx="5003640" cy="346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move the slid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3047760" y="-360"/>
            <a:ext cx="2901960" cy="685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r>
              <a:rPr b="1" i="1" lang="en-GB" sz="900" spc="-1" strike="noStrike">
                <a:solidFill>
                  <a:srgbClr val="000000"/>
                </a:solidFill>
                <a:latin typeface="Times New Roman"/>
              </a:rPr>
              <a:t>Lecture gui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IAS 32 &amp; IAS 39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 algn="r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Times New Roman"/>
              </a:rPr>
              <a:t>Financial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763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5"/>
          </p:nvPr>
        </p:nvSpPr>
        <p:spPr>
          <a:xfrm>
            <a:off x="685440" y="937584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buNone/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anuary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2286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PMG Logo"/>
              </a:rPr>
              <a:t>kpmg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76640" y="9371160"/>
            <a:ext cx="2106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marL="285840" indent="-285840" algn="ctr">
              <a:tabLst>
                <a:tab algn="l" pos="0"/>
                <a:tab algn="l" pos="765000"/>
                <a:tab algn="l" pos="1530360"/>
                <a:tab algn="l" pos="2295360"/>
                <a:tab algn="l" pos="3060720"/>
                <a:tab algn="l" pos="3825720"/>
                <a:tab algn="l" pos="4591080"/>
                <a:tab algn="l" pos="5356080"/>
                <a:tab algn="l" pos="6121440"/>
                <a:tab algn="l" pos="6886440"/>
                <a:tab algn="l" pos="7651800"/>
                <a:tab algn="l" pos="8416800"/>
                <a:tab algn="l" pos="9182160"/>
                <a:tab algn="l" pos="9947160"/>
                <a:tab algn="l" pos="10712520"/>
              </a:tabLst>
            </a:pPr>
            <a:fld id="{F3E1E29A-E7E4-47AC-87AC-F9F481A8DF4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9645480"/>
            <a:ext cx="2666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 that for current IAS companies: Cannot state that they report under IAS unless all standards and interpretations are follow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at beginning of financial year in which IAS 39 is adop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no restatement of earlier yea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ition adjustments are to beginning retained earning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 retrospective changes may be made 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”redesignate” hedg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--transactions not meeting this criteria under IAS 39 for derecognition are only affected prospective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AS 39.1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FIA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Chapter 11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Dedicated resources are key to an organised implementation project. The implementation team can devote the time to identifying the enterprise’s issues, and determine whether outside assistance is necessary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A process for communication should be set 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Internal parti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Senior manageme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Times New Roman"/>
              <a:buChar char="•"/>
              <a:tabLst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External parties – analysts, major investors, lenders want to know the impact of IAS 39 on the enterprise’s bottom line. Internal and external auditors will also focus heavily on implementation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Implementation team identifies the key issues.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This will involve reviewing current practices of the enterprise, and anticipated new transactions/activitie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882720" y="479520"/>
            <a:ext cx="5003640" cy="3463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040" y="4267080"/>
            <a:ext cx="5002200" cy="467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790560"/>
                <a:tab algn="l" pos="1581120"/>
                <a:tab algn="l" pos="2371680"/>
                <a:tab algn="l" pos="3162240"/>
                <a:tab algn="l" pos="3952800"/>
                <a:tab algn="l" pos="4743360"/>
                <a:tab algn="l" pos="5533920"/>
                <a:tab algn="l" pos="6324480"/>
                <a:tab algn="l" pos="7115040"/>
                <a:tab algn="l" pos="7905600"/>
                <a:tab algn="l" pos="8696160"/>
                <a:tab algn="l" pos="9487080"/>
                <a:tab algn="l" pos="1027764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imes New Roman"/>
              </a:rPr>
              <a:t>NOTES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3F03-72CF-4763-A7AB-04AF6EE4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949-AE3B-44A2-9229-4BA2407C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9823-8C89-439C-AFF1-22AD0F53D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7B5-1BE8-43C9-97C3-1021D5BF3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3A0B-ACE4-4C7E-A287-12263FE8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89D-A48C-402D-A60E-DC3FEA0D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8E05-0B30-4C49-A5FE-BF470A14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E16-FF8C-4C4B-8CA5-D1F03A4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53D7-E57C-46F0-9A58-3B4542EF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1CA7-D8BD-462D-A928-0DF1D9675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1EC3-6D48-4052-97D7-CB3DEAF14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2160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03680" y="158112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952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2160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03680" y="3581280"/>
            <a:ext cx="264924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66482-F3B7-435C-99B7-5D50EEEB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672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7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5840" y="358128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5840" y="1581120"/>
            <a:ext cx="401508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9520" y="3581280"/>
            <a:ext cx="8227800" cy="182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9520" y="1581120"/>
            <a:ext cx="8227800" cy="382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2" marL="922320" indent="-1573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3" marL="12621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4" marL="160164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5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6" marL="1601640" indent="-225360">
              <a:lnSpc>
                <a:spcPct val="90000"/>
              </a:lnSpc>
              <a:spcBef>
                <a:spcPts val="1375"/>
              </a:spcBef>
              <a:buClr>
                <a:srgbClr val="0000ff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43332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AS 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228600" y="6324480"/>
          <a:ext cx="2743200" cy="3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324480"/>
                    <a:ext cx="2743200" cy="3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" name=""/>
          <p:cNvGraphicFramePr/>
          <p:nvPr/>
        </p:nvGraphicFramePr>
        <p:xfrm>
          <a:off x="6481800" y="6300720"/>
          <a:ext cx="3200400" cy="381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81800" y="6300720"/>
                    <a:ext cx="32004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560" y="6188040"/>
            <a:ext cx="8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KPMG Logo"/>
              </a:rPr>
              <a:t>kpmg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1375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Click to edit the title text forma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3"/>
          </p:nvPr>
        </p:nvSpPr>
        <p:spPr>
          <a:xfrm>
            <a:off x="708624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7C4EE65-8625-4906-895A-3CA144A357FE}" type="slidenum"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1" lang="en-US" sz="1400" spc="-1" strike="noStrike">
                <a:solidFill>
                  <a:srgbClr val="ffff00"/>
                </a:solidFill>
                <a:latin typeface="Univers 45 Light"/>
              </a:defRPr>
            </a:lvl1pPr>
          </a:lstStyle>
          <a:p>
            <a:pPr marL="285840"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Univers 45 Ligh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38880" y="6673680"/>
            <a:ext cx="2667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pyright © 2001 KPMG International, a Swiss association. All rights reserved.</a:t>
            </a:r>
            <a:r>
              <a:rPr b="0" lang="en-GB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ransition rule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96" name=""/>
          <p:cNvSpPr/>
          <p:nvPr/>
        </p:nvSpPr>
        <p:spPr>
          <a:xfrm>
            <a:off x="0" y="76320"/>
            <a:ext cx="9904320" cy="10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9520" y="1580760"/>
            <a:ext cx="822780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No restatement of prior period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no hedge relationship: cannot retrospectively designate as hed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f prior to IAS 39 there is a hedge relationship: provisions of Standard should be applied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pon adoption: all derivatives are capitalised at fair value, and other financial instruments measured at fair value or at cost depending on classification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Difference of remeasurement are recorded as adjustment of beginning retained earning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Finally…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Implement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Business process and accounting policy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IT chang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Structured rollout including training (as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User acceptance testing of chang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Univers 45 Light"/>
              </a:rPr>
              <a:t>Accounting transition adjustment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cord all FI on balance sheet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Re</a:t>
            </a:r>
            <a:r>
              <a:rPr b="0" lang="tr-TR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Univers 55"/>
              </a:rPr>
              <a:t>measure applicable FI to fair value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484960" y="2719440"/>
            <a:ext cx="18525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Produce IT specifications for workarounds and system enhancement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Specification of BP changes </a:t>
            </a:r>
            <a:r>
              <a:rPr b="0" lang="nl-NL" sz="900" spc="-1" strike="noStrike">
                <a:solidFill>
                  <a:srgbClr val="000000"/>
                </a:solidFill>
                <a:latin typeface="Univers 45 Light"/>
              </a:rPr>
              <a:t>(</a:t>
            </a:r>
            <a:r>
              <a:rPr b="0" lang="en-GB" sz="900" spc="-1" strike="noStrike">
                <a:solidFill>
                  <a:srgbClr val="000000"/>
                </a:solidFill>
                <a:latin typeface="Univers 45 Light"/>
              </a:rPr>
              <a:t>e.g. new procedures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85160" y="1600200"/>
            <a:ext cx="1450800" cy="106992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789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1440" y="1703520"/>
            <a:ext cx="2235240" cy="927000"/>
          </a:xfrm>
          <a:custGeom>
            <a:avLst/>
            <a:gdLst>
              <a:gd name="textAreaLeft" fmla="*/ 0 w 2235240"/>
              <a:gd name="textAreaRight" fmla="*/ 2235240 w 2235240"/>
              <a:gd name="textAreaTop" fmla="*/ 0 h 927000"/>
              <a:gd name="textAreaBottom" fmla="*/ 927360 h 92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41800" y="1703520"/>
            <a:ext cx="2496960" cy="928440"/>
            <a:chOff x="3241800" y="1703520"/>
            <a:chExt cx="2496960" cy="928440"/>
          </a:xfrm>
        </p:grpSpPr>
        <p:sp>
          <p:nvSpPr>
            <p:cNvPr id="126" name=""/>
            <p:cNvSpPr/>
            <p:nvPr/>
          </p:nvSpPr>
          <p:spPr>
            <a:xfrm>
              <a:off x="3241800" y="1703520"/>
              <a:ext cx="2496960" cy="928440"/>
            </a:xfrm>
            <a:custGeom>
              <a:avLst/>
              <a:gdLst/>
              <a:ahLst/>
              <a:rect l="l" t="t" r="r" b="b"/>
              <a:pathLst>
                <a:path w="1573" h="585">
                  <a:moveTo>
                    <a:pt x="1179" y="0"/>
                  </a:moveTo>
                  <a:lnTo>
                    <a:pt x="0" y="0"/>
                  </a:lnTo>
                  <a:lnTo>
                    <a:pt x="393" y="292"/>
                  </a:lnTo>
                  <a:lnTo>
                    <a:pt x="0" y="584"/>
                  </a:lnTo>
                  <a:lnTo>
                    <a:pt x="1179" y="584"/>
                  </a:lnTo>
                  <a:lnTo>
                    <a:pt x="1572" y="292"/>
                  </a:lnTo>
                  <a:lnTo>
                    <a:pt x="1179" y="0"/>
                  </a:lnTo>
                </a:path>
              </a:pathLst>
            </a:custGeom>
            <a:solidFill>
              <a:srgbClr val="78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33600" y="1749600"/>
              <a:ext cx="2022480" cy="83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05320" y="1703520"/>
            <a:ext cx="2417760" cy="928440"/>
            <a:chOff x="5305320" y="1703520"/>
            <a:chExt cx="2417760" cy="928440"/>
          </a:xfrm>
        </p:grpSpPr>
        <p:sp>
          <p:nvSpPr>
            <p:cNvPr id="129" name=""/>
            <p:cNvSpPr/>
            <p:nvPr/>
          </p:nvSpPr>
          <p:spPr>
            <a:xfrm>
              <a:off x="5305320" y="1703520"/>
              <a:ext cx="2417760" cy="928440"/>
            </a:xfrm>
            <a:custGeom>
              <a:avLst/>
              <a:gdLst/>
              <a:ahLst/>
              <a:rect l="l" t="t" r="r" b="b"/>
              <a:pathLst>
                <a:path w="1523" h="585">
                  <a:moveTo>
                    <a:pt x="1141" y="0"/>
                  </a:moveTo>
                  <a:lnTo>
                    <a:pt x="0" y="0"/>
                  </a:lnTo>
                  <a:lnTo>
                    <a:pt x="380" y="292"/>
                  </a:lnTo>
                  <a:lnTo>
                    <a:pt x="0" y="584"/>
                  </a:lnTo>
                  <a:lnTo>
                    <a:pt x="1141" y="584"/>
                  </a:lnTo>
                  <a:lnTo>
                    <a:pt x="1522" y="292"/>
                  </a:lnTo>
                  <a:lnTo>
                    <a:pt x="1141" y="0"/>
                  </a:lnTo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88120" y="1744560"/>
              <a:ext cx="19684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1420920" y="1763640"/>
            <a:ext cx="1898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Awarenes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86120" y="1763640"/>
            <a:ext cx="16477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Understanding and Assessment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1760" y="1763640"/>
            <a:ext cx="17208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Univers 45 Light"/>
              </a:rPr>
              <a:t>Desig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26400" y="1844640"/>
            <a:ext cx="180972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 45 Light"/>
              </a:rPr>
              <a:t>Implementation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840" y="1893960"/>
            <a:ext cx="1263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Project Phas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9840" y="2719440"/>
            <a:ext cx="93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Key Step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280" y="5133960"/>
            <a:ext cx="15033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80000"/>
                </a:solidFill>
                <a:latin typeface="Univers 45 Light"/>
              </a:rPr>
              <a:t>Deliverables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98680" y="5164200"/>
            <a:ext cx="154296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AS 39 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6120" y="2719440"/>
            <a:ext cx="15573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nduct IAS 39 technical accounting workshops with potentially impacted business areas accounting and other interested parti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4080" y="2716200"/>
            <a:ext cx="221004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solve technical accounting question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derivatives usage (including embedded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nalyse financial assets and financial liabilities usag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eview current state of business processes (BP) and systems (IT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y BP and IT “gaps” vs. requirements and alternatives to fill the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hoose alternativ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Estimate P&amp;L impact 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5105520"/>
            <a:ext cx="2286000" cy="18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impacted activities (inc. derivative inventory)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High-level BP and IT m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dentification of gaps between current BP/IT vs. IAS 39 requirements, alternatives to fill the gap and agreed upon decisions on how to fill gap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Quantified P&amp;L impact for both minimum  compliance and achievement of hedge accoun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42120" y="5164200"/>
            <a:ext cx="1876320" cy="5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specifications for each busines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redesign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818480" y="5164200"/>
            <a:ext cx="208764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Accepted changes  to IT and BP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Compliance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26400" y="2752560"/>
            <a:ext cx="2025720" cy="10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BP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IT changes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Rollout and train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Univers 45 Light"/>
              </a:rPr>
              <a:t>User acceptance testing</a:t>
            </a: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  <a:p>
            <a:pPr marL="114480" indent="-114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Recommended IAS 39 Implementation Approach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9880" y="1600200"/>
          <a:ext cx="8227800" cy="474804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83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rivatives to be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later reversal necessar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08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Financial assets and liabilities remeasured at fair value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adjustment of previous carrying amount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When sold reversal possible for AFS (Q&amp;A 172-1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8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valuation gain (IAS 25) in separate component if related to AFS with fair value changes in equity; otherwis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nl-NL" sz="2600" spc="-1" strike="noStrike">
                <a:solidFill>
                  <a:srgbClr val="003399"/>
                </a:solidFill>
                <a:latin typeface="Univers 45 Light"/>
              </a:rPr>
              <a:t>Transition adjustments - continued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38080" y="1359000"/>
          <a:ext cx="8227800" cy="4905360"/>
        </p:xfrm>
        <a:graphic>
          <a:graphicData uri="http://schemas.openxmlformats.org/drawingml/2006/table">
            <a:tbl>
              <a:tblPr/>
              <a:tblGrid>
                <a:gridCol w="2743200"/>
                <a:gridCol w="2741400"/>
                <a:gridCol w="2743200"/>
              </a:tblGrid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ansition adjustm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Subsequent accounting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003399"/>
                    </a:solidFill>
                  </a:tcPr>
                </a:tc>
              </a:tr>
              <a:tr h="108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Deferred gains and losses, now 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Recognise in separate component of equity (if expected to occur Q&amp;A 172-2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reat in conformity with CFH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Hedged items in FV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djust balance sheet position to reflect fair value of hedging instrument (in retained earnings)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Apply FVH  model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t mentioned in IAS 39; include in separate component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To be reversed when hedged item recognised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9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Ineffective part of CFH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; include in retained earnings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239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Univers 45 Light"/>
                        </a:rPr>
                        <a:t>No guidance available: remains in equity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mplementation process and organisatio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9520" y="1581120"/>
            <a:ext cx="8227800" cy="350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Structur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Typical Implementation Structure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05" name=""/>
          <p:cNvSpPr/>
          <p:nvPr/>
        </p:nvSpPr>
        <p:spPr>
          <a:xfrm>
            <a:off x="3887640" y="1612800"/>
            <a:ext cx="2210040" cy="106704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Steer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7640" y="3073320"/>
            <a:ext cx="2210040" cy="1067040"/>
          </a:xfrm>
          <a:prstGeom prst="ellips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Working Committe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078440" y="4572000"/>
            <a:ext cx="1828800" cy="68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 45 Light"/>
              </a:rPr>
              <a:t>Project Manager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5689440"/>
            <a:ext cx="5870520" cy="6858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Univers 45 Light"/>
              </a:rPr>
              <a:t>Implementation Team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8100000">
            <a:off x="4827240" y="5475240"/>
            <a:ext cx="330120" cy="331920"/>
          </a:xfrm>
          <a:prstGeom prst="rtTriangle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8100000">
            <a:off x="4827240" y="4332240"/>
            <a:ext cx="330120" cy="331920"/>
          </a:xfrm>
          <a:prstGeom prst="rtTriangl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8100000">
            <a:off x="4827240" y="2859120"/>
            <a:ext cx="330120" cy="331920"/>
          </a:xfrm>
          <a:prstGeom prst="rtTriangle">
            <a:avLst/>
          </a:prstGeom>
          <a:solidFill>
            <a:srgbClr val="aa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Awareness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29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implementation team(s)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leader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eam member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business areas that will be most impacted (accounting, treasury, other interested partie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Hold workshops and training (run by technical accountants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1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31840" y="1747800"/>
            <a:ext cx="7639200" cy="389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Identify enterprise’s key issu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Evaluate the financial instruments used by the enterpris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ny off-balance sheet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Analyse usage of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lassification of all financial instru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rivatives usag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Perform an “inventory” of all derivatives including embedded derivatives (both on and off balance sheet)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etermine whether embedded derivatives must be separated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Review internal / treasury hedging practic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(2) Assessment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8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business processe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ecision making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ill the enterprise have HTM investments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Does the enterprise plan to use hedge accounting?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alternative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ssess P&amp;L impact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8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Review current IT systems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Can systems support: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fair value calculations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amortised cost calculation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impairment assessments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-15732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Univers 55"/>
              </a:rPr>
              <a:t>NPV of expected cash flows information </a:t>
            </a: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8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Identify “gaps” 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2" marL="922320" indent="0">
              <a:lnSpc>
                <a:spcPct val="80000"/>
              </a:lnSpc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i="1" lang="en-US" sz="2000" spc="-1" strike="noStrike">
              <a:solidFill>
                <a:srgbClr val="000000"/>
              </a:solidFill>
              <a:latin typeface="Univers 55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672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b" anchorCtr="1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600" spc="-1" strike="noStrike">
                <a:solidFill>
                  <a:srgbClr val="003399"/>
                </a:solidFill>
                <a:latin typeface="Univers 45 Light"/>
              </a:rPr>
              <a:t>IAS 39 implementation: </a:t>
            </a:r>
            <a:br>
              <a:rPr sz="2600"/>
            </a:br>
            <a:r>
              <a:rPr b="0" i="1" lang="en-US" sz="2600" spc="-1" strike="noStrike">
                <a:solidFill>
                  <a:srgbClr val="003399"/>
                </a:solidFill>
                <a:latin typeface="Univers 45 Light"/>
              </a:rPr>
              <a:t>Design</a:t>
            </a:r>
            <a:endParaRPr b="1" lang="en-US" sz="2600" spc="-1" strike="noStrike">
              <a:solidFill>
                <a:srgbClr val="003399"/>
              </a:solidFill>
              <a:latin typeface="Univers 45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31840" y="1747440"/>
            <a:ext cx="7639200" cy="366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rmAutofit/>
          </a:bodyPr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Produce IT specifications 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Workaround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Enhanc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raft new business and accounting policies and procedures (where necessary)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To support hedging decision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consistent accounting for financial instruments enterprise-wide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lvl="1" marL="650880" indent="-206280">
              <a:lnSpc>
                <a:spcPct val="90000"/>
              </a:lnSpc>
              <a:buClr>
                <a:srgbClr val="000000"/>
              </a:buClr>
              <a:buFont typeface="Univers 55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 55"/>
              </a:rPr>
              <a:t>For financial reporting requirements</a:t>
            </a:r>
            <a:endParaRPr b="0" lang="en-US" sz="2000" spc="-1" strike="noStrike">
              <a:solidFill>
                <a:srgbClr val="000000"/>
              </a:solidFill>
              <a:latin typeface="Univers 55"/>
            </a:endParaRPr>
          </a:p>
          <a:p>
            <a:pPr marL="330120" indent="-33012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5000"/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Documentation of hedge relationships i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Univers 45 Light"/>
              </a:rPr>
              <a:t>critical</a:t>
            </a:r>
            <a:r>
              <a:rPr b="1" lang="en-US" sz="2000" spc="-1" strike="noStrike">
                <a:solidFill>
                  <a:srgbClr val="000000"/>
                </a:solidFill>
                <a:latin typeface="Univers 45 Light"/>
              </a:rPr>
              <a:t> by adoption date</a:t>
            </a:r>
            <a:endParaRPr b="1" lang="en-US" sz="2000" spc="-1" strike="noStrike">
              <a:solidFill>
                <a:srgbClr val="000000"/>
              </a:solidFill>
              <a:latin typeface="Univers 45 Ligh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5-01T14:39:38Z</dcterms:created>
  <dc:creator>ICT</dc:creator>
  <dc:description>SEPTEMBER 1999 Release candidate 2.0</dc:description>
  <dc:language>en-US</dc:language>
  <cp:lastModifiedBy>KPMG</cp:lastModifiedBy>
  <cp:lastPrinted>2000-05-24T16:39:45Z</cp:lastPrinted>
  <dcterms:modified xsi:type="dcterms:W3CDTF">2001-05-24T10:21:44Z</dcterms:modified>
  <cp:revision>276</cp:revision>
  <dc:subject>KIS2 compliant template </dc:subject>
  <dc:title>KPMG Blank Presentation Template</dc:title>
</cp:coreProperties>
</file>