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2D6B0-F2BB-4612-8A18-7CF89B802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D9C1A-4B9C-40DE-A8E5-B5A69E44E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31A6E-832D-4852-8C8F-04CC6DA57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EBBD4-3932-4740-AE6B-22A2E288D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28853-DB5E-46FE-9499-16747A9F7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FF480-317C-4DDC-AF5C-9C99AFC45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7C50-09F4-4BB9-82DE-DA0C40D6A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4D0AF-633D-403A-B079-1F95660F7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AECB7-5DB2-41D7-88D7-BC7F878B2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7B53E-687A-46E3-813D-3D7834ABA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92BD4-2DAC-4632-8215-CBCDA426B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91301-1572-4FDE-B2C3-59D28036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9EC89-1518-4FD3-8032-574818332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7794A-EA02-4AB8-8D03-F767A8558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C4A34-C3DF-4F02-857D-31C41426A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DBF7C-A3BE-448F-BB20-6A99EAF6D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2AEB3-97E3-4BA7-9FEC-17C4C2196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58683-0089-4500-9623-624DAD96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1C53-323C-4193-A7BC-FC865E8E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79DFD-2C76-4140-B719-F92063030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D9B9-8B30-4F28-891D-F4730F16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1594-BF71-4413-B2A9-D434A224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AD8AA-AD4D-4794-9432-AF3AEC290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5C5C-8281-46C1-953F-BC01C226A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1421-BB5A-491D-B1AD-E14DCA02D36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4A8D-4D5F-4F9D-8458-F04CEF23FFB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cccc"/>
                </a:solidFill>
                <a:latin typeface="Arial"/>
              </a:rPr>
              <a:t>Bilişim Suçları Soruşturmalarında Karşılaşılan Sorunlar ve Çözüm Önerileri</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Kartal Cumhuriyet Savcısı</a:t>
            </a:r>
            <a:endParaRPr b="0" lang="en-US" sz="3200" spc="-1" strike="noStrike">
              <a:solidFill>
                <a:srgbClr val="ffffff"/>
              </a:solidFill>
              <a:latin typeface="Verdan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Uğur Seçg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5" name="PlaceHolder 2"/>
          <p:cNvSpPr>
            <a:spLocks noGrp="1"/>
          </p:cNvSpPr>
          <p:nvPr>
            <p:ph/>
          </p:nvPr>
        </p:nvSpPr>
        <p:spPr>
          <a:xfrm>
            <a:off x="395280" y="1413000"/>
            <a:ext cx="8229600" cy="48528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bankacılık sistemine yönelik eylemlerin birden fazla suç tipine uyan ve benzer nitelik taşıyan eylemlerden oluştuğu görülmektedir. Çoğu kez eylemin hukuki nitelendirmesi yapılırken hataya düşülmekte farklı uygulama sonuçları ile karşılaşılmaktadır.Farklı uygulamaların önüne geçebilmek uygulamada birlik sağlayabilmek ve dolayısıyla  soruşturma ve kovuşturma aşamalarında hızlı ve etkin şekilde sonuca ulaşabilmek açısından bu tür suçlarla ilgili soruşturma ve kovuşturmaların uzman C.Savcısı ve hakimler eliyle yürütülmesinin sağlanması gerekmektedi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üyükşehir adliyelerinde bu tür suç soruşturmalarının oluşturulan Bilişim Suçları Bürolarında yürütülmesine  rağmen son yıllarda artan suç ve dava sayısına rağmen mahkemeler arasında uzman mahkeme uygulamasının henüz hayata geçirilmemiş olması zaman zaman yargılama aşamasında olumsuz sonuçlar doğurmaktadır.</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çakçılık ve basın suçlarına ilişkin uzman mahkeme uygulamasına benzer şekilde bir uygulamanın faydalı sonuçlar doğuracağı değerlendiril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Uygulamada karşılaşılan bir diğer sorun ise yetkili C.Savcılığı ve mahkemenin belirlenmesidir. Özellikle soruşturma aşamasında savcılıklar arasında farklı değerlendirmeler sonucunda ortaya çıkan yetki uyuşmazlıklarının  çözümünde 6217 sayılı yasa ile 5271 sayılı CMK’nun   161. maddesine eklenen 7 fıkrası  etkili olmuşsa da ,bu tür suçlarda yetkili yerin belirlenmesinde bazı özel ceza kanunlarında özellikle  5941 sayılı çek kanunundaki düzenlemeye benzer şekilde birden fazla yerin yetkili olarak belirlenmesi  halinde yetki uyuşmazlıkların  oluşması engellenebilecekti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ygulamada karşılaşılan sorunlardan bir diğeri de yapılan soruşturmalarda delillerin toplanmasındaki  ve faillerin belirlenmesindeki güçlüktür.Özellikle bilişim suçlarında ve bilişim aracılığıyla işlenen suçlarda faillerin kimliklerini gizleyebilme imkanları diğer suçlara nazaran daha kolaydır. Bu nedenle faillerin belirlenmesinde ve delillerin tespitindeki zorluklara rağmen CMK 135 maddesindeki tedbirin bilişim suçlarında uygulanabilmesi mümkün değildir. Ancak suç işlemek amacıyla örgüt kurma suçu ile birlikte işlenmesi halinde CMK 135 ve 140 maddelerindeki tedbirlerin uygulanabilmesi mümkün olabilmektedir. Bilişim suçu  veya bilişim aracılığıyla işlenen suçlarda kullanılan vasıtalardan en önemlisi bilgisayar ve internet iletişimidir. Şüpheliler tarafından  mağdurlara ait hesap veya kart bilgilerinin elde edilmesinde , bu bilgiler vasıtasıyla menfaat sağlamaya yönelik eylemlerin tamamlanmasında internet erişimi kullanılmaktadır. Şüphelilerin suç konusu eylem ve işlemlerinin tespiti ancak CMK 135 maddesi kapsamında bir tedbirin uygulanabilmesi ile mümkün olabilecektir. Bu nedenle CMK 135 maddesinde sayılan suçlar arasına mutlaka bilişim ve bilişim aracılığıyla işlenen suçların dahil edilmesi gerekmekted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işim suçlarının sınıraşan suçlardan olabilmesi nedeniyle zaman zaman yürütülen soruşturmalarda yabancı ülke adli makamları ile istinabe aracılığıyla bilgi talebinde bulunmak gerekebilmektedir.İkili adli yardımlaşma anlaşmalarının çağın gelişen şartlarına uygun hale getirilmesi yazışmaların hızla elektronik ortamda gerçekleşmesini sağlayacak yeni düzenlemelerin yapılması gerekmektedir.Çoğu zaman yabancı ülke makamlarına gönderilen yazının ulaşması anına kadar talep edilen hususlara ait verilerin kaybı söz konusu  olabilmektedir</a:t>
            </a:r>
            <a:r>
              <a:rPr b="0" lang="tr-TR"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ankalara yönelik internet aracılığıyla gerçekleştirilen dolandırıcılık ve hırsızlık eylemleri ile ilgili yürütülen soruşturmalarda bilgi ve belge talepleri genellikle bankalardan istenmektedir. Bilgi ve belge talepleri ile özellikle ATM güvenlik kamera görüntülerinin istenmesinde  zaman zaman sorunlarla karşılaşılmaktadır. Soruşturma aşamasında faillerin tespiti açısından önemli bir delil niteliği taşıyan güvenlik kamera görüntülerinin temininde genellikle mağdura ait hesabın bulunduğu banka muhatap alınarak talepte bulunulmaktadır. Buradan gelen yazılarda talepte bulunulan banka dışındaki bankalara ait kamera görüntülerinin ilgili bankadan istenmesi belirtilmektedir. Güvenlik kamera görüntülerinin muhafazası için belirlenen 60 günlük süre zarfında çoğu zaman kayıtların silinmesi nedeniyle görüntülere ulaşılamaması sonucuyla  karşılaşılmaktadır. Bu durumda soruşturmayı devam ettirebilmek faillerin belirlenmesi ve yakalanmasını sağlayabilmek imkansız hale gelmektedir.Bu tür delil kaybına neden olan durumların yaşanmaması açısından bankalar arasında kendilerinden soruşturma makamlarınca istenen bilgi ,belge ve özellikle ATM güvenlik kamera kayıtlarının talepte bulunulan banka tarafından diğer bankalardan istenerek  soruşturma makamına tek elden gönderilmesini sağlayacak bir iş birliği ortamının geliştirilmesi gereklidir.Talep edilen bilgi ,belge ve güvenlik kayıtları ile ilgili talebin ulaştığı banka kendisi dışındaki bankalarla ilgili taleplerin karşılanarak soruşturma makamına ulaştırılmasını bildirerek bilgi ve belgelerin soruşturma makamlarına en hızlı şekilde ulaşmasını sağlayabili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lgi ve belge taleplerinin istenmesinde bankalarla yapılan yazışmaların klasik yöntemlerle değil , elektronik ortamda en hızlı vasıtalarla yapılmasının sağlanmasına yönelik düzenlemeler yapılmalıdır.Yapılacak bilgi ve belge taleplerinin bankaların belirlenmiş birimlerine doğrudan ulaştırılmasını sağlayacak uygulamalar geliştirilmelidir. Bu amaçla adli yargı birimlerinin tümünde uygulanmakta olan UYAP sistemi ile banka sistemleri  arasında entegrasyon çalışmalarının yapılarak hayata geçirilmesinin önemi büyüktür. Entegrasyon çalışmaları sonuçlanana kadar  19.01.2012 tarihinde yürürlüğe girecek  7201 sayılı Tebligat Kanununda değişiklik yapan 6099 sayılı kanunun  2 maddesiyle 7201 sayılı Tebligat Kanununa eklenen 7/A maddesinde belirlenen       esaslara göre elektronik tebligat  yöntemiyle  daha hızlı şekilde taleplerin iletilmesi sağlanabilir.</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ine yazışmaların elektronik ortamda gerçekleştirilmesine yönelik e-imza kullanımına imkan veren  uygulamaların geliştirilmesi soruşturmaların daha hızlı ve etkin şekilde yürütülmesine katkı sağlayacağı gibi zaman,emek ve maliyet anlamında da tasarruf sağlayacaktı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ürkiye’de bilişim suçlarıyla ilgili oluşan her bir olaya, tek bir belirleyici numara atanarak  merkezi bir bilişim suçları veritabanı oluşturulabilir.Bu yönde yapılacak çalışmalar suç konusu eylemler arasında bağlantı ve faillerin aynı olması halinde faili meçhul olayların aydınlanmasına ve işlenen suçların cezasız kalmamasına büyük katkı sağlayacak suç ve suçla mücadeleyi kolaylaş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ankaların ve banka müşterilerinin büyük rakamlarla ifade edilen zararlarının varlığına rağmen suç faillerinin elde ettikleri gelirlerle ilgili yeterli araştırma ve çalışmanın yapılmadığı somut bir realitedi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5237 sayılı TCK’nun 282.  maddesinde suçtan kaynaklanan mal varlığı değerlerinin aklanması suç olarak düzenlenmiştir. Özellikle suç örgütü faaliyeti kapsamında işlenen bilişim suçlarında elde edilen gelirlerin araştırılması ,TCK 54 ve 55 maddelerine tespiti halinde müsaderesi suçla mücadelede etkinliği arttıracaktır.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200" spc="-1" strike="noStrike">
                <a:solidFill>
                  <a:srgbClr val="ffffff"/>
                </a:solidFill>
                <a:latin typeface="Times New Roman"/>
              </a:rPr>
              <a:t>Türkiye Bilişim Derneği yayınları arasında yer alan Bilişim Dergisinin Kasım 2011 tarihli 137. sayısında yayınlanan bir araştırma ile ilgili bazı bilgileri aktarmak da istiyorum.</a:t>
            </a:r>
            <a:endParaRPr b="0" lang="en-US" sz="2200" spc="-1" strike="noStrike">
              <a:solidFill>
                <a:srgbClr val="ffffff"/>
              </a:solidFill>
              <a:latin typeface="Verdana"/>
            </a:endParaRPr>
          </a:p>
          <a:p>
            <a:pPr marL="343080" indent="-34308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Times New Roman"/>
              </a:rPr>
              <a:t>  ‘ </a:t>
            </a:r>
            <a:r>
              <a:rPr b="0" lang="tr-TR" sz="2200" spc="-1" strike="noStrike">
                <a:solidFill>
                  <a:srgbClr val="ffffff"/>
                </a:solidFill>
                <a:latin typeface="Times New Roman"/>
              </a:rPr>
              <a:t>TBD Hukuk Müşaviri Avukat Mehmet Ali Köksal ve Adli Bilişim Uzmanı Çığır İlbaş tarafından  Türkiye’nin “siber suçlar” haritasını ortaya çıkarmak üzere yapılan  araştırmada ; Türkiye’de mahkeme kayıtlarına geçen ilk bilişim suçunun işlendiği 1990 yılından 2011 yılının Temmuz ayına kadar yıl ve il bazında mahkemelere intikal eden 40 farklı suç maddesine ait 73.185 adet ceza ve hukuk davasının dosya ve sanık sayıları açısından analizlerini içeriyor. Araştırmanın, bölge ve il bazında sık rastlanan bilişim suçu türlerinin tespit edilmesi, Türkiye’nin bilişim suçu profilinin oluşturulması ve bilişim suçları ile mücadelede uygulanan yöntem ve mevzuat değişikliklerinin ulusal ve bölgesel etkinliğinin ölçülmesi konularına önemli katkılar sağlayacağı düşünülüyor.’</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aştırmaya göre, siber suçlarda il bazında İstanbul, Muğla ve Antalya; coğrafi bölge bazında ise Marmara, Ege ve Karadeniz bölgeleri ilk üç sırada yer alıyor. Suç türlerine bakıldığında ise, “banka/kart” suçlarında ilk üç sırayı, Antalya, İzmir ve Denizli; “Bilişim Sistemi” (Sistemlere izinsiz giriş) suçlarında ilk üç sırayı, Batman, İstanbul ve Muğla; “Telif Hakları” suçlarında ilk üç sırayı, Muğla, Antalya ve Eskişehir; “Müstehcenlik” suçlarında ise ilk üç sırayı, İzmir, İstanbul ve Gaziantep alıy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Times New Roman"/>
              </a:rPr>
              <a:t>Bilişim insanların teknik ,ekonomik, sosyal kültürel ,hukuksal ve benzeri alanlarda sahip oldukları verinin saklanması,saklanan bu verinin elektronik olarak işlenmesi ,organize edilmesi , değerlendirilmesi  ve yüksek hızlı veri ,ses veya görüntü taşıyan iletişim araçları ile aktarılması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 verilerin saklanmasını, işlenmesini, işlenmiş verilerin sonuçlarının aktarılmasını içeren bir kavramdı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 tanımlamaya göre veri işlem ve veri iletişim unsurlarını taşıyan araçların bütününe bilişim sistemi denilmekted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5"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990-2011 yılları arasını kapsayan araştırmada; ‘Önceki yıla göre dava dosyalarındaki artış hızlarının, 2005’e kadar artarak yüzde 212,82 seviyesine ulaştığı. 2006’da yüzde 190,69 oranına gerilediği ve 2007’de rekor bir düşüşle dört yıl önceki oranına yaklaşarak yüzde 101,41 oranına indiği. Sonraki yıllarda artış hızının giderek azaldığı ve 2010’da yüzde 23,41 seviyesine kadar düştüğü. 2011 yılı ilk 7 aylık verilerden elde edilen aylık ortalama 2010 yılının aylık ortalamasıyla karşılaştırıldığında, 2011 yılında değişim oranının yüzde 1,05 olarak ölçüldüğü. Bilişim Suçları ve Sistemleri Şube Müdürlüğünün, 25.04.2007’de kurulduğu ve bu tarihten itibaren bilişim suçlarıyla mücadele eden kolluk birimleri ve personel sayılarında artış olduğu.2007’de bilişim mevzuatı açısından yaşanan en önemli gelişmenin, 5651 sayılı “İnternet Ortamında Yapılan Yayınların Düzenlenmesi Ve Bu Yayınlar Yoluyla İşlenen Suçlarla Mücadele Edilmesi Hakkında Kanun”un yürürlüğe girmesi olduğu değerlendirilmektedir. Araştırmacılara göre, söz konusu kanunun yeni bir yasal düzenleme olarak potansiyel suçlular üzerinde caydırıcı bir etki yaratmış olması olasılığının  yüksek olduğu  da ifade edilmiştir.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Yapılan araştırmada, bilişim suçları ile mücadele çalışmalarının yüksek derecede etkin olduğu saptanırken günümüzdeki koşulların aynı biçimde muhafaza edilmesi ve çalışmaların devamı halinde 2012 yılından itibaren bilişim suçlarındaki artışın yerini azalmaya bırakacağının görüldüğü vurgulanıyor. Ayrıca benzer şekilde çok sanıklı (organize) suçlarda hafif bir azalma trendi olduğu tespit edildiğinin de altı çiziliyor.</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Araştırmada özellikle İnternet banka dolandırıcılığı suçları ile mücadele edebilmek için kullanıcıların bilinç seviyelerindeki artışın önemli olduğu belirtilirken İnternet banka müşterilerinin mobil imza, tek kullanımlık şifre üreten token cihazları ve mobil yazılımlar kullanarak güvenliklerini artırmalarının mümkün olduğuna işaret ediliyor. Ayrıca bu tür suçlara zemin hazırlamamak ve farkında olmadan iştirak etmemek için kablosuz İnternet’in şifre ile kullanılması ve İnternet aboneliğinin başka kullanıcılar ile paylaşılmaması oldukça büyük önem taşıdığı belirtilmiş.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000" spc="-1" strike="noStrike">
                <a:solidFill>
                  <a:srgbClr val="ffffff"/>
                </a:solidFill>
                <a:latin typeface="Times New Roman"/>
              </a:rPr>
              <a:t>Yapılan araştırma sonuçlarına göre 1990-2011 yılları arasında açılan bilişim suçları ile dava sayılarının oranlar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0" name="" descr=""/>
          <p:cNvPicPr/>
          <p:nvPr/>
        </p:nvPicPr>
        <p:blipFill>
          <a:blip r:embed="rId1"/>
          <a:stretch/>
        </p:blipFill>
        <p:spPr>
          <a:xfrm>
            <a:off x="1835280" y="2637000"/>
            <a:ext cx="5591160" cy="369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pılan araştırma sonuçlarına göre 1990-2011 yılları arasında açılan bilişim suçları ile ilgili dava sayılarının bölgelere göre dağılımı;</a:t>
            </a:r>
            <a:endParaRPr b="0" lang="en-US" sz="2000" spc="-1" strike="noStrike">
              <a:solidFill>
                <a:srgbClr val="ffffff"/>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03" name="" descr=""/>
          <p:cNvPicPr/>
          <p:nvPr/>
        </p:nvPicPr>
        <p:blipFill>
          <a:blip r:embed="rId1"/>
          <a:stretch/>
        </p:blipFill>
        <p:spPr>
          <a:xfrm>
            <a:off x="2771640" y="2565360"/>
            <a:ext cx="3853080" cy="38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Bir Araştırma</a:t>
            </a:r>
            <a:endParaRPr b="0" lang="en-US" sz="40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Times New Roman"/>
              </a:rPr>
              <a:t>Dava dosyalarının illere göre sıralanması;</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1"/>
          <a:stretch/>
        </p:blipFill>
        <p:spPr>
          <a:xfrm>
            <a:off x="1835280" y="2349360"/>
            <a:ext cx="5330520" cy="40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lişim suçları ile ilgili yukarıda aktarılan hususlar dışında daha  pek çok sorun dile getirilebilir.Zamanla  yeni sorunların ortaya çıkması da muhtemeldir.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çla mücadelede etkinliğin arttırılabilmesi açısından kurumlar arası diyalog ve iş birliğinin geliştirilmesi önem arz etmektedir. Benzer çalışmaların tekrarlanması dileğiyle gösterdiğiniz sabra teşekkür ederim.</a:t>
            </a:r>
            <a:endParaRPr b="0" lang="en-US" sz="2800" spc="-1" strike="noStrike">
              <a:solidFill>
                <a:srgbClr val="ffffff"/>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ilişim suçu kavramı farklı kaynaklarda farklı şekillerde tanımlanmış ve “bilişim suçları”,“bilgisayar suçları”, “internet suçları”, “siber suç”, “ileri teknoloji suçu”, “dijital suçlar”, “sanal suç”, “siber terörizm” gibi kavramlar iç içe girmiş durumdadır. Bilişim suçları ile ilgili yapılmış tanımlara bakacak olursak</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3" name="PlaceHolder 2"/>
          <p:cNvSpPr>
            <a:spLocks noGrp="1"/>
          </p:cNvSpPr>
          <p:nvPr>
            <p:ph/>
          </p:nvPr>
        </p:nvSpPr>
        <p:spPr>
          <a:xfrm>
            <a:off x="39528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2000" spc="-1" strike="noStrike">
                <a:solidFill>
                  <a:srgbClr val="ffffff"/>
                </a:solidFill>
                <a:latin typeface="Times New Roman"/>
              </a:rPr>
              <a:t>“</a:t>
            </a:r>
            <a:r>
              <a:rPr b="0" lang="tr-TR" sz="2000" spc="-1" strike="noStrike">
                <a:solidFill>
                  <a:srgbClr val="ffffff"/>
                </a:solidFill>
                <a:latin typeface="Times New Roman"/>
              </a:rPr>
              <a:t>Bilişim alanındaki gelişmelere paralel artış gösteren ve teknolojin yardımı ile genellikle sanal bir ortamda kişi veya kurumlara maddi veya manevi zarar verecek davranışlarda bulunmaktır.”</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Verilerin bilişim temelli olarak ve otomatik şekilde işlenmesi, saklanması, tasnif edilmesi, terkibi ve iletilmesi ile ilgili ve bilişim alnında işlenen, bir bilgisayar yada ağına yönelik olarak yada onları kullanarak icra edilen her türlü yasadışı haksız eylem olarak tarif etmek mümkün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çevre birimleri, pos makinesi,cep telefonu gibi her türlü teknolojinin kullanılması ile işlenilen suçlardır.” “Bilişim Teknolojileri kullanılarak işlenen tüm suçlar "Bilişim Suçlarını" oluşturu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gisayar suçu (computer crime): Bir bilgisayar yada bilgisayar ağına yönelik yada onları kullanarak (bilgisayar teknolojisi bilgilerinden yararlanılarak) gerçekleştirilen yasa dışı eylem.”</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ecff"/>
                </a:solidFill>
                <a:latin typeface="Arial"/>
              </a:rPr>
              <a:t>Bilişim ve Bilişim Suçu Kavramı</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t>
            </a:r>
            <a:r>
              <a:rPr b="0" lang="tr-TR" sz="2000" spc="-1" strike="noStrike">
                <a:solidFill>
                  <a:srgbClr val="ffffff"/>
                </a:solidFill>
                <a:latin typeface="Times New Roman"/>
              </a:rPr>
              <a:t>Siber suçlar (cyber crimes):  Herhangi bir suçun elektronik ortam içerisinde işlenebilme imkanı bulunuyor ve bu ortam içerisinde gerçekleştirilen fiil genel olarak hukuka aykırı veya suç olarak tanımlanabiliyorsa bu suçları siber suçlar olarak tanımlayabiliriz. Siber suç bilgisayar ve ağ sistemleri yoluyla bilgisayar veya ağ sistemleri içerisinde yada bilgisayar tarafından suç olarak yaratılmış fiillerin siber ortamda işlenmesi ve daha önce suç olarak yaratılmamış bu ortamın karakteristiğe has bir takım ihlallerin bir bütünüdür.”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Tanımlarda da görüldüğü gibi bilişim suçlarının net olarak çizgileri çizilmemiştir çünkü gelişen teknolojiyle birlikte bilişim suçları da değişmektedir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Bilişim suçlarına ilişkin genel ve kapsayıcı bir tanım yapılmasının zorluğuna ve bu konudaki çekincelere rağmen bilişim sucu, “verilere karsı ve/veya veri işlemle bağlantısı olan sistemlere karsı, bilişim sistemleri aracılığıyla islenen suçlar” seklinde tanımlan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 ile düzenleme mevcuttu.</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da ise “bilişim alanında suçlar” başlığı altında m.243 “hukuka aykırı olarak bilişim sistemine girme ve sistemde kalma suçu”, m.244/1-2 “bilişim sisteminin işleyişinin engellenmesi, bozulması, verilerin yok edilmesi veya değiştirilmesi suçu”, m.244/4 “bilişim sistemi aracılığıyla hukuka aykırı yarar sağlama suçu”, m.245 “banka veya kredi kartlarının kötüye kullanılması suçu” şeklinde düzenleme mevcuttur.</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765 sayılı TCK’nun bilişim alanında suçlar başlığı altında 525/a ila 525/d maddelerinde yer alan düzenlemeler bilgileri otomatik olarak işleme tabi tutan sistem tanımı üzerine kurulmuştu.</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5237 sayılı TCK’ da bilişim alanında suçları karşılayacak temel hükümler getirildi. Ayrıca 765 sayılı TCK ‘ nundaki bilgileri otomatik olarak işleme tabi tutan ifadesi terk edilerek yerine bilişim sistemi , diğer her hangi bir unsur yerine ise veri kavramı kullanılmıştır.Yasanın gelişen teknoloji karşısında  yetersiz kalabilecek kavramlar yerine geniş bir anlam  ifade eden  bilişim sistemleri kavramının kullanılması isabetli olmuş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lişim Suçları İle İlgili Yasal Düzenleme</a:t>
            </a:r>
            <a:endParaRPr b="0" lang="en-US" sz="4000" spc="-1" strike="noStrike">
              <a:solidFill>
                <a:srgbClr val="ccecff"/>
              </a:solidFill>
              <a:latin typeface="Arial"/>
            </a:endParaRPr>
          </a:p>
        </p:txBody>
      </p:sp>
      <p:sp>
        <p:nvSpPr>
          <p:cNvPr id="171"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237 sayılı TCK’ da ayrıca korunan hukuki yarara göre ilgili oldukları bölümlerde</a:t>
            </a:r>
            <a:r>
              <a:rPr b="0" lang="en-US" sz="2000" spc="-1" strike="noStrike">
                <a:solidFill>
                  <a:srgbClr val="ffffff"/>
                </a:solidFill>
                <a:latin typeface="Verdana"/>
              </a:rPr>
              <a:t> </a:t>
            </a:r>
            <a:r>
              <a:rPr b="0" lang="en-US" sz="2000" spc="-1" strike="noStrike">
                <a:solidFill>
                  <a:srgbClr val="ffffff"/>
                </a:solidFill>
                <a:latin typeface="Times New Roman"/>
              </a:rPr>
              <a:t>“özel hayata ve hayatın gizli alanına karsı suçlar” baslığı altında m. 135 “kişisel verilerin kaydedilmesi suçu”, m. 136 “kişisel verileri hukuka aykırı olarak verme veya ele geçirme suçu”, m.138 “verileri yok etmeme suçu”  gibi bilişim ortamında işlenebilecek suçlar ile,</a:t>
            </a:r>
            <a:endParaRPr b="0" lang="en-US" sz="2000" spc="-1" strike="noStrike">
              <a:solidFill>
                <a:srgbClr val="ffffff"/>
              </a:solidFill>
              <a:latin typeface="Verdan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Yalnızca bilişim suçu olarak nitelendirilemeyecek, diğer isleniş biçimlerinin yanı sıra bilişim sistemleri aracılığıyla da işlenmesi mümkün olabilecek suç tipleri bulunmaktadır. Bunlara örnek olarak ;“özel hayata ve hayatın gizli alanına karsı suçlar” başlığı altında m.132 “haberleşmenin gizliliğini ihlal suçu”, “hürriyete karsı suçlar” bölümünde m.124 “haberleşmenin engellenmesi suçu”; “şerefe karşı suçlar” bölümünde m.125 “hakaret suçu”; malvarlığına karsı suçlar bölümünde m.142/2-e  “Bilişim sistemlerinin kullanılması suretiyle hırsızlık sucu”, m.158/1-f  “Bilişim sistemlerinin, banka veya kredi kurumlarının araç olarak kullanılması suretiyle dolandırıcılık sucu” ile “genel ahlaka karsı suçlar” bölümünde m.226 “müstehcenlik sucu”, m.228 “kumar oynanması için yer ve imkan sağlanması suçu” sayılabili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ruşturmada Karşılaşılan Sorunlar ve Çözüm Önerileri</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teknolojilerinin akıl almaz bir hızla gelişmesi ve insan hayatına sağladığı kolaylıklar sayesinde , banka ve kredi kartı işlemleri gibi çok hassas işlemler, bilişim teknolojileri kullanılarak gerçekleştirilmeye başlanmış ve bunun sonucunda bilişim güvenliği kavramı da ön plana çıkmıştır. Yıllar geçtikçe bilişim güvenliğini tehdit eden faktörler çoğalmış ve hatta günümüzdeki en önemli suç tiplerinden birini oluşturan bilişim suçlarının sayısında hızlı bir artış sağlamıştır.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ilişim suçları ile mücadele kavramı, özellikle Türkiye için oldukça yeni bir kavramdır. Mücadele anlamında gerek hukuki gerekse teknik anlamda bazı sıkıntılar bulunmaktadır. En önemli sıkıntıların kaynaklandığı nokta bilişim suçlarının tespiti ve değerlendirilmesinde hem teknik hem de hukuki bilgilerin entegre bir şekilde kullanılmasıdır. </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5:42:13Z</dcterms:created>
  <dc:creator>AB35176</dc:creator>
  <dc:description/>
  <dc:language>en-US</dc:language>
  <cp:lastModifiedBy>AB35176</cp:lastModifiedBy>
  <dcterms:modified xsi:type="dcterms:W3CDTF">2011-11-17T09:24:45Z</dcterms:modified>
  <cp:revision>8</cp:revision>
  <dc:subject/>
  <dc:title>Bilişim Suçları Soruşturmalarında Karşılaşılan Sorunlar ve Çözüm Önerileri</dc:title>
</cp:coreProperties>
</file>