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B0B36F-A99D-41BB-AF33-6A4A056838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F4F23A-0DEB-4012-9ABD-534C14DF48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021AAF-A428-4206-A2ED-9370DF718D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70B87F-6636-4B52-96D9-0FD416601D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7DC60F-A623-4A73-AFAB-16B3AC006C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868975-E145-46B5-B228-2FBE412342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D24670-26E8-40A8-9EF1-E3BEE8AEFD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263D8A-B3DD-470A-9E93-426C54219F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13F3BA-C89A-4951-B581-C45746BB23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C9C3BC-875D-48AD-B057-36F0038609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5B077-B938-4E88-BEF1-98AA8449EC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4B45AB-B539-4EC0-9DD0-5793704E17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EA37-0EB1-4427-9B91-A8683E6F404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0" r="59698" b="0"/>
          <a:stretch/>
        </p:blipFill>
        <p:spPr>
          <a:xfrm>
            <a:off x="468360" y="6211800"/>
            <a:ext cx="137160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46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NKALAR KANUNU</a:t>
            </a:r>
            <a:br>
              <a:rPr sz="5400"/>
            </a:br>
            <a:br>
              <a:rPr sz="5400"/>
            </a:br>
            <a:r>
              <a:rPr b="1" lang="tr-TR" sz="3600" spc="-1" strike="noStrike">
                <a:solidFill>
                  <a:srgbClr val="000000"/>
                </a:solidFill>
                <a:latin typeface="Arial"/>
              </a:rPr>
              <a:t>“İç Kontrol, Risk Yönetimi ve İç Denetim Sistemlerine İlişkin Hususlar”</a:t>
            </a:r>
            <a:br>
              <a:rPr sz="3600"/>
            </a:br>
            <a:br>
              <a:rPr sz="3200"/>
            </a:br>
            <a:r>
              <a:rPr b="1" lang="tr-TR" sz="2400" spc="-1" strike="noStrike">
                <a:solidFill>
                  <a:srgbClr val="000000"/>
                </a:solidFill>
                <a:latin typeface="Arial"/>
              </a:rPr>
              <a:t>Dr. Cüneyt Sezgin</a:t>
            </a:r>
            <a:br>
              <a:rPr sz="2400"/>
            </a:br>
            <a:r>
              <a:rPr b="1" lang="tr-TR" sz="2400" spc="-1" strike="noStrike">
                <a:solidFill>
                  <a:srgbClr val="000000"/>
                </a:solidFill>
                <a:latin typeface="Arial"/>
              </a:rPr>
              <a:t>TBB Risk Yönetimi Komitesi Başkanı</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5445000"/>
            <a:ext cx="6400800" cy="625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9 Kasım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0382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SİSTEMLERE İLİŞKİN YÜKÜMLÜLÜKLER</a:t>
            </a:r>
            <a:endParaRPr b="0" lang="en-US" sz="2800" spc="-1" strike="noStrike">
              <a:solidFill>
                <a:srgbClr val="000000"/>
              </a:solidFill>
              <a:latin typeface="Arial"/>
            </a:endParaRPr>
          </a:p>
        </p:txBody>
      </p:sp>
      <p:sp>
        <p:nvSpPr>
          <p:cNvPr id="65" name=""/>
          <p:cNvSpPr/>
          <p:nvPr/>
        </p:nvSpPr>
        <p:spPr>
          <a:xfrm>
            <a:off x="395280" y="17794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tüm şube ve konsolidasyona tabi ortaklıklarını kapsayan yeterli ve etkin bir iç kontrol, risk yönetimi ve iç denetim sistemi kurmak ve işletmekle yükümlüdürler.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sistemlerinin kuruluşuna, işleyişine, yeterliliğine, oluşturulacak birimlere, icra edilecek faaliyetlere, üst yönetimin görev ve sorumlulukları ile BDDK’ya yapılacak raporlamalara ilişkin usûl ve esaslar BDDK tarafından belirlenir.</a:t>
            </a:r>
            <a:endParaRPr b="0" lang="en-US" sz="2400" spc="-1" strike="noStrike">
              <a:solidFill>
                <a:srgbClr val="000000"/>
              </a:solidFill>
              <a:latin typeface="Arial"/>
            </a:endParaRPr>
          </a:p>
        </p:txBody>
      </p:sp>
      <p:sp>
        <p:nvSpPr>
          <p:cNvPr id="66" name=""/>
          <p:cNvSpPr/>
          <p:nvPr/>
        </p:nvSpPr>
        <p:spPr>
          <a:xfrm>
            <a:off x="39528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9</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8B9B580-57E4-4EE8-83D6-E13252FF20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8110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KONTROL SİSTEMİ</a:t>
            </a:r>
            <a:endParaRPr b="0" lang="en-US" sz="2800" spc="-1" strike="noStrike">
              <a:solidFill>
                <a:srgbClr val="000000"/>
              </a:solidFill>
              <a:latin typeface="Arial"/>
            </a:endParaRPr>
          </a:p>
        </p:txBody>
      </p:sp>
      <p:sp>
        <p:nvSpPr>
          <p:cNvPr id="68" name=""/>
          <p:cNvSpPr/>
          <p:nvPr/>
        </p:nvSpPr>
        <p:spPr>
          <a:xfrm>
            <a:off x="395280" y="1335240"/>
            <a:ext cx="8280360" cy="4887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nkalar,</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Faaliyetlerini mevzuata, iç düzenlemelerine ve bankacılık teamüllerine uygun olarak yürü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uhasebe ve raporlama sisteminin bütünlüğünü, güvenilirliğini ve bilgilerin zamanında elde edilebilirliğini sürekli kontrol faaliyetleri ile sağ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örevlerin fonksiyonel ayrımlarını, yetki ve sorumlulukların paylaşımını, fon ödemelerini, banka işlemlerinin mutabakatını, varlıkların korunmasını ve yükümlülüklerin kontrol altında tutulmasını temin e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aruz kalınan her türlü riskin tanınması, değerlendirilmesi ve yönetimi için gerekli alt yapıyı hazır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eterli iletişim ağını oluşturmak </a:t>
            </a:r>
            <a:endParaRPr b="0" lang="en-US" sz="2000" spc="-1" strike="noStrike">
              <a:solidFill>
                <a:srgbClr val="000000"/>
              </a:solidFill>
              <a:latin typeface="Arial"/>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zorundadır. </a:t>
            </a:r>
            <a:endParaRPr b="0" lang="en-US" sz="2000" spc="-1" strike="noStrike">
              <a:solidFill>
                <a:srgbClr val="000000"/>
              </a:solidFill>
              <a:latin typeface="Arial"/>
            </a:endParaRPr>
          </a:p>
        </p:txBody>
      </p:sp>
      <p:sp>
        <p:nvSpPr>
          <p:cNvPr id="69" name=""/>
          <p:cNvSpPr/>
          <p:nvPr/>
        </p:nvSpPr>
        <p:spPr>
          <a:xfrm>
            <a:off x="395280" y="18900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0C1EF65-07C4-42B9-BC20-9B8620515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1050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 YÖNETİMİ SİSTEMİ</a:t>
            </a:r>
            <a:endParaRPr b="0" lang="en-US" sz="2800" spc="-1" strike="noStrike">
              <a:solidFill>
                <a:srgbClr val="000000"/>
              </a:solidFill>
              <a:latin typeface="Arial"/>
            </a:endParaRPr>
          </a:p>
        </p:txBody>
      </p:sp>
      <p:sp>
        <p:nvSpPr>
          <p:cNvPr id="71" name=""/>
          <p:cNvSpPr/>
          <p:nvPr/>
        </p:nvSpPr>
        <p:spPr>
          <a:xfrm>
            <a:off x="539640" y="1922400"/>
            <a:ext cx="7993080" cy="2648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faaliyetleri yönetim kuruluna bağlı olarak çalışacak risk yönetimi birimi ve personeli tarafından yürütülür. </a:t>
            </a:r>
            <a:endParaRPr b="0" lang="en-US" sz="2400" spc="-1" strike="noStrike">
              <a:solidFill>
                <a:srgbClr val="000000"/>
              </a:solidFill>
              <a:latin typeface="Arial"/>
            </a:endParaRPr>
          </a:p>
          <a:p>
            <a:pPr algn="just">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ankalar, risk politikalarını BDDK tarafından belirlenen esaslar çerçevesinde oluşturmak, uygulamak ve raporlamak zorundadır. </a:t>
            </a:r>
            <a:endParaRPr b="0" lang="en-US" sz="2400" spc="-1" strike="noStrike">
              <a:solidFill>
                <a:srgbClr val="000000"/>
              </a:solidFill>
              <a:latin typeface="Arial"/>
            </a:endParaRPr>
          </a:p>
        </p:txBody>
      </p:sp>
      <p:sp>
        <p:nvSpPr>
          <p:cNvPr id="72" name=""/>
          <p:cNvSpPr/>
          <p:nvPr/>
        </p:nvSpPr>
        <p:spPr>
          <a:xfrm>
            <a:off x="53964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1</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23DA0D9-4842-41C9-89FD-5A1BC010E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1773360"/>
            <a:ext cx="7993080" cy="43045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lar bütün birim, şube ve konsolidasyona tabi ortaklıklarını kapsayan bir iç denetim sistemi kurmak zorundadı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faaliyetleri, tarafsız ve bağımsız bir şekilde, yeterli sayıda müfettiş tarafından yerine getiril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aaliyetlerin mevzuata, ana sözleşmeye, iç düzenlemelere ve bankacılık ilkelerine uygunluğu, banka müfettişleri tarafından denetlen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raporunun, en az üçer aylık dönemler itibarıyla ve denetim komitesi aracılığıyla Yönetim Kuruluna sunulması zorunludur.</a:t>
            </a:r>
            <a:endParaRPr b="0" lang="en-US" sz="2200" spc="-1" strike="noStrike">
              <a:solidFill>
                <a:srgbClr val="000000"/>
              </a:solidFill>
              <a:latin typeface="Arial"/>
            </a:endParaRPr>
          </a:p>
        </p:txBody>
      </p:sp>
      <p:sp>
        <p:nvSpPr>
          <p:cNvPr id="74" name=""/>
          <p:cNvSpPr/>
          <p:nvPr/>
        </p:nvSpPr>
        <p:spPr>
          <a:xfrm>
            <a:off x="179280" y="1052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DENETİM SİSTEMİ</a:t>
            </a:r>
            <a:endParaRPr b="0" lang="en-US" sz="2800" spc="-1" strike="noStrike">
              <a:solidFill>
                <a:srgbClr val="000000"/>
              </a:solidFill>
              <a:latin typeface="Arial"/>
            </a:endParaRPr>
          </a:p>
        </p:txBody>
      </p:sp>
      <p:sp>
        <p:nvSpPr>
          <p:cNvPr id="75"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2</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D9A2A05-B329-4313-92F8-70BC12D6C7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77" name=""/>
          <p:cNvSpPr/>
          <p:nvPr/>
        </p:nvSpPr>
        <p:spPr>
          <a:xfrm>
            <a:off x="539640" y="1735200"/>
            <a:ext cx="799308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bazda sınırlama ve oranlara tabi olan ana ortaklık bankalar,</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urt içi ve yurt dışı bağlı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irlikte kontrol edilen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Şube ve temsilcilikleri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e tabidir. </a:t>
            </a:r>
            <a:endParaRPr b="0" lang="en-US" sz="2200" spc="-1" strike="noStrike">
              <a:solidFill>
                <a:srgbClr val="000000"/>
              </a:solidFill>
              <a:latin typeface="Arial"/>
            </a:endParaRPr>
          </a:p>
        </p:txBody>
      </p:sp>
      <p:sp>
        <p:nvSpPr>
          <p:cNvPr id="78"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D21A34E-1A9A-4995-8CD3-C698D3AC06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80" name=""/>
          <p:cNvSpPr/>
          <p:nvPr/>
        </p:nvSpPr>
        <p:spPr>
          <a:xfrm>
            <a:off x="539640" y="1531800"/>
            <a:ext cx="7993080" cy="4701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lar,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kontrol, risk yönetimi ve iç denetim sistemler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uhasebe ve finansal raporlama birim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inansal tablo ve raporlarına,</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Risk grubuna kullandırılan kredilere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işkin bilgi ve belgeleri konsolide denetime uygun ve hazır hale getirmek zorundadırlar.</a:t>
            </a:r>
            <a:endParaRPr b="0" lang="en-US" sz="2200" spc="-1" strike="noStrike">
              <a:solidFill>
                <a:srgbClr val="000000"/>
              </a:solidFill>
              <a:latin typeface="Arial"/>
            </a:endParaRPr>
          </a:p>
          <a:p>
            <a:pPr algn="just">
              <a:lnSpc>
                <a:spcPct val="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 gerek duyulması halinde, BDDK ve konsolide denetime tabi kuruluşların denetimi ve gözetimi ile yetkili mercilerle birlikte gerçekleştirilir. </a:t>
            </a:r>
            <a:endParaRPr b="0" lang="en-US" sz="2200" spc="-1" strike="noStrike">
              <a:solidFill>
                <a:srgbClr val="000000"/>
              </a:solidFill>
              <a:latin typeface="Arial"/>
            </a:endParaRPr>
          </a:p>
        </p:txBody>
      </p:sp>
      <p:sp>
        <p:nvSpPr>
          <p:cNvPr id="8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B8C72DD-78C8-4502-88F8-E7D1CDCB5A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76500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ERMAYE YETERLİLİĞİ </a:t>
            </a:r>
            <a:endParaRPr b="0" lang="en-US" sz="2800" spc="-1" strike="noStrike">
              <a:solidFill>
                <a:srgbClr val="000000"/>
              </a:solidFill>
              <a:latin typeface="Arial"/>
            </a:endParaRPr>
          </a:p>
        </p:txBody>
      </p:sp>
      <p:sp>
        <p:nvSpPr>
          <p:cNvPr id="83" name=""/>
          <p:cNvSpPr/>
          <p:nvPr/>
        </p:nvSpPr>
        <p:spPr>
          <a:xfrm>
            <a:off x="468360" y="1268280"/>
            <a:ext cx="8424720" cy="50878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ski Kanunda sermaye yeterliliği 2001 krizi sonrasında bankalarda yaşanan sermaye problemi nedeniyle geçici bir madde ile kanuna eklenmişti.</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eni kanunda ise sermaye yeterliliği ayrı madde olarak ele alınmıştır.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u madde uyarınca;</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Maruz kalınan riskler nedeniyle oluşabilecek zararlara karşı yeterli özkaynak bulundurulması sermaye yeterliliğini ifade ede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 yüzde sekiz oranından az olmamak üzere belirlenecek sermaye yeterliliği oranını hesaplamak, tutturmak, idame ettirmek ve raporlamak zorundadı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ın iç sistemleri, aktif ve mali yapıları dikkate alınarak asgari sermaye yeterliliği oranını artırmaya, bankalar bazında farklılaştırmaya BDDK yetkilidir.</a:t>
            </a:r>
            <a:endParaRPr b="0" lang="en-US" sz="2100" spc="-1" strike="noStrike">
              <a:solidFill>
                <a:srgbClr val="000000"/>
              </a:solidFill>
              <a:latin typeface="Arial"/>
            </a:endParaRPr>
          </a:p>
        </p:txBody>
      </p:sp>
      <p:sp>
        <p:nvSpPr>
          <p:cNvPr id="84"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5</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0809EF6-5023-4CD8-8327-0308ADDDD0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2212920"/>
            <a:ext cx="8064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Merkez Bankasının uygun görüşü alınmak suretiyle BDDK tarafından belirlenecek usul ve esaslara göre asgari likidite düzeyini hesaplamak, tutturmak, idame ettirmek ve raporlamak zorundadır.</a:t>
            </a:r>
            <a:endParaRPr b="0" lang="en-US" sz="2400" spc="-1" strike="noStrike">
              <a:solidFill>
                <a:srgbClr val="000000"/>
              </a:solidFill>
              <a:latin typeface="Arial"/>
            </a:endParaRPr>
          </a:p>
        </p:txBody>
      </p:sp>
      <p:sp>
        <p:nvSpPr>
          <p:cNvPr id="86"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6</a:t>
            </a:r>
            <a:endParaRPr b="0" lang="en-US" sz="1600" spc="-1" strike="noStrike">
              <a:solidFill>
                <a:srgbClr val="000000"/>
              </a:solidFill>
              <a:latin typeface="Arial"/>
            </a:endParaRPr>
          </a:p>
        </p:txBody>
      </p:sp>
      <p:sp>
        <p:nvSpPr>
          <p:cNvPr id="87" name=""/>
          <p:cNvSpPr/>
          <p:nvPr/>
        </p:nvSpPr>
        <p:spPr>
          <a:xfrm>
            <a:off x="250920" y="11872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İKİDİTE YETERLİLİĞİ </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835F7C6-F5A6-4D31-B742-248FB6140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95280" y="2133720"/>
            <a:ext cx="828036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inansal sistemin bütününe sirayet edebilecek ölçüde olumsuz bir gelişmenin ortaya çıkması ve bu durumun BDDK’nın koordinasyonunda, Fon, Hazine Müsteşarlığı ve Merkez Bankasınca müştereken tespiti hâlinde, alınacak olağanüstü tedbirleri belirlemeye Bakanlar Kurulu yetkilidir.</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gili bütün kurum ve kuruluşlar belirlenen bu olağanüstü tedbirleri derhal uygulamakla yetkili ve sorumludur.</a:t>
            </a:r>
            <a:endParaRPr b="0" lang="en-US" sz="2200" spc="-1" strike="noStrike">
              <a:solidFill>
                <a:srgbClr val="000000"/>
              </a:solidFill>
              <a:latin typeface="Arial"/>
            </a:endParaRPr>
          </a:p>
        </p:txBody>
      </p:sp>
      <p:sp>
        <p:nvSpPr>
          <p:cNvPr id="89"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2</a:t>
            </a:r>
            <a:endParaRPr b="0" lang="en-US" sz="1600" spc="-1" strike="noStrike">
              <a:solidFill>
                <a:srgbClr val="000000"/>
              </a:solidFill>
              <a:latin typeface="Arial"/>
            </a:endParaRPr>
          </a:p>
        </p:txBody>
      </p:sp>
      <p:sp>
        <p:nvSpPr>
          <p:cNvPr id="90" name=""/>
          <p:cNvSpPr/>
          <p:nvPr/>
        </p:nvSpPr>
        <p:spPr>
          <a:xfrm>
            <a:off x="250920" y="1316160"/>
            <a:ext cx="867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İSTEMİK RİSKE KARŞI ALINACAK ÖNLEMLER</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E71230A-52B7-4257-AC99-9AB6312E7098}"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9640" y="1157400"/>
            <a:ext cx="7921800" cy="491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389 sayılı eski Bankalar Kanunu’nda risk yönetimi ve iç denetim sistemlerine ilişkin genel hükümler tek bir maddede toplanmıştı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a:t>
            </a:r>
            <a:r>
              <a:rPr b="1" i="1" lang="tr-TR" sz="2000" spc="-1" strike="noStrike">
                <a:solidFill>
                  <a:srgbClr val="000000"/>
                </a:solidFill>
                <a:latin typeface="Arial"/>
              </a:rPr>
              <a:t>MADDE 9 - BANKALARIN TEŞKİLAT VE ORGANLA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 işlemleri nedeniyle karşılaştıkları risklerin izlenmesi ve kontrolünü sağlamak amacıyla faaliyetlerinin kapsamı ve yapısıyla uyumlu, esas ve usulleri Kurumca çıkarılacak yönetmelikle belirlenecek etkin bir iç denetim sistemi ile risk kontrol ve yönetim sistemi kurmakla yükümlüdür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ın, işlemlerinin bankacılık ilkelerine ve mevzuatına uygunluğunu denetlemek üzere yeteri kadar müfettiş çalıştırmaları zorunludur.”</a:t>
            </a:r>
            <a:endParaRPr b="0" lang="en-US" sz="2000" spc="-1" strike="noStrike">
              <a:solidFill>
                <a:srgbClr val="000000"/>
              </a:solidFill>
              <a:latin typeface="Arial"/>
            </a:endParaRPr>
          </a:p>
        </p:txBody>
      </p:sp>
      <p:sp>
        <p:nvSpPr>
          <p:cNvPr id="44" name=""/>
          <p:cNvSpPr/>
          <p:nvPr/>
        </p:nvSpPr>
        <p:spPr>
          <a:xfrm>
            <a:off x="250920" y="379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27D63D7-BAB6-4DC4-9755-36C0639F7C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1812960"/>
            <a:ext cx="842472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cut durumda iç kontrol, risk yönetimi ve iç denetim sistemi ile ilgili hususlar 08.02.2001 tarihli Bankaların İç Denetim ve Risk Yönetimi Sistemleri Hakkında Yönetmelik ile düzenlen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kapsamında üst düzey risk komitesi ve banka risk komitesi zorunlu komiteler olup, denetim komitesinin kurulması zorunlu değildir. Denetim komitesinin kurulması, yeni Bankalar Kanunu’na girmiş ve zorunlu hale gel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yeni Bankalar Kanunu’na göre revize edilip, yeniden yayınlanacaktır.</a:t>
            </a:r>
            <a:endParaRPr b="0" lang="en-US" sz="2200" spc="-1" strike="noStrike">
              <a:solidFill>
                <a:srgbClr val="000000"/>
              </a:solidFill>
              <a:latin typeface="Arial"/>
            </a:endParaRPr>
          </a:p>
        </p:txBody>
      </p:sp>
      <p:sp>
        <p:nvSpPr>
          <p:cNvPr id="46" name=""/>
          <p:cNvSpPr/>
          <p:nvPr/>
        </p:nvSpPr>
        <p:spPr>
          <a:xfrm>
            <a:off x="250920" y="96516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6B3413F-CE25-4645-AA8F-F883C93C60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1280" y="1341360"/>
            <a:ext cx="79930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luslararası finans piyasalarına ilişkin düzenlemeler ve Türkiye’de yaşanan gelişmeler doğrultusunda oluşturulan yeni Bankalar Kanun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denetim sistemler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Denetim komites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ve likidite yeterliliğine ilişkin hükümler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yrı başlıklar halinde detaylı olarak ele almaktadır.</a:t>
            </a:r>
            <a:endParaRPr b="0" lang="en-US" sz="2400" spc="-1" strike="noStrike">
              <a:solidFill>
                <a:srgbClr val="000000"/>
              </a:solidFill>
              <a:latin typeface="Arial"/>
            </a:endParaRPr>
          </a:p>
        </p:txBody>
      </p:sp>
      <p:sp>
        <p:nvSpPr>
          <p:cNvPr id="48" name=""/>
          <p:cNvSpPr/>
          <p:nvPr/>
        </p:nvSpPr>
        <p:spPr>
          <a:xfrm>
            <a:off x="250920" y="620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5411 SAYILI</a:t>
            </a:r>
            <a:r>
              <a:rPr b="0" lang="tr-TR" sz="2800" spc="-1" strike="noStrike">
                <a:solidFill>
                  <a:srgbClr val="000000"/>
                </a:solidFill>
                <a:latin typeface="Arial"/>
              </a:rPr>
              <a:t> </a:t>
            </a:r>
            <a:r>
              <a:rPr b="1" lang="tr-TR" sz="2800" spc="-1" strike="noStrike">
                <a:solidFill>
                  <a:srgbClr val="000000"/>
                </a:solidFill>
                <a:latin typeface="Arial"/>
              </a:rPr>
              <a:t>YEN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4CCB79B-2D6F-4C3E-B677-14B6DA1D19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1817640"/>
            <a:ext cx="806436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iye'de kurulacak bir bankanın;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yeterliliğini de içerecek şekilde kuruluşun mali yapısı ile ilgili projeksiyonlarını,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i de dahil olmak üzere yapısal örgütlenmesini gösteren bir faaliyet programını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braz etmesi şarttır.</a:t>
            </a:r>
            <a:endParaRPr b="0" lang="en-US" sz="2400" spc="-1" strike="noStrike">
              <a:solidFill>
                <a:srgbClr val="000000"/>
              </a:solidFill>
              <a:latin typeface="Arial"/>
            </a:endParaRPr>
          </a:p>
        </p:txBody>
      </p:sp>
      <p:sp>
        <p:nvSpPr>
          <p:cNvPr id="50" name=""/>
          <p:cNvSpPr/>
          <p:nvPr/>
        </p:nvSpPr>
        <p:spPr>
          <a:xfrm>
            <a:off x="250920" y="1171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URULUŞ ŞARTLARI</a:t>
            </a:r>
            <a:endParaRPr b="0" lang="en-US" sz="2800" spc="-1" strike="noStrike">
              <a:solidFill>
                <a:srgbClr val="000000"/>
              </a:solidFill>
              <a:latin typeface="Arial"/>
            </a:endParaRPr>
          </a:p>
        </p:txBody>
      </p:sp>
      <p:sp>
        <p:nvSpPr>
          <p:cNvPr id="5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D3727BF-A3BA-4C99-8056-04E89F46AB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2346480"/>
            <a:ext cx="7993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lerinin ilgili mevzuata uygun olarak tesis edilmesi,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şlerliğinin, uygunluğunun ve yeterliliğinin sağlanması </a:t>
            </a:r>
            <a:endParaRPr b="0" lang="en-US" sz="2400" spc="-1" strike="noStrike">
              <a:solidFill>
                <a:srgbClr val="000000"/>
              </a:solidFill>
              <a:latin typeface="Arial"/>
            </a:endParaRPr>
          </a:p>
        </p:txBody>
      </p:sp>
      <p:sp>
        <p:nvSpPr>
          <p:cNvPr id="53" name=""/>
          <p:cNvSpPr/>
          <p:nvPr/>
        </p:nvSpPr>
        <p:spPr>
          <a:xfrm>
            <a:off x="179280" y="1387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İM KURULUNUN SORUMLULUĞU</a:t>
            </a:r>
            <a:endParaRPr b="0" lang="en-US" sz="2800" spc="-1" strike="noStrike">
              <a:solidFill>
                <a:srgbClr val="000000"/>
              </a:solidFill>
              <a:latin typeface="Arial"/>
            </a:endParaRPr>
          </a:p>
        </p:txBody>
      </p:sp>
      <p:sp>
        <p:nvSpPr>
          <p:cNvPr id="54"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3</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B7C6FC1-C25B-4143-A2B9-174F0AA01C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6" name=""/>
          <p:cNvSpPr/>
          <p:nvPr/>
        </p:nvSpPr>
        <p:spPr>
          <a:xfrm>
            <a:off x="395280" y="1916280"/>
            <a:ext cx="828036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ın yönetim kurullarınca,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Yönetim kurulunun denetim ve gözetim faaliyetlerinin yerine getirilmesine yardımcı olmak üzere,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crai görevi bulunmayan ve nitelikleri BDDK tarafından belirlenecek en az iki üyesinden oluş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denetim komitesi oluşturulmalıdır.  </a:t>
            </a:r>
            <a:endParaRPr b="0" lang="en-US" sz="2400" spc="-1" strike="noStrike">
              <a:solidFill>
                <a:srgbClr val="000000"/>
              </a:solidFill>
              <a:latin typeface="Arial"/>
            </a:endParaRPr>
          </a:p>
        </p:txBody>
      </p:sp>
      <p:sp>
        <p:nvSpPr>
          <p:cNvPr id="57"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85DCEAB-418B-4D05-B0A4-9D0BFA7DDA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9" name=""/>
          <p:cNvSpPr/>
          <p:nvPr/>
        </p:nvSpPr>
        <p:spPr>
          <a:xfrm>
            <a:off x="324000" y="1557360"/>
            <a:ext cx="8280360" cy="447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enetim komitesinin görev ve sorumlulukları,</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nın iç kontrol, risk yönetimi ve iç denetim sistemlerinin etkinliğini ve yeterliliğini gözet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önetim kurulu tarafından seçilen bağımsız denetim kuruluşları için gerekli ön değerlendirmeleri yapmak, faaliyetlerini düzenli olarak izle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denetime tabi kuruluşların iç denetim işlevlerinin konsolide olarak sürdürülmesini ve eşgüdümünü sağlamak,</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u sistemler ile muhasebe ve raporlama sistemlerinin Bankacılık Kanunu ve ilgili düzenlemeler çerçevesinde işleyişini ve üretilen bilgilerin bütünlüğünü gözetmek.</a:t>
            </a:r>
            <a:endParaRPr b="0" lang="en-US" sz="2200" spc="-1" strike="noStrike">
              <a:solidFill>
                <a:srgbClr val="000000"/>
              </a:solidFill>
              <a:latin typeface="Arial"/>
            </a:endParaRPr>
          </a:p>
        </p:txBody>
      </p:sp>
      <p:sp>
        <p:nvSpPr>
          <p:cNvPr id="60"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FB6EA52-934A-4498-B742-2D3AC20668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10270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62" name=""/>
          <p:cNvSpPr/>
          <p:nvPr/>
        </p:nvSpPr>
        <p:spPr>
          <a:xfrm>
            <a:off x="324000" y="1689120"/>
            <a:ext cx="8280360" cy="2963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nın faaliyetlerinin sürekliliği ve güven içinde yürütülmesini olumsuz etkileyebilecek hususları,</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evzuata ve iç düzenlemelere aykırı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Altı aylık dönemleri aşmamak kaydıyla icra ettiği faaliyetlerin sonuçları ile bankada alınması gereken önlemler ve yapılmasına ihtiyaç duyulan uygulamalara ilişkin görüşlerini</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önetim kuruluna bildirmek ile yükümlüdür. </a:t>
            </a:r>
            <a:endParaRPr b="0" lang="en-US" sz="2200" spc="-1" strike="noStrike">
              <a:solidFill>
                <a:srgbClr val="000000"/>
              </a:solidFill>
              <a:latin typeface="Arial"/>
            </a:endParaRPr>
          </a:p>
        </p:txBody>
      </p:sp>
      <p:sp>
        <p:nvSpPr>
          <p:cNvPr id="63"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95CDD60-6465-4EC7-92BD-48D9384E27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1:23:05Z</dcterms:created>
  <dc:creator>ozlemone</dc:creator>
  <dc:description/>
  <dc:language>en-US</dc:language>
  <cp:lastModifiedBy>q</cp:lastModifiedBy>
  <dcterms:modified xsi:type="dcterms:W3CDTF">2005-12-22T09:29:30Z</dcterms:modified>
  <cp:revision>29</cp:revision>
  <dc:subject/>
  <dc:title>Slide 1</dc:title>
</cp:coreProperties>
</file>