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DIGITA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527A-C635-420A-AAC3-5D44DB40C7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ith the sample ending in June 2002, interest rate smothing is higher (0.7) and reaction to expected inflation smaller (1,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\Coletânea de Slides\Área Externa\...\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P time series up to Feb 03 nova estrutura.XLS planilha B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Nota para a Imprensa Setor Externo, 2002 3 2003: Usos e Fo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\Apresentações\Monetária\Chart-Pack\swap  total FX exposure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G:\Roadshow\ARQUIVOS EXCEL SUPORTE\Atividade-Preços\PREÇOS\série ipca livre admin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graph shows, the gap between actual and expected inflation increased after mid-2001, when actual inflation surpassed the upper limit of the tolerance inter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especially for this period, the credibility of the Central Bank seemed to be essential to keep inflation expectations under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eworthy that the difficulties the country faced last year impacted inflation expectations only in the last quarter of 200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of inflation expectations for 2002, surveyed by the Banco Central do Brasil’s Investor Relations Group (Gerin), leveled out at around 4.5% through September, but then rapidly deteriorated afterwards and reached 11% at the end of Dec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65B-AA0F-4259-B06D-00DD8742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1A2-6F42-46DD-883F-2E485760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E7E-2F28-41F3-8B60-DF3B1246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55D-66C0-4135-AE89-D8131F1E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C4E3-AA9A-425C-8A75-E8B6E644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C9EC-22CA-4F5C-8F43-9F634AE9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1B4B-7318-4C8F-8B9F-BB8E2E7B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5B4C-68BE-4B31-8040-FE415622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48D1-69B7-4DC6-8AEA-665FA479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DE52-7190-4A0C-BDA1-47562140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24BA-70A3-400E-AD32-2646F83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2DD-629F-4A06-AB7D-D153EFAD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B260-1209-49AC-9459-578F851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30A1-5E6A-4F89-8DE2-A405CE7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5D1C-04FC-4B7A-A96F-F41D0CAB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A9A2-8714-46AC-9196-E6D5EAB7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3F0F-BC24-40BF-8149-33519E01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111-3759-429A-AD28-E62D7D69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661-9059-4FA9-B121-90EC31BC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091-25E0-4153-9B9A-36F5FF4F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5CF-654C-4D68-9BA1-600AA5D6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3B7-D4B9-4D10-80BA-E667FB1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D70-CA4F-454C-9FBC-3CAA8D1A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3A5-D3CA-4C21-88EA-693A3F0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F2D8-7AFD-4D8E-8DA7-7D92EF20F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CFC1-8089-4AB4-B838-E62DD7E42A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Targeting in Emerging Market Economies: The Case of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an Goldfa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ar Organized by the Banks Association of Tur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143000" y="1523880"/>
            <a:ext cx="6969240" cy="5107680"/>
            <a:chOff x="1143000" y="1523880"/>
            <a:chExt cx="6969240" cy="5107680"/>
          </a:xfrm>
        </p:grpSpPr>
        <p:sp>
          <p:nvSpPr>
            <p:cNvPr id="157" name=""/>
            <p:cNvSpPr/>
            <p:nvPr/>
          </p:nvSpPr>
          <p:spPr>
            <a:xfrm>
              <a:off x="5334120" y="6324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urce: B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1523880"/>
              <a:ext cx="696924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8600" y="5392800"/>
              <a:ext cx="6226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8600" y="499752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8600" y="460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8600" y="421164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8600" y="382896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8600" y="343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264636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225252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8600" y="2252520"/>
              <a:ext cx="1440" cy="314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9560" y="53928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9560" y="49975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9560" y="460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9560" y="4211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9560" y="3828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9560" y="343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9560" y="30402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9560" y="26463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2252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8600" y="304020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686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1608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6392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243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8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96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689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1644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642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43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1722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200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689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5168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2424240"/>
              <a:ext cx="6178320" cy="2670120"/>
            </a:xfrm>
            <a:custGeom>
              <a:avLst/>
              <a:gdLst/>
              <a:ahLst/>
              <a:rect l="l" t="t" r="r" b="b"/>
              <a:pathLst>
                <a:path w="524" h="251">
                  <a:moveTo>
                    <a:pt x="0" y="56"/>
                  </a:moveTo>
                  <a:lnTo>
                    <a:pt x="3" y="61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66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7"/>
                  </a:lnTo>
                  <a:lnTo>
                    <a:pt x="31" y="79"/>
                  </a:lnTo>
                  <a:lnTo>
                    <a:pt x="35" y="88"/>
                  </a:lnTo>
                  <a:lnTo>
                    <a:pt x="38" y="79"/>
                  </a:lnTo>
                  <a:lnTo>
                    <a:pt x="41" y="73"/>
                  </a:lnTo>
                  <a:lnTo>
                    <a:pt x="44" y="66"/>
                  </a:lnTo>
                  <a:lnTo>
                    <a:pt x="47" y="65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5"/>
                  </a:lnTo>
                  <a:lnTo>
                    <a:pt x="60" y="80"/>
                  </a:lnTo>
                  <a:lnTo>
                    <a:pt x="63" y="82"/>
                  </a:lnTo>
                  <a:lnTo>
                    <a:pt x="66" y="78"/>
                  </a:lnTo>
                  <a:lnTo>
                    <a:pt x="70" y="76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79" y="67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9" y="54"/>
                  </a:lnTo>
                  <a:lnTo>
                    <a:pt x="92" y="46"/>
                  </a:lnTo>
                  <a:lnTo>
                    <a:pt x="95" y="42"/>
                  </a:lnTo>
                  <a:lnTo>
                    <a:pt x="98" y="36"/>
                  </a:lnTo>
                  <a:lnTo>
                    <a:pt x="101" y="28"/>
                  </a:lnTo>
                  <a:lnTo>
                    <a:pt x="105" y="16"/>
                  </a:lnTo>
                  <a:lnTo>
                    <a:pt x="108" y="7"/>
                  </a:lnTo>
                  <a:lnTo>
                    <a:pt x="111" y="0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4" y="23"/>
                  </a:lnTo>
                  <a:lnTo>
                    <a:pt x="127" y="26"/>
                  </a:lnTo>
                  <a:lnTo>
                    <a:pt x="130" y="37"/>
                  </a:lnTo>
                  <a:lnTo>
                    <a:pt x="133" y="46"/>
                  </a:lnTo>
                  <a:lnTo>
                    <a:pt x="136" y="50"/>
                  </a:lnTo>
                  <a:lnTo>
                    <a:pt x="140" y="42"/>
                  </a:lnTo>
                  <a:lnTo>
                    <a:pt x="143" y="46"/>
                  </a:lnTo>
                  <a:lnTo>
                    <a:pt x="146" y="52"/>
                  </a:lnTo>
                  <a:lnTo>
                    <a:pt x="149" y="64"/>
                  </a:lnTo>
                  <a:lnTo>
                    <a:pt x="152" y="60"/>
                  </a:lnTo>
                  <a:lnTo>
                    <a:pt x="155" y="62"/>
                  </a:lnTo>
                  <a:lnTo>
                    <a:pt x="159" y="59"/>
                  </a:lnTo>
                  <a:lnTo>
                    <a:pt x="162" y="54"/>
                  </a:lnTo>
                  <a:lnTo>
                    <a:pt x="165" y="54"/>
                  </a:lnTo>
                  <a:lnTo>
                    <a:pt x="168" y="52"/>
                  </a:lnTo>
                  <a:lnTo>
                    <a:pt x="171" y="42"/>
                  </a:lnTo>
                  <a:lnTo>
                    <a:pt x="175" y="36"/>
                  </a:lnTo>
                  <a:lnTo>
                    <a:pt x="178" y="37"/>
                  </a:lnTo>
                  <a:lnTo>
                    <a:pt x="181" y="51"/>
                  </a:lnTo>
                  <a:lnTo>
                    <a:pt x="184" y="63"/>
                  </a:lnTo>
                  <a:lnTo>
                    <a:pt x="187" y="70"/>
                  </a:lnTo>
                  <a:lnTo>
                    <a:pt x="190" y="82"/>
                  </a:lnTo>
                  <a:lnTo>
                    <a:pt x="194" y="93"/>
                  </a:lnTo>
                  <a:lnTo>
                    <a:pt x="197" y="106"/>
                  </a:lnTo>
                  <a:lnTo>
                    <a:pt x="200" y="125"/>
                  </a:lnTo>
                  <a:lnTo>
                    <a:pt x="203" y="136"/>
                  </a:lnTo>
                  <a:lnTo>
                    <a:pt x="206" y="147"/>
                  </a:lnTo>
                  <a:lnTo>
                    <a:pt x="210" y="156"/>
                  </a:lnTo>
                  <a:lnTo>
                    <a:pt x="213" y="163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2" y="160"/>
                  </a:lnTo>
                  <a:lnTo>
                    <a:pt x="225" y="154"/>
                  </a:lnTo>
                  <a:lnTo>
                    <a:pt x="229" y="153"/>
                  </a:lnTo>
                  <a:lnTo>
                    <a:pt x="232" y="145"/>
                  </a:lnTo>
                  <a:lnTo>
                    <a:pt x="235" y="141"/>
                  </a:lnTo>
                  <a:lnTo>
                    <a:pt x="238" y="135"/>
                  </a:lnTo>
                  <a:lnTo>
                    <a:pt x="241" y="132"/>
                  </a:lnTo>
                  <a:lnTo>
                    <a:pt x="245" y="128"/>
                  </a:lnTo>
                  <a:lnTo>
                    <a:pt x="248" y="133"/>
                  </a:lnTo>
                  <a:lnTo>
                    <a:pt x="251" y="135"/>
                  </a:lnTo>
                  <a:lnTo>
                    <a:pt x="254" y="142"/>
                  </a:lnTo>
                  <a:lnTo>
                    <a:pt x="257" y="150"/>
                  </a:lnTo>
                  <a:lnTo>
                    <a:pt x="260" y="155"/>
                  </a:lnTo>
                  <a:lnTo>
                    <a:pt x="264" y="170"/>
                  </a:lnTo>
                  <a:lnTo>
                    <a:pt x="267" y="165"/>
                  </a:lnTo>
                  <a:lnTo>
                    <a:pt x="270" y="171"/>
                  </a:lnTo>
                  <a:lnTo>
                    <a:pt x="273" y="174"/>
                  </a:lnTo>
                  <a:lnTo>
                    <a:pt x="276" y="183"/>
                  </a:lnTo>
                  <a:lnTo>
                    <a:pt x="279" y="185"/>
                  </a:lnTo>
                  <a:lnTo>
                    <a:pt x="283" y="188"/>
                  </a:lnTo>
                  <a:lnTo>
                    <a:pt x="286" y="191"/>
                  </a:lnTo>
                  <a:lnTo>
                    <a:pt x="289" y="193"/>
                  </a:lnTo>
                  <a:lnTo>
                    <a:pt x="292" y="194"/>
                  </a:lnTo>
                  <a:lnTo>
                    <a:pt x="295" y="194"/>
                  </a:lnTo>
                  <a:lnTo>
                    <a:pt x="299" y="199"/>
                  </a:lnTo>
                  <a:lnTo>
                    <a:pt x="302" y="197"/>
                  </a:lnTo>
                  <a:lnTo>
                    <a:pt x="305" y="205"/>
                  </a:lnTo>
                  <a:lnTo>
                    <a:pt x="308" y="203"/>
                  </a:lnTo>
                  <a:lnTo>
                    <a:pt x="311" y="204"/>
                  </a:lnTo>
                  <a:lnTo>
                    <a:pt x="314" y="200"/>
                  </a:lnTo>
                  <a:lnTo>
                    <a:pt x="318" y="202"/>
                  </a:lnTo>
                  <a:lnTo>
                    <a:pt x="321" y="202"/>
                  </a:lnTo>
                  <a:lnTo>
                    <a:pt x="324" y="198"/>
                  </a:lnTo>
                  <a:lnTo>
                    <a:pt x="327" y="198"/>
                  </a:lnTo>
                  <a:lnTo>
                    <a:pt x="330" y="210"/>
                  </a:lnTo>
                  <a:lnTo>
                    <a:pt x="334" y="216"/>
                  </a:lnTo>
                  <a:lnTo>
                    <a:pt x="337" y="214"/>
                  </a:lnTo>
                  <a:lnTo>
                    <a:pt x="340" y="214"/>
                  </a:lnTo>
                  <a:lnTo>
                    <a:pt x="343" y="219"/>
                  </a:lnTo>
                  <a:lnTo>
                    <a:pt x="346" y="221"/>
                  </a:lnTo>
                  <a:lnTo>
                    <a:pt x="349" y="224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9" y="239"/>
                  </a:lnTo>
                  <a:lnTo>
                    <a:pt x="362" y="243"/>
                  </a:lnTo>
                  <a:lnTo>
                    <a:pt x="365" y="251"/>
                  </a:lnTo>
                  <a:lnTo>
                    <a:pt x="369" y="236"/>
                  </a:lnTo>
                  <a:lnTo>
                    <a:pt x="372" y="227"/>
                  </a:lnTo>
                  <a:lnTo>
                    <a:pt x="375" y="231"/>
                  </a:lnTo>
                  <a:lnTo>
                    <a:pt x="378" y="232"/>
                  </a:lnTo>
                  <a:lnTo>
                    <a:pt x="381" y="220"/>
                  </a:lnTo>
                  <a:lnTo>
                    <a:pt x="384" y="219"/>
                  </a:lnTo>
                  <a:lnTo>
                    <a:pt x="388" y="217"/>
                  </a:lnTo>
                  <a:lnTo>
                    <a:pt x="391" y="218"/>
                  </a:lnTo>
                  <a:lnTo>
                    <a:pt x="394" y="216"/>
                  </a:lnTo>
                  <a:lnTo>
                    <a:pt x="397" y="211"/>
                  </a:lnTo>
                  <a:lnTo>
                    <a:pt x="400" y="208"/>
                  </a:lnTo>
                  <a:lnTo>
                    <a:pt x="404" y="203"/>
                  </a:lnTo>
                  <a:lnTo>
                    <a:pt x="407" y="203"/>
                  </a:lnTo>
                  <a:lnTo>
                    <a:pt x="410" y="208"/>
                  </a:lnTo>
                  <a:lnTo>
                    <a:pt x="413" y="208"/>
                  </a:lnTo>
                  <a:lnTo>
                    <a:pt x="416" y="206"/>
                  </a:lnTo>
                  <a:lnTo>
                    <a:pt x="419" y="216"/>
                  </a:lnTo>
                  <a:lnTo>
                    <a:pt x="423" y="221"/>
                  </a:lnTo>
                  <a:lnTo>
                    <a:pt x="426" y="228"/>
                  </a:lnTo>
                  <a:lnTo>
                    <a:pt x="429" y="225"/>
                  </a:lnTo>
                  <a:lnTo>
                    <a:pt x="432" y="231"/>
                  </a:lnTo>
                  <a:lnTo>
                    <a:pt x="435" y="232"/>
                  </a:lnTo>
                  <a:lnTo>
                    <a:pt x="439" y="240"/>
                  </a:lnTo>
                  <a:lnTo>
                    <a:pt x="442" y="240"/>
                  </a:lnTo>
                  <a:lnTo>
                    <a:pt x="445" y="239"/>
                  </a:lnTo>
                  <a:lnTo>
                    <a:pt x="448" y="235"/>
                  </a:lnTo>
                  <a:lnTo>
                    <a:pt x="451" y="231"/>
                  </a:lnTo>
                  <a:lnTo>
                    <a:pt x="454" y="225"/>
                  </a:lnTo>
                  <a:lnTo>
                    <a:pt x="458" y="219"/>
                  </a:lnTo>
                  <a:lnTo>
                    <a:pt x="461" y="216"/>
                  </a:lnTo>
                  <a:lnTo>
                    <a:pt x="464" y="206"/>
                  </a:lnTo>
                  <a:lnTo>
                    <a:pt x="467" y="204"/>
                  </a:lnTo>
                  <a:lnTo>
                    <a:pt x="470" y="204"/>
                  </a:lnTo>
                  <a:lnTo>
                    <a:pt x="474" y="199"/>
                  </a:lnTo>
                  <a:lnTo>
                    <a:pt x="477" y="189"/>
                  </a:lnTo>
                  <a:lnTo>
                    <a:pt x="480" y="179"/>
                  </a:lnTo>
                  <a:lnTo>
                    <a:pt x="483" y="163"/>
                  </a:lnTo>
                  <a:lnTo>
                    <a:pt x="486" y="144"/>
                  </a:lnTo>
                  <a:lnTo>
                    <a:pt x="489" y="134"/>
                  </a:lnTo>
                  <a:lnTo>
                    <a:pt x="493" y="121"/>
                  </a:lnTo>
                  <a:lnTo>
                    <a:pt x="496" y="109"/>
                  </a:lnTo>
                  <a:lnTo>
                    <a:pt x="499" y="102"/>
                  </a:lnTo>
                  <a:lnTo>
                    <a:pt x="502" y="92"/>
                  </a:lnTo>
                  <a:lnTo>
                    <a:pt x="505" y="84"/>
                  </a:lnTo>
                  <a:lnTo>
                    <a:pt x="509" y="62"/>
                  </a:lnTo>
                  <a:lnTo>
                    <a:pt x="512" y="48"/>
                  </a:lnTo>
                  <a:lnTo>
                    <a:pt x="515" y="37"/>
                  </a:lnTo>
                  <a:lnTo>
                    <a:pt x="518" y="30"/>
                  </a:lnTo>
                  <a:lnTo>
                    <a:pt x="521" y="30"/>
                  </a:lnTo>
                  <a:lnTo>
                    <a:pt x="524" y="29"/>
                  </a:lnTo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11280" y="156060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urrent Account Balance as % of G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400" y="1816200"/>
              <a:ext cx="152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2 months 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60280" y="52959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490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0280" y="450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0280" y="411480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0280" y="373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0280" y="333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0760" y="2944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0760" y="25509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0760" y="2157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3806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8345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824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272988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1777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6270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856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5349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98276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4288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87808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3273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60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2338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B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162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Inflation targeting in Emerging Market Economi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of inflation targeting (IT) regim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eneral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emerging market economies (EMEs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bi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seems to be a more challenging task in EMEs than in developed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Brazilian experience can be seen as a stress tes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lation before and after the adoption of inflation targ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320" y="1874880"/>
            <a:ext cx="8762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versus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26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volatil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800360"/>
            <a:ext cx="9068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de-off - volat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52280" y="1889280"/>
            <a:ext cx="9448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emerging markets are more volati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rging markets adopt inflation targeting in the process of disinf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: emerging economies are in the process of constructing credibility and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: Sudden Sto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ce Issues: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T has the additional disinflation role in 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rkey and Braz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09400" y="2136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212724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urk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6600" y="212724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2573280"/>
            <a:ext cx="304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Public Debt/G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8320" y="2583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9880" y="2583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80" y="2992320"/>
            <a:ext cx="2158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lation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000" y="30020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5320" y="3002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920" y="3411360"/>
            <a:ext cx="535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llar Linked Debt (% of Domestic Deb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100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988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3832200"/>
            <a:ext cx="288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rent Account/G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120" y="384192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5320" y="38419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440" y="4251240"/>
            <a:ext cx="369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ary Surplus (% of GD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64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532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080" y="4670280"/>
            <a:ext cx="225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ating (Moody'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732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1800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" y="5089680"/>
            <a:ext cx="145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BI (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396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5464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" y="5562720"/>
            <a:ext cx="396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al ‘ex-ante’ Interest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8320" y="551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34280" y="551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4680" y="2460600"/>
            <a:ext cx="278424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cred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agility of institutions in 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n effort to enhance the credibility of the monetary authority as committed to price s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agents assign some positive probability that the central bank will renege on its commitment to the tar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uence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volatility and infla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trust building (Svensson, 20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beginning: higher output variability to gain cred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later on: improved trade-off with lower output and inflation variability (CB can be a more flexible inflation targe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Inflation targeting in Brazi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IT regime: successful, highly important for macroeconomic stabi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999 and 2000: target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1 and 2002: targets not met - several shocks hitting the 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3 adjusted target met; 2004 and 2005, expectations inside the target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480" y="3200400"/>
            <a:ext cx="7745760" cy="3571560"/>
            <a:chOff x="456480" y="3200400"/>
            <a:chExt cx="7745760" cy="3571560"/>
          </a:xfrm>
        </p:grpSpPr>
        <p:sp>
          <p:nvSpPr>
            <p:cNvPr id="242" name=""/>
            <p:cNvSpPr/>
            <p:nvPr/>
          </p:nvSpPr>
          <p:spPr>
            <a:xfrm>
              <a:off x="767520" y="6008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7520" y="555300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520" y="5096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7520" y="4640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520" y="418356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520" y="3728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520" y="327060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7520" y="3270600"/>
              <a:ext cx="1800" cy="319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840" y="64656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840" y="6008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840" y="55530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840" y="5096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40" y="4640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840" y="418356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840" y="3728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840" y="327060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6465600"/>
              <a:ext cx="743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752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302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89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5316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1516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7788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384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20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00" y="63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593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000" y="548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000" y="502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000" y="45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80" y="411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480" y="3657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480" y="3200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7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03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1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261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41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47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085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724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7240" y="4168080"/>
              <a:ext cx="69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" y="4633560"/>
              <a:ext cx="69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880" y="4417920"/>
              <a:ext cx="69840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2360" y="421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,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920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6880" y="5533560"/>
              <a:ext cx="72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69200" y="46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74760" y="520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9200" y="5142960"/>
              <a:ext cx="71352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1040" y="4690080"/>
              <a:ext cx="718560" cy="144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1040" y="553356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1040" y="601452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1040" y="509400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5600" y="4701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4400" y="5654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4400" y="610704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64400" y="5186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0" y="3598920"/>
              <a:ext cx="7070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600" y="3610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,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0400" y="55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5000" y="5094000"/>
              <a:ext cx="712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75000" y="6014520"/>
              <a:ext cx="71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4492080"/>
              <a:ext cx="854640" cy="27000"/>
            </a:xfrm>
            <a:custGeom>
              <a:avLst/>
              <a:gdLst/>
              <a:ahLst/>
              <a:rect l="l" t="t" r="r" b="b"/>
              <a:pathLst>
                <a:path w="996" h="42">
                  <a:moveTo>
                    <a:pt x="0" y="0"/>
                  </a:moveTo>
                  <a:lnTo>
                    <a:pt x="165" y="0"/>
                  </a:lnTo>
                  <a:lnTo>
                    <a:pt x="165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289" y="0"/>
                  </a:moveTo>
                  <a:lnTo>
                    <a:pt x="454" y="0"/>
                  </a:lnTo>
                  <a:lnTo>
                    <a:pt x="454" y="42"/>
                  </a:lnTo>
                  <a:lnTo>
                    <a:pt x="289" y="42"/>
                  </a:lnTo>
                  <a:lnTo>
                    <a:pt x="289" y="0"/>
                  </a:lnTo>
                  <a:close/>
                  <a:moveTo>
                    <a:pt x="578" y="0"/>
                  </a:moveTo>
                  <a:lnTo>
                    <a:pt x="743" y="0"/>
                  </a:lnTo>
                  <a:lnTo>
                    <a:pt x="743" y="42"/>
                  </a:lnTo>
                  <a:lnTo>
                    <a:pt x="578" y="42"/>
                  </a:lnTo>
                  <a:lnTo>
                    <a:pt x="578" y="0"/>
                  </a:lnTo>
                  <a:close/>
                  <a:moveTo>
                    <a:pt x="867" y="0"/>
                  </a:moveTo>
                  <a:lnTo>
                    <a:pt x="996" y="0"/>
                  </a:lnTo>
                  <a:lnTo>
                    <a:pt x="996" y="42"/>
                  </a:lnTo>
                  <a:lnTo>
                    <a:pt x="867" y="42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75000" y="4339440"/>
              <a:ext cx="7120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9240" y="4179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3560" y="5186520"/>
              <a:ext cx="718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7240" y="565452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3560" y="4633560"/>
              <a:ext cx="718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7240" y="4833000"/>
              <a:ext cx="7048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4760" y="4667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63720" y="542700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63720" y="6014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63720" y="4871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3720" y="5186520"/>
              <a:ext cx="7718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880" y="5023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7240" y="4633560"/>
              <a:ext cx="70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 of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redibility in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transparency to the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consistent with IT framework (Minella, Freitas, Goldfajn, and Muinhos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s and inertia affected by introduction of the reg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on function of Central ban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0080" y="1981080"/>
            <a:ext cx="841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 estima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B’s inf. Exp.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7 – 5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agents’ inf. exp.: 2.0 – 2.3 (more prec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specifications: greater than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specifications: greater than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gree of interest-rate smoot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.7 – 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 and iner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pposed to affect formation of expectations -&gt; lower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zil: estimation of a simple aggregate supply cu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reduction in the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estimates: from 0.56 to 0.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flation Targeting Quest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balance in practice flexibility versu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react to shock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does output gap affect the desired inflation path of the monetary authorit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design appropriate size of bands, adjustment horizons, communication, transparency and IMF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V) Challenges: External Shoc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56560" y="45720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zil – 2002 Confidence Crisis trigge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identi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1720" y="1371600"/>
            <a:ext cx="8429400" cy="5191200"/>
            <a:chOff x="531720" y="1371600"/>
            <a:chExt cx="8429400" cy="5191200"/>
          </a:xfrm>
        </p:grpSpPr>
        <p:sp>
          <p:nvSpPr>
            <p:cNvPr id="330" name=""/>
            <p:cNvSpPr/>
            <p:nvPr/>
          </p:nvSpPr>
          <p:spPr>
            <a:xfrm>
              <a:off x="1255320" y="1371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3520" y="1371600"/>
              <a:ext cx="8399520" cy="4959360"/>
              <a:chOff x="533520" y="1371600"/>
              <a:chExt cx="8399520" cy="49593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3520" y="1371600"/>
                <a:ext cx="8399520" cy="495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00520" y="492912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00520" y="417168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0520" y="341784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00520" y="266040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520" y="190476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0520" y="1904760"/>
                <a:ext cx="144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59120" y="56847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59120" y="49291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9120" y="417168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9120" y="34178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59120" y="26604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59120" y="19047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00520" y="568476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00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35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170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205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40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2751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308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343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378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13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447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481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516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551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589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624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59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94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27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62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797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32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67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900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935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970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005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040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0750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108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143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178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213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248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281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16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351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86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421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456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94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2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2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97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632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667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700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735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770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805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40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875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08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43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978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013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048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081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16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51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86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221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256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89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24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359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397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432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467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500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535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0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605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40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675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708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743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778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813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848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881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916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951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86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021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056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089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124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4159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194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229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262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300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335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370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405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440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475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08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43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578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613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8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681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716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751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786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821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856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889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924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959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994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029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062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097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32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167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202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240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5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308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5343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378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413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448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81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516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51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586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621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656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89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724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59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94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829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862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97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32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967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002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03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070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05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43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78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213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248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282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316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351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386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421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456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90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525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9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4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9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6628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697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732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767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802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37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870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05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940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75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10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048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081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16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151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70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221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256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290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324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359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394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29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63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498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3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66680" y="2133720"/>
              <a:ext cx="7304040" cy="3558600"/>
              <a:chOff x="1066680" y="2133720"/>
              <a:chExt cx="7304040" cy="355860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534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690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039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7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719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7072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7421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77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8102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8451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880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18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953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9880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0229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80564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80913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81262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161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196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2292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2641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9908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3340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689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06668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01600" y="446076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136520" y="44827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71440" y="44830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06360" y="45133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4533840"/>
                <a:ext cx="331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274400" y="4511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09320" y="451152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44240" y="4513320"/>
                <a:ext cx="349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9160" y="4560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14080" y="4565520"/>
                <a:ext cx="33480" cy="2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447560" y="458640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82480" y="4586400"/>
                <a:ext cx="34920" cy="33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17400" y="4610160"/>
                <a:ext cx="3816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5560" y="461016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159048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2540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660320" y="4597200"/>
                <a:ext cx="3312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93440" y="45673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28360" y="4565160"/>
                <a:ext cx="3528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3640" y="4565520"/>
                <a:ext cx="34920" cy="32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1798560" y="4581000"/>
                <a:ext cx="34920" cy="1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3480" y="4581360"/>
                <a:ext cx="331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66600" y="4587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901520" y="458748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936440" y="457344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71360" y="4573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006280" y="4560480"/>
                <a:ext cx="34920" cy="12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041200" y="4551480"/>
                <a:ext cx="334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074680" y="4541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454176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4520" y="4541760"/>
                <a:ext cx="3492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79440" y="45529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214360" y="4533480"/>
                <a:ext cx="33120" cy="49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7480" y="453384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2400" y="45529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17320" y="4546440"/>
                <a:ext cx="3528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52600" y="4546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387520" y="453204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22440" y="4512960"/>
                <a:ext cx="3780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460240" y="4470120"/>
                <a:ext cx="3348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9372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528640" y="445428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563560" y="441936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598480" y="43894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633400" y="4347720"/>
                <a:ext cx="3348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4348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701800" y="431280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36720" y="431172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71640" y="431172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06560" y="4263840"/>
                <a:ext cx="34920" cy="61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41480" y="4228560"/>
                <a:ext cx="331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7460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0952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44440" y="422892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79360" y="4273560"/>
                <a:ext cx="3492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014280" y="4296960"/>
                <a:ext cx="3348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047760" y="427788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082680" y="427176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117600" y="4235400"/>
                <a:ext cx="34920" cy="3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152520" y="4198680"/>
                <a:ext cx="3492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187440" y="4194000"/>
                <a:ext cx="34920" cy="5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22360" y="4194000"/>
                <a:ext cx="3348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55840" y="420516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90760" y="421956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325680" y="4181040"/>
                <a:ext cx="3816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363840" y="4076280"/>
                <a:ext cx="34920" cy="104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398760" y="39988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33680" y="3892320"/>
                <a:ext cx="33120" cy="10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66800" y="3892680"/>
                <a:ext cx="34920" cy="17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1720" y="3909960"/>
                <a:ext cx="34920" cy="50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536640" y="3782880"/>
                <a:ext cx="34920" cy="177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71560" y="370944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06480" y="3709800"/>
                <a:ext cx="34920" cy="78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641400" y="3676320"/>
                <a:ext cx="33480" cy="111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4880" y="367668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709800" y="37047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744720" y="351936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779640" y="342216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814560" y="3141720"/>
                <a:ext cx="33120" cy="280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47680" y="3141720"/>
                <a:ext cx="34920" cy="33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82600" y="341784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917520" y="3270240"/>
                <a:ext cx="35280" cy="147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52800" y="3270240"/>
                <a:ext cx="34920" cy="142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87720" y="3413160"/>
                <a:ext cx="34920" cy="98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22640" y="3511440"/>
                <a:ext cx="331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055760" y="3290760"/>
                <a:ext cx="34920" cy="247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090680" y="324180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5600" y="324180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60520" y="3255840"/>
                <a:ext cx="34920" cy="28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95440" y="3284640"/>
                <a:ext cx="33480" cy="69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920" y="3354480"/>
                <a:ext cx="3816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67080" y="3382920"/>
                <a:ext cx="34920" cy="79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02000" y="3462480"/>
                <a:ext cx="3492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6920" y="342540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71840" y="34257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06760" y="345132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1680" y="3457440"/>
                <a:ext cx="33120" cy="87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4474800" y="3489480"/>
                <a:ext cx="34920" cy="55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509720" y="3359160"/>
                <a:ext cx="34920" cy="130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544640" y="3249720"/>
                <a:ext cx="34920" cy="109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579560" y="3197160"/>
                <a:ext cx="34920" cy="52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614480" y="3041640"/>
                <a:ext cx="33480" cy="155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647960" y="2937960"/>
                <a:ext cx="3492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82880" y="2701440"/>
                <a:ext cx="34920" cy="236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717800" y="2498760"/>
                <a:ext cx="34920" cy="203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52720" y="2498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7640" y="2647800"/>
                <a:ext cx="34920" cy="27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22560" y="2924280"/>
                <a:ext cx="3348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856040" y="28792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890960" y="2840040"/>
                <a:ext cx="34920" cy="39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2840040"/>
                <a:ext cx="34920" cy="291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60800" y="313200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995720" y="2865600"/>
                <a:ext cx="33120" cy="352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028840" y="2607840"/>
                <a:ext cx="34920" cy="257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063760" y="2541240"/>
                <a:ext cx="349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98680" y="2541600"/>
                <a:ext cx="34920" cy="174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3600" y="270828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68520" y="2708280"/>
                <a:ext cx="3816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6680" y="285444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241600" y="2943360"/>
                <a:ext cx="3348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75080" y="2943360"/>
                <a:ext cx="34920" cy="12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10000" y="3070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4920" y="3070080"/>
                <a:ext cx="34920" cy="38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9840" y="310824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14760" y="3149640"/>
                <a:ext cx="331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4788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280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17720" y="3216240"/>
                <a:ext cx="35280" cy="108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553000" y="3147840"/>
                <a:ext cx="34920" cy="176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87920" y="3147840"/>
                <a:ext cx="34920" cy="57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622840" y="3123720"/>
                <a:ext cx="331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55960" y="3124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0880" y="31240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725800" y="3178080"/>
                <a:ext cx="3492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0720" y="3178080"/>
                <a:ext cx="34920" cy="17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5640" y="3119400"/>
                <a:ext cx="33480" cy="76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829120" y="31129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864040" y="3040200"/>
                <a:ext cx="34920" cy="72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898960" y="285444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933880" y="2755800"/>
                <a:ext cx="34920" cy="98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968800" y="2522520"/>
                <a:ext cx="34920" cy="233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03720" y="2522520"/>
                <a:ext cx="33120" cy="165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36840" y="2395440"/>
                <a:ext cx="34920" cy="29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71760" y="2395440"/>
                <a:ext cx="3816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09920" y="24033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144840" y="239076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9760" y="2133720"/>
                <a:ext cx="34920" cy="257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14680" y="2133720"/>
                <a:ext cx="3348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160" y="2178000"/>
                <a:ext cx="34920" cy="225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83080" y="240336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8000" y="2444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52920" y="2593800"/>
                <a:ext cx="34920" cy="93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87840" y="2515680"/>
                <a:ext cx="34920" cy="171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22760" y="246204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56240" y="2168280"/>
                <a:ext cx="34920" cy="293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1160" y="216864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6080" y="222876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561000" y="219204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95920" y="2192400"/>
                <a:ext cx="33120" cy="41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29040" y="2233440"/>
                <a:ext cx="34920" cy="206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3960" y="2440080"/>
                <a:ext cx="349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98880" y="257508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33800" y="262404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68720" y="265896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03640" y="276048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37120" y="2814480"/>
                <a:ext cx="34920" cy="84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72040" y="2779200"/>
                <a:ext cx="34920" cy="119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906960" y="270324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1880" y="2703600"/>
                <a:ext cx="34920" cy="206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6800" y="2909880"/>
                <a:ext cx="3816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4960" y="2943360"/>
                <a:ext cx="331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048080" y="2965320"/>
                <a:ext cx="34920" cy="74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083000" y="292212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117920" y="2913120"/>
                <a:ext cx="352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093680" y="1981440"/>
              <a:ext cx="7350120" cy="3781440"/>
              <a:chOff x="1093680" y="1981440"/>
              <a:chExt cx="7350120" cy="3781440"/>
            </a:xfrm>
          </p:grpSpPr>
          <p:sp>
            <p:nvSpPr>
              <p:cNvPr id="734" name=""/>
              <p:cNvSpPr/>
              <p:nvPr/>
            </p:nvSpPr>
            <p:spPr>
              <a:xfrm>
                <a:off x="7186680" y="301032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21600" y="302940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256520" y="2913120"/>
                <a:ext cx="331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89640" y="2913480"/>
                <a:ext cx="349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4560" y="2916720"/>
                <a:ext cx="34920" cy="156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59480" y="307368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4400" y="317052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29320" y="3283200"/>
                <a:ext cx="3348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462800" y="33055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97720" y="330552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32640" y="3230640"/>
                <a:ext cx="34920" cy="88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560" y="319572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02480" y="319608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37400" y="3256200"/>
                <a:ext cx="331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0520" y="3302280"/>
                <a:ext cx="34920" cy="149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705440" y="3348000"/>
                <a:ext cx="3528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740720" y="3270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775640" y="3099240"/>
                <a:ext cx="34920" cy="171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10560" y="3099240"/>
                <a:ext cx="331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43680" y="3175200"/>
                <a:ext cx="34920" cy="20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878600" y="3170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3520" y="3170520"/>
                <a:ext cx="3816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51680" y="3273840"/>
                <a:ext cx="34920" cy="31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86600" y="3305520"/>
                <a:ext cx="349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021520" y="3332520"/>
                <a:ext cx="3492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56440" y="3422520"/>
                <a:ext cx="33480" cy="55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9920" y="34228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24840" y="350388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59760" y="3557880"/>
                <a:ext cx="349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8194680" y="358812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229600" y="3540600"/>
                <a:ext cx="331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62720" y="3540600"/>
                <a:ext cx="34920" cy="2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8297640" y="3513240"/>
                <a:ext cx="34920" cy="29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2560" y="3513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67480" y="359136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02400" y="1981440"/>
                <a:ext cx="180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61360" y="576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61360" y="522180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61360" y="4680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360" y="41407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1360" y="36025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61360" y="306252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61360" y="252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61360" y="1981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93680" y="5318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4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4200" y="525024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28600" y="522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149120" y="515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7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55600" y="5129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8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90520" y="51152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6"/>
                    </a:moveTo>
                    <a:lnTo>
                      <a:pt x="20" y="0"/>
                    </a:lnTo>
                    <a:lnTo>
                      <a:pt x="22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54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60360" y="5075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95280" y="50612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19" y="0"/>
                    </a:lnTo>
                    <a:lnTo>
                      <a:pt x="21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28760" y="5040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63680" y="5026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98600" y="5005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39640" y="49960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50800" y="5065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5200" y="5137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74560" y="5193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85720" y="5262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98320" y="53344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09480" y="54072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09480" y="5383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1520" y="53344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44400" y="5324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79320" y="5275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82560" y="5266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17480" y="5221800"/>
                <a:ext cx="15840" cy="1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17480" y="5208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7720" y="51598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50960" y="51501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2640" y="51008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85880" y="5091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20800" y="5046840"/>
                <a:ext cx="17280" cy="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20800" y="5045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55720" y="50835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9" y="13"/>
                    </a:lnTo>
                    <a:lnTo>
                      <a:pt x="19" y="14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2720" y="5113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76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52560" y="5080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87480" y="5059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22400" y="50454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19" y="0"/>
                    </a:lnTo>
                    <a:lnTo>
                      <a:pt x="21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6056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3680" y="5021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28600" y="5011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63520" y="5002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98440" y="49932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3360" y="4983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1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71520" y="49676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78000" y="4897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9160" y="48265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95280" y="4756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05000" y="469944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5000" y="468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12920" y="4616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22280" y="4546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30200" y="447696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39920" y="4422960"/>
                <a:ext cx="17280" cy="7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39920" y="4410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7840" y="434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57200" y="4269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65120" y="41994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41421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274840" y="41310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0960" y="4061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92120" y="39898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98600" y="3920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09760" y="3866040"/>
                <a:ext cx="17280" cy="9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09760" y="38628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19120" y="3934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33520" y="4003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4680" y="4057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4040" y="4129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8440" y="4199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9600" y="4253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88960" y="4323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03360" y="4394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12720" y="44485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23880" y="45183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38280" y="45896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47640" y="4634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455920" y="456300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62040" y="4492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68520" y="4422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476440" y="4351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2920" y="42818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85800" y="42580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93720" y="4189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00200" y="4119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03440" y="4046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9560" y="3975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17840" y="3905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38912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52760" y="39168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85880" y="394380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14" y="13"/>
                    </a:lnTo>
                    <a:lnTo>
                      <a:pt x="27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24040" y="3965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55720" y="40341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58960" y="4029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0640" y="409752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93880" y="40928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25560" y="41612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28800" y="415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0480" y="422460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3720" y="421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93960" y="428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8640" y="428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28880" y="4351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2" y="8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2120" y="4350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63800" y="441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6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67040" y="4413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98720" y="44820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5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01960" y="446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04840" y="43959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120" y="432792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16000" y="4254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19240" y="4185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25720" y="411660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28960" y="404388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36880" y="39754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6880" y="396432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0120" y="389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46240" y="382320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0920" y="37501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4160" y="3680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60640" y="36118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63880" y="3538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66760" y="3468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66760" y="3464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1" y="13"/>
                    </a:lnTo>
                    <a:lnTo>
                      <a:pt x="24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01680" y="34898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660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1880" y="3540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6800" y="3567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4600" y="3586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lnTo>
                      <a:pt x="8" y="0"/>
                    </a:lnTo>
                    <a:lnTo>
                      <a:pt x="19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79520" y="354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0976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7920" y="348156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4"/>
                    </a:moveTo>
                    <a:lnTo>
                      <a:pt x="9" y="0"/>
                    </a:lnTo>
                    <a:lnTo>
                      <a:pt x="20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82840" y="34549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527640"/>
                <a:ext cx="1728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94000" y="35960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0480" y="366732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303360" y="37357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09840" y="380880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4520" y="38772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17760" y="3886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24240" y="39596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27120" y="40276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410076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38280" y="4169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44760" y="4242240"/>
                <a:ext cx="1728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8000" y="4310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52680" y="4313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90840" y="42595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3960" y="4210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58880" y="41594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3800" y="4110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4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29080" y="406116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000" y="40183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90640" y="408672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5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98920" y="4086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5920" y="4154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1055520" y="2265480"/>
              <a:ext cx="5254560" cy="3166920"/>
              <a:chOff x="1055520" y="2265480"/>
              <a:chExt cx="5254560" cy="3166920"/>
            </a:xfrm>
          </p:grpSpPr>
          <p:sp>
            <p:nvSpPr>
              <p:cNvPr id="935" name=""/>
              <p:cNvSpPr/>
              <p:nvPr/>
            </p:nvSpPr>
            <p:spPr>
              <a:xfrm>
                <a:off x="3632040" y="4154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60840" y="4222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66960" y="42228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5760" y="42908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01880" y="4281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25640" y="4213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36800" y="4199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60560" y="4130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71720" y="4116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95480" y="40482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5200" y="40338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3040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40120" y="3960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5" y="15"/>
                    </a:lnTo>
                    <a:lnTo>
                      <a:pt x="16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60640" y="4032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75040" y="406728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95560" y="4137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5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6720" y="41655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41640" y="4137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0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75120" y="410688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0040" y="40784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44960" y="40514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9880" y="401940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4800" y="399240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47920" y="39639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4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86080" y="3930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08400" y="38606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1000" y="3821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41520" y="37497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55920" y="37098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90840" y="36576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080" y="36496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25760" y="35956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29000" y="358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60680" y="3533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4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63920" y="3524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94160" y="34732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98840" y="34639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9080" y="34113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32320" y="3411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43480" y="3481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7520" y="35528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67240" y="36021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8400" y="3672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91000" y="3743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5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02160" y="37846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16200" y="371484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3840" y="3649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3639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51120" y="356868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66960" y="3505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572000" y="3495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84600" y="3425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0188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05120" y="3351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16280" y="3282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22760" y="3209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33920" y="31384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0040" y="30924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51200" y="3024000"/>
                <a:ext cx="1764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57680" y="29512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68840" y="28814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74960" y="28432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03760" y="2911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4" y="10"/>
                    </a:lnTo>
                    <a:lnTo>
                      <a:pt x="15" y="1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09880" y="2913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736880" y="29811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5" y="9"/>
                    </a:lnTo>
                    <a:lnTo>
                      <a:pt x="16" y="11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44800" y="2981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71800" y="30495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5" y="10"/>
                    </a:lnTo>
                    <a:lnTo>
                      <a:pt x="15" y="12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779720" y="3052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8" y="13"/>
                    </a:lnTo>
                    <a:lnTo>
                      <a:pt x="19" y="1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813200" y="3092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48120" y="3132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5" y="15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868640" y="3200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883040" y="32259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06800" y="3294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917960" y="3308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924440" y="3238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932360" y="3166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938480" y="309888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44960" y="302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52880" y="2970360"/>
                <a:ext cx="17640" cy="10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2880" y="29574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59360" y="2887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65480" y="28177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3400" y="2749680"/>
                <a:ext cx="1764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979880" y="267804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86360" y="26193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86360" y="260820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94280" y="25369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0400" y="246996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08320" y="2398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14800" y="2328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21280" y="2266920"/>
                <a:ext cx="17280" cy="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21280" y="2265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46480" y="23335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4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6200" y="2347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4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9960" y="241452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1120" y="24289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14880" y="2496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26040" y="25020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60960" y="2452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4080" y="240660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3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32240" y="23544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67160" y="230508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02080" y="22654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08560" y="2335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19720" y="24066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25840" y="24764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7000" y="2549520"/>
                <a:ext cx="1764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37000" y="25369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43480" y="2608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4640" y="267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0760" y="27496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28224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71920" y="28083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78400" y="28782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89560" y="294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95680" y="3019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05400" y="309240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0540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3" y="15"/>
                    </a:lnTo>
                    <a:lnTo>
                      <a:pt x="14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3320" y="3151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22680" y="3220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30600" y="3292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40320" y="336384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40320" y="3352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48240" y="3422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57600" y="3494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65520" y="35640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5240" y="3637080"/>
                <a:ext cx="17280" cy="2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72000" y="362268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06920" y="36561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41840" y="3686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0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75320" y="371952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13120" y="37497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48040" y="3789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3320" y="3827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8240" y="3865680"/>
                <a:ext cx="298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0"/>
                    </a:moveTo>
                    <a:lnTo>
                      <a:pt x="9" y="13"/>
                    </a:lnTo>
                    <a:lnTo>
                      <a:pt x="19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8120" y="3906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3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3040" y="3902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17960" y="38973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52880" y="38941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7800" y="38894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22720" y="38847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56200" y="38750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91120" y="3862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26040" y="3852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064200" y="3836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7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95880" y="37800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99120" y="3771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29360" y="37130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8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34040" y="37180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7"/>
                    </a:moveTo>
                    <a:lnTo>
                      <a:pt x="21" y="11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67160" y="37260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22" y="12"/>
                    </a:lnTo>
                    <a:lnTo>
                      <a:pt x="24" y="5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2080" y="373536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8"/>
                    </a:moveTo>
                    <a:lnTo>
                      <a:pt x="22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37000" y="3747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272280" y="37576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055520" y="53053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090440" y="521172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25360" y="51181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60280" y="509904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937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86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63600" y="50450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985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010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6656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0148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36400" y="517212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471680" y="53719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06600" y="5313240"/>
                <a:ext cx="8856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44400" y="52545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9320" y="519732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12800" y="513864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647720" y="5079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82640" y="502452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7560" y="5060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52480" y="510048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859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208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55800" y="50464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907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25640" y="501156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60560" y="50022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9368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8600" y="49831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6352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98440" y="49640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33360" y="4956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66840" y="4675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760" y="43988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36680" y="411948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71600" y="3841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06520" y="403704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341440" y="42321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374920" y="442764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09840" y="4621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47640" y="424656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82920" y="387036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7840" y="3895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2760" y="3921120"/>
                <a:ext cx="8856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85880" y="3944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20800" y="400860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55720" y="407196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2690640" y="41356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25560" y="41990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60840" y="426240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93960" y="43275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28880" y="43912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3800" y="4454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720" y="39499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3640" y="34419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67120" y="34689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02040" y="34941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6960" y="35197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1880" y="35449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06800" y="35719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41720" y="3537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74840" y="35006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9760" y="34689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4680" y="34322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79600" y="38656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14880" y="430056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42483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6160" y="4199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1080" y="4146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4097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90920" y="40482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25840" y="39974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60760" y="40658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4240" y="4132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9160" y="4200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64080" y="42688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99000" y="41878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33920" y="41054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67040" y="402300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1960" y="39402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6880" y="40467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71800" y="41515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06720" y="4124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41640" y="40928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75120" y="40658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0040" y="4037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44960" y="40068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79880" y="3978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39499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3919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200" y="3808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8120" y="36990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5920" y="3637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90840" y="3573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25760" y="35132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61040" y="3451320"/>
              <a:ext cx="8856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94160" y="33912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29080" y="35816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64000" y="3773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8920" y="3627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33840" y="34848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67320" y="3338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02240" y="30798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7160" y="28227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72080" y="28926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07000" y="29606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41920" y="303048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75040" y="30704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09960" y="31114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44880" y="32054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9800" y="32972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5080" y="2946600"/>
              <a:ext cx="8856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8200" y="25956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8312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18040" y="23259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52960" y="24084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87880" y="24908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22800" y="2441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56280" y="23925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4440" y="23432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9360" y="2292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6428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99200" y="2516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34120" y="27860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7240" y="30592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02160" y="333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37080" y="360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72000" y="36356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06920" y="3665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3699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75320" y="37292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10240" y="3768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45160" y="38070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0080" y="38433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388476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48480" y="38800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3400" y="3875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8320" y="3870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3865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160" y="3861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23080" y="38563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56200" y="384660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91120" y="38354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26040" y="38260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0960" y="37594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9120" y="3691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4040" y="37004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67520" y="3710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02440" y="37213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7360" y="37306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72280" y="3740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3880" y="1371600"/>
              <a:ext cx="317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-BOND SPREAD X ELECTION POL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37160" y="17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8080" y="1676520"/>
              <a:ext cx="46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pposition votes as a proportion of government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400" y="569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8400" y="493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1720" y="4178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1720" y="3424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1720" y="2667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1720" y="1911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200000">
              <a:off x="736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979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12254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146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1712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9573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2203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2444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2687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6200000">
              <a:off x="29304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6200000">
              <a:off x="317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417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660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9034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4149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4392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46339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4879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5122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53640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605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532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6095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6338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6580080" y="602568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682632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7068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311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7554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7799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8042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3/01/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505360" y="57024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04640" y="516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504640" y="46213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4640" y="40816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04640" y="35434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04640" y="30038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4640" y="24624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504640" y="192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00800" y="5105520"/>
              <a:ext cx="209232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3600" y="5227920"/>
              <a:ext cx="517680" cy="14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92240" y="5181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C-bo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228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27640" y="5499360"/>
              <a:ext cx="3348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3096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342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5499360"/>
              <a:ext cx="1116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29400" y="5334120"/>
              <a:ext cx="8244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26" y="0"/>
                  </a:moveTo>
                  <a:lnTo>
                    <a:pt x="52" y="17"/>
                  </a:lnTo>
                  <a:lnTo>
                    <a:pt x="26" y="35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4960" y="529920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Opposition/Govern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062680" y="2800440"/>
              <a:ext cx="136440" cy="2245680"/>
              <a:chOff x="5062680" y="2800440"/>
              <a:chExt cx="136440" cy="224568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5129280" y="2887200"/>
                <a:ext cx="1080" cy="215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62680" y="280044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44" y="0"/>
                    </a:lnTo>
                    <a:lnTo>
                      <a:pt x="0" y="59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660920" y="5050080"/>
              <a:ext cx="949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5600" y="4953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esident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19240" y="51818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ndidates Agr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642560" y="5410440"/>
              <a:ext cx="156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n IMF progra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309760" y="4713480"/>
              <a:ext cx="135000" cy="483840"/>
              <a:chOff x="2309760" y="4713480"/>
              <a:chExt cx="135000" cy="48384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368440" y="4797360"/>
                <a:ext cx="6480" cy="39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309760" y="471348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85" h="58">
                    <a:moveTo>
                      <a:pt x="85" y="58"/>
                    </a:moveTo>
                    <a:lnTo>
                      <a:pt x="41" y="0"/>
                    </a:lnTo>
                    <a:lnTo>
                      <a:pt x="0" y="58"/>
                    </a:lnTo>
                    <a:lnTo>
                      <a:pt x="8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049480" y="5208840"/>
              <a:ext cx="72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5760" y="5029200"/>
              <a:ext cx="7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seana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12080" y="525780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ne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88080" y="540252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bandon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13520" y="54864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6837480" y="2989440"/>
              <a:ext cx="135000" cy="709200"/>
              <a:chOff x="6837480" y="2989440"/>
              <a:chExt cx="135000" cy="709200"/>
            </a:xfrm>
          </p:grpSpPr>
          <p:sp>
            <p:nvSpPr>
              <p:cNvPr id="1314" name=""/>
              <p:cNvSpPr/>
              <p:nvPr/>
            </p:nvSpPr>
            <p:spPr>
              <a:xfrm flipV="1">
                <a:off x="6902640" y="3075120"/>
                <a:ext cx="1800" cy="623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37480" y="2989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3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611760" y="3699000"/>
              <a:ext cx="657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4560" y="37134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Rou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9160" y="39625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354720" y="2800440"/>
              <a:ext cx="135000" cy="1360080"/>
              <a:chOff x="6354720" y="2800440"/>
              <a:chExt cx="135000" cy="136008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421320" y="2887200"/>
                <a:ext cx="1440" cy="127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54720" y="2800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2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202440" y="4232520"/>
              <a:ext cx="973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56600" y="42674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st Round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23760" y="6367680"/>
              <a:ext cx="997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0680" y="6369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152280" y="114480"/>
          <a:ext cx="883944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839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utlo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verview on Brazil: developments and the disinfl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(IT) in Emerging Market Economi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E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inflation and Fiscal Do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4575600" y="53352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DP and Sudden 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391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81844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854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0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587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1288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795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49240" y="3373560"/>
            <a:ext cx="370080" cy="131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8160" y="3373560"/>
            <a:ext cx="408240" cy="235080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25640" y="3373560"/>
            <a:ext cx="392400" cy="23158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97280" y="3373560"/>
            <a:ext cx="409680" cy="224784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37040" y="3373560"/>
            <a:ext cx="409680" cy="15843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02280" y="3373560"/>
            <a:ext cx="407880" cy="14302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9760" y="3373560"/>
            <a:ext cx="392040" cy="1328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61400" y="3373560"/>
            <a:ext cx="409320" cy="105552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2120" y="3373560"/>
            <a:ext cx="7870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988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4636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1764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06920" y="5707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03920" y="5041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9160" y="4889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39000" y="4786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27920" y="4514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0200" y="19526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06160" y="195264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6920" y="19526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03960" y="195264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48680" y="19810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50920" y="1952640"/>
            <a:ext cx="13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9526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013600" y="195264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819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63368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152280" y="304920"/>
          <a:ext cx="883944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83944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631680" y="231840"/>
            <a:ext cx="544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 Rate and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048120" y="761040"/>
            <a:ext cx="60958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" y="4197240"/>
            <a:ext cx="8115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960" y="3292560"/>
            <a:ext cx="196920" cy="195120"/>
          </a:xfrm>
          <a:custGeom>
            <a:avLst/>
            <a:gdLst/>
            <a:ahLst/>
            <a:rect l="l" t="t" r="r" b="b"/>
            <a:pathLst>
              <a:path w="124" h="123">
                <a:moveTo>
                  <a:pt x="0" y="123"/>
                </a:moveTo>
                <a:lnTo>
                  <a:pt x="7" y="114"/>
                </a:lnTo>
                <a:lnTo>
                  <a:pt x="16" y="105"/>
                </a:lnTo>
                <a:lnTo>
                  <a:pt x="31" y="82"/>
                </a:lnTo>
                <a:lnTo>
                  <a:pt x="47" y="58"/>
                </a:lnTo>
                <a:lnTo>
                  <a:pt x="61" y="35"/>
                </a:lnTo>
                <a:lnTo>
                  <a:pt x="70" y="25"/>
                </a:lnTo>
                <a:lnTo>
                  <a:pt x="77" y="14"/>
                </a:lnTo>
                <a:lnTo>
                  <a:pt x="86" y="7"/>
                </a:lnTo>
                <a:lnTo>
                  <a:pt x="93" y="2"/>
                </a:lnTo>
                <a:lnTo>
                  <a:pt x="101" y="0"/>
                </a:lnTo>
                <a:lnTo>
                  <a:pt x="108" y="0"/>
                </a:lnTo>
                <a:lnTo>
                  <a:pt x="117" y="4"/>
                </a:lnTo>
                <a:lnTo>
                  <a:pt x="124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20880" y="3309840"/>
            <a:ext cx="196560" cy="639720"/>
          </a:xfrm>
          <a:custGeom>
            <a:avLst/>
            <a:gdLst/>
            <a:ahLst/>
            <a:rect l="l" t="t" r="r" b="b"/>
            <a:pathLst>
              <a:path w="124" h="403">
                <a:moveTo>
                  <a:pt x="0" y="0"/>
                </a:moveTo>
                <a:lnTo>
                  <a:pt x="7" y="10"/>
                </a:lnTo>
                <a:lnTo>
                  <a:pt x="16" y="26"/>
                </a:lnTo>
                <a:lnTo>
                  <a:pt x="23" y="45"/>
                </a:lnTo>
                <a:lnTo>
                  <a:pt x="31" y="66"/>
                </a:lnTo>
                <a:lnTo>
                  <a:pt x="38" y="91"/>
                </a:lnTo>
                <a:lnTo>
                  <a:pt x="47" y="117"/>
                </a:lnTo>
                <a:lnTo>
                  <a:pt x="54" y="145"/>
                </a:lnTo>
                <a:lnTo>
                  <a:pt x="61" y="174"/>
                </a:lnTo>
                <a:lnTo>
                  <a:pt x="77" y="234"/>
                </a:lnTo>
                <a:lnTo>
                  <a:pt x="93" y="295"/>
                </a:lnTo>
                <a:lnTo>
                  <a:pt x="101" y="325"/>
                </a:lnTo>
                <a:lnTo>
                  <a:pt x="108" y="353"/>
                </a:lnTo>
                <a:lnTo>
                  <a:pt x="117" y="379"/>
                </a:lnTo>
                <a:lnTo>
                  <a:pt x="124" y="403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17440" y="3949560"/>
            <a:ext cx="200160" cy="525600"/>
          </a:xfrm>
          <a:custGeom>
            <a:avLst/>
            <a:gdLst/>
            <a:ahLst/>
            <a:rect l="l" t="t" r="r" b="b"/>
            <a:pathLst>
              <a:path w="126" h="331">
                <a:moveTo>
                  <a:pt x="0" y="0"/>
                </a:moveTo>
                <a:lnTo>
                  <a:pt x="16" y="46"/>
                </a:lnTo>
                <a:lnTo>
                  <a:pt x="32" y="88"/>
                </a:lnTo>
                <a:lnTo>
                  <a:pt x="47" y="130"/>
                </a:lnTo>
                <a:lnTo>
                  <a:pt x="63" y="170"/>
                </a:lnTo>
                <a:lnTo>
                  <a:pt x="95" y="250"/>
                </a:lnTo>
                <a:lnTo>
                  <a:pt x="126" y="33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17600" y="4475160"/>
            <a:ext cx="196920" cy="519120"/>
          </a:xfrm>
          <a:custGeom>
            <a:avLst/>
            <a:gdLst/>
            <a:ahLst/>
            <a:rect l="l" t="t" r="r" b="b"/>
            <a:pathLst>
              <a:path w="124" h="327">
                <a:moveTo>
                  <a:pt x="0" y="0"/>
                </a:moveTo>
                <a:lnTo>
                  <a:pt x="7" y="21"/>
                </a:lnTo>
                <a:lnTo>
                  <a:pt x="16" y="43"/>
                </a:lnTo>
                <a:lnTo>
                  <a:pt x="31" y="91"/>
                </a:lnTo>
                <a:lnTo>
                  <a:pt x="47" y="138"/>
                </a:lnTo>
                <a:lnTo>
                  <a:pt x="63" y="185"/>
                </a:lnTo>
                <a:lnTo>
                  <a:pt x="77" y="230"/>
                </a:lnTo>
                <a:lnTo>
                  <a:pt x="86" y="250"/>
                </a:lnTo>
                <a:lnTo>
                  <a:pt x="93" y="269"/>
                </a:lnTo>
                <a:lnTo>
                  <a:pt x="101" y="286"/>
                </a:lnTo>
                <a:lnTo>
                  <a:pt x="108" y="302"/>
                </a:lnTo>
                <a:lnTo>
                  <a:pt x="117" y="316"/>
                </a:lnTo>
                <a:lnTo>
                  <a:pt x="124" y="32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14520" y="4954680"/>
            <a:ext cx="196920" cy="73080"/>
          </a:xfrm>
          <a:custGeom>
            <a:avLst/>
            <a:gdLst/>
            <a:ahLst/>
            <a:rect l="l" t="t" r="r" b="b"/>
            <a:pathLst>
              <a:path w="124" h="46">
                <a:moveTo>
                  <a:pt x="0" y="25"/>
                </a:moveTo>
                <a:lnTo>
                  <a:pt x="7" y="33"/>
                </a:lnTo>
                <a:lnTo>
                  <a:pt x="16" y="39"/>
                </a:lnTo>
                <a:lnTo>
                  <a:pt x="23" y="42"/>
                </a:lnTo>
                <a:lnTo>
                  <a:pt x="32" y="46"/>
                </a:lnTo>
                <a:lnTo>
                  <a:pt x="39" y="46"/>
                </a:lnTo>
                <a:lnTo>
                  <a:pt x="46" y="46"/>
                </a:lnTo>
                <a:lnTo>
                  <a:pt x="61" y="42"/>
                </a:lnTo>
                <a:lnTo>
                  <a:pt x="77" y="33"/>
                </a:lnTo>
                <a:lnTo>
                  <a:pt x="93" y="23"/>
                </a:lnTo>
                <a:lnTo>
                  <a:pt x="108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11440" y="4716360"/>
            <a:ext cx="199800" cy="238320"/>
          </a:xfrm>
          <a:custGeom>
            <a:avLst/>
            <a:gdLst/>
            <a:ahLst/>
            <a:rect l="l" t="t" r="r" b="b"/>
            <a:pathLst>
              <a:path w="126" h="150">
                <a:moveTo>
                  <a:pt x="0" y="150"/>
                </a:moveTo>
                <a:lnTo>
                  <a:pt x="16" y="138"/>
                </a:lnTo>
                <a:lnTo>
                  <a:pt x="32" y="122"/>
                </a:lnTo>
                <a:lnTo>
                  <a:pt x="47" y="106"/>
                </a:lnTo>
                <a:lnTo>
                  <a:pt x="63" y="87"/>
                </a:lnTo>
                <a:lnTo>
                  <a:pt x="79" y="66"/>
                </a:lnTo>
                <a:lnTo>
                  <a:pt x="95" y="4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911240" y="4383000"/>
            <a:ext cx="196920" cy="33336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0" y="210"/>
                </a:moveTo>
                <a:lnTo>
                  <a:pt x="31" y="164"/>
                </a:lnTo>
                <a:lnTo>
                  <a:pt x="63" y="114"/>
                </a:lnTo>
                <a:lnTo>
                  <a:pt x="77" y="87"/>
                </a:lnTo>
                <a:lnTo>
                  <a:pt x="93" y="59"/>
                </a:lnTo>
                <a:lnTo>
                  <a:pt x="108" y="3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08160" y="3916440"/>
            <a:ext cx="196920" cy="466560"/>
          </a:xfrm>
          <a:custGeom>
            <a:avLst/>
            <a:gdLst/>
            <a:ahLst/>
            <a:rect l="l" t="t" r="r" b="b"/>
            <a:pathLst>
              <a:path w="124" h="294">
                <a:moveTo>
                  <a:pt x="0" y="294"/>
                </a:moveTo>
                <a:lnTo>
                  <a:pt x="7" y="278"/>
                </a:lnTo>
                <a:lnTo>
                  <a:pt x="16" y="259"/>
                </a:lnTo>
                <a:lnTo>
                  <a:pt x="32" y="221"/>
                </a:lnTo>
                <a:lnTo>
                  <a:pt x="47" y="179"/>
                </a:lnTo>
                <a:lnTo>
                  <a:pt x="61" y="137"/>
                </a:lnTo>
                <a:lnTo>
                  <a:pt x="77" y="97"/>
                </a:lnTo>
                <a:lnTo>
                  <a:pt x="93" y="58"/>
                </a:lnTo>
                <a:lnTo>
                  <a:pt x="101" y="42"/>
                </a:lnTo>
                <a:lnTo>
                  <a:pt x="108" y="27"/>
                </a:lnTo>
                <a:lnTo>
                  <a:pt x="117" y="1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05080" y="3830760"/>
            <a:ext cx="200160" cy="85680"/>
          </a:xfrm>
          <a:custGeom>
            <a:avLst/>
            <a:gdLst/>
            <a:ahLst/>
            <a:rect l="l" t="t" r="r" b="b"/>
            <a:pathLst>
              <a:path w="126" h="54">
                <a:moveTo>
                  <a:pt x="0" y="54"/>
                </a:moveTo>
                <a:lnTo>
                  <a:pt x="16" y="37"/>
                </a:lnTo>
                <a:lnTo>
                  <a:pt x="32" y="21"/>
                </a:lnTo>
                <a:lnTo>
                  <a:pt x="47" y="12"/>
                </a:lnTo>
                <a:lnTo>
                  <a:pt x="63" y="5"/>
                </a:lnTo>
                <a:lnTo>
                  <a:pt x="79" y="2"/>
                </a:lnTo>
                <a:lnTo>
                  <a:pt x="95" y="0"/>
                </a:lnTo>
                <a:lnTo>
                  <a:pt x="110" y="2"/>
                </a:lnTo>
                <a:lnTo>
                  <a:pt x="126" y="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5240" y="3838680"/>
            <a:ext cx="19656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0"/>
                </a:moveTo>
                <a:lnTo>
                  <a:pt x="16" y="7"/>
                </a:lnTo>
                <a:lnTo>
                  <a:pt x="32" y="18"/>
                </a:lnTo>
                <a:lnTo>
                  <a:pt x="47" y="34"/>
                </a:lnTo>
                <a:lnTo>
                  <a:pt x="63" y="49"/>
                </a:lnTo>
                <a:lnTo>
                  <a:pt x="77" y="69"/>
                </a:lnTo>
                <a:lnTo>
                  <a:pt x="93" y="88"/>
                </a:lnTo>
                <a:lnTo>
                  <a:pt x="108" y="107"/>
                </a:lnTo>
                <a:lnTo>
                  <a:pt x="124" y="12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01800" y="4038480"/>
            <a:ext cx="196920" cy="255600"/>
          </a:xfrm>
          <a:custGeom>
            <a:avLst/>
            <a:gdLst/>
            <a:ahLst/>
            <a:rect l="l" t="t" r="r" b="b"/>
            <a:pathLst>
              <a:path w="124" h="161">
                <a:moveTo>
                  <a:pt x="0" y="0"/>
                </a:moveTo>
                <a:lnTo>
                  <a:pt x="7" y="11"/>
                </a:lnTo>
                <a:lnTo>
                  <a:pt x="16" y="21"/>
                </a:lnTo>
                <a:lnTo>
                  <a:pt x="32" y="46"/>
                </a:lnTo>
                <a:lnTo>
                  <a:pt x="47" y="72"/>
                </a:lnTo>
                <a:lnTo>
                  <a:pt x="61" y="98"/>
                </a:lnTo>
                <a:lnTo>
                  <a:pt x="77" y="123"/>
                </a:lnTo>
                <a:lnTo>
                  <a:pt x="86" y="133"/>
                </a:lnTo>
                <a:lnTo>
                  <a:pt x="93" y="144"/>
                </a:lnTo>
                <a:lnTo>
                  <a:pt x="102" y="151"/>
                </a:lnTo>
                <a:lnTo>
                  <a:pt x="109" y="156"/>
                </a:lnTo>
                <a:lnTo>
                  <a:pt x="117" y="159"/>
                </a:lnTo>
                <a:lnTo>
                  <a:pt x="124" y="1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037040"/>
            <a:ext cx="20016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162"/>
                </a:moveTo>
                <a:lnTo>
                  <a:pt x="7" y="160"/>
                </a:lnTo>
                <a:lnTo>
                  <a:pt x="16" y="157"/>
                </a:lnTo>
                <a:lnTo>
                  <a:pt x="23" y="152"/>
                </a:lnTo>
                <a:lnTo>
                  <a:pt x="32" y="145"/>
                </a:lnTo>
                <a:lnTo>
                  <a:pt x="39" y="136"/>
                </a:lnTo>
                <a:lnTo>
                  <a:pt x="47" y="125"/>
                </a:lnTo>
                <a:lnTo>
                  <a:pt x="63" y="101"/>
                </a:lnTo>
                <a:lnTo>
                  <a:pt x="79" y="75"/>
                </a:lnTo>
                <a:lnTo>
                  <a:pt x="95" y="49"/>
                </a:lnTo>
                <a:lnTo>
                  <a:pt x="110" y="2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98880" y="3767040"/>
            <a:ext cx="196920" cy="27000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0" y="170"/>
                </a:moveTo>
                <a:lnTo>
                  <a:pt x="63" y="86"/>
                </a:lnTo>
                <a:lnTo>
                  <a:pt x="93" y="44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95800" y="3473280"/>
            <a:ext cx="196560" cy="293760"/>
          </a:xfrm>
          <a:custGeom>
            <a:avLst/>
            <a:gdLst/>
            <a:ahLst/>
            <a:rect l="l" t="t" r="r" b="b"/>
            <a:pathLst>
              <a:path w="124" h="185">
                <a:moveTo>
                  <a:pt x="0" y="185"/>
                </a:moveTo>
                <a:lnTo>
                  <a:pt x="16" y="161"/>
                </a:lnTo>
                <a:lnTo>
                  <a:pt x="32" y="134"/>
                </a:lnTo>
                <a:lnTo>
                  <a:pt x="47" y="106"/>
                </a:lnTo>
                <a:lnTo>
                  <a:pt x="61" y="78"/>
                </a:lnTo>
                <a:lnTo>
                  <a:pt x="77" y="52"/>
                </a:lnTo>
                <a:lnTo>
                  <a:pt x="93" y="30"/>
                </a:lnTo>
                <a:lnTo>
                  <a:pt x="102" y="19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92360" y="346536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0" y="5"/>
                </a:moveTo>
                <a:lnTo>
                  <a:pt x="7" y="1"/>
                </a:lnTo>
                <a:lnTo>
                  <a:pt x="16" y="0"/>
                </a:lnTo>
                <a:lnTo>
                  <a:pt x="32" y="0"/>
                </a:lnTo>
                <a:lnTo>
                  <a:pt x="47" y="3"/>
                </a:lnTo>
                <a:lnTo>
                  <a:pt x="63" y="12"/>
                </a:lnTo>
                <a:lnTo>
                  <a:pt x="79" y="21"/>
                </a:lnTo>
                <a:lnTo>
                  <a:pt x="95" y="33"/>
                </a:lnTo>
                <a:lnTo>
                  <a:pt x="126" y="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92520" y="356220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0"/>
                </a:moveTo>
                <a:lnTo>
                  <a:pt x="16" y="15"/>
                </a:lnTo>
                <a:lnTo>
                  <a:pt x="32" y="35"/>
                </a:lnTo>
                <a:lnTo>
                  <a:pt x="47" y="57"/>
                </a:lnTo>
                <a:lnTo>
                  <a:pt x="63" y="80"/>
                </a:lnTo>
                <a:lnTo>
                  <a:pt x="77" y="105"/>
                </a:lnTo>
                <a:lnTo>
                  <a:pt x="93" y="127"/>
                </a:lnTo>
                <a:lnTo>
                  <a:pt x="108" y="147"/>
                </a:lnTo>
                <a:lnTo>
                  <a:pt x="124" y="16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89440" y="3822840"/>
            <a:ext cx="196920" cy="12204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0"/>
                </a:moveTo>
                <a:lnTo>
                  <a:pt x="16" y="16"/>
                </a:lnTo>
                <a:lnTo>
                  <a:pt x="32" y="31"/>
                </a:lnTo>
                <a:lnTo>
                  <a:pt x="47" y="47"/>
                </a:lnTo>
                <a:lnTo>
                  <a:pt x="61" y="59"/>
                </a:lnTo>
                <a:lnTo>
                  <a:pt x="77" y="70"/>
                </a:lnTo>
                <a:lnTo>
                  <a:pt x="86" y="73"/>
                </a:lnTo>
                <a:lnTo>
                  <a:pt x="93" y="77"/>
                </a:lnTo>
                <a:lnTo>
                  <a:pt x="102" y="77"/>
                </a:lnTo>
                <a:lnTo>
                  <a:pt x="109" y="77"/>
                </a:lnTo>
                <a:lnTo>
                  <a:pt x="117" y="75"/>
                </a:lnTo>
                <a:lnTo>
                  <a:pt x="124" y="7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86360" y="3592440"/>
            <a:ext cx="19980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0" y="217"/>
                </a:moveTo>
                <a:lnTo>
                  <a:pt x="7" y="211"/>
                </a:lnTo>
                <a:lnTo>
                  <a:pt x="16" y="204"/>
                </a:lnTo>
                <a:lnTo>
                  <a:pt x="23" y="196"/>
                </a:lnTo>
                <a:lnTo>
                  <a:pt x="32" y="185"/>
                </a:lnTo>
                <a:lnTo>
                  <a:pt x="48" y="162"/>
                </a:lnTo>
                <a:lnTo>
                  <a:pt x="63" y="135"/>
                </a:lnTo>
                <a:lnTo>
                  <a:pt x="79" y="103"/>
                </a:lnTo>
                <a:lnTo>
                  <a:pt x="95" y="70"/>
                </a:lnTo>
                <a:lnTo>
                  <a:pt x="110" y="3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86160" y="3048120"/>
            <a:ext cx="196920" cy="544320"/>
          </a:xfrm>
          <a:custGeom>
            <a:avLst/>
            <a:gdLst/>
            <a:ahLst/>
            <a:rect l="l" t="t" r="r" b="b"/>
            <a:pathLst>
              <a:path w="124" h="343">
                <a:moveTo>
                  <a:pt x="0" y="343"/>
                </a:moveTo>
                <a:lnTo>
                  <a:pt x="7" y="325"/>
                </a:lnTo>
                <a:lnTo>
                  <a:pt x="16" y="305"/>
                </a:lnTo>
                <a:lnTo>
                  <a:pt x="32" y="263"/>
                </a:lnTo>
                <a:lnTo>
                  <a:pt x="47" y="215"/>
                </a:lnTo>
                <a:lnTo>
                  <a:pt x="61" y="168"/>
                </a:lnTo>
                <a:lnTo>
                  <a:pt x="77" y="121"/>
                </a:lnTo>
                <a:lnTo>
                  <a:pt x="93" y="76"/>
                </a:lnTo>
                <a:lnTo>
                  <a:pt x="102" y="55"/>
                </a:lnTo>
                <a:lnTo>
                  <a:pt x="109" y="35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3080" y="2805120"/>
            <a:ext cx="200160" cy="243000"/>
          </a:xfrm>
          <a:custGeom>
            <a:avLst/>
            <a:gdLst/>
            <a:ahLst/>
            <a:rect l="l" t="t" r="r" b="b"/>
            <a:pathLst>
              <a:path w="126" h="153">
                <a:moveTo>
                  <a:pt x="0" y="153"/>
                </a:moveTo>
                <a:lnTo>
                  <a:pt x="16" y="124"/>
                </a:lnTo>
                <a:lnTo>
                  <a:pt x="32" y="97"/>
                </a:lnTo>
                <a:lnTo>
                  <a:pt x="47" y="73"/>
                </a:lnTo>
                <a:lnTo>
                  <a:pt x="63" y="52"/>
                </a:lnTo>
                <a:lnTo>
                  <a:pt x="79" y="33"/>
                </a:lnTo>
                <a:lnTo>
                  <a:pt x="95" y="19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83240" y="2798640"/>
            <a:ext cx="19656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0" y="4"/>
                </a:moveTo>
                <a:lnTo>
                  <a:pt x="7" y="2"/>
                </a:lnTo>
                <a:lnTo>
                  <a:pt x="16" y="0"/>
                </a:lnTo>
                <a:lnTo>
                  <a:pt x="23" y="2"/>
                </a:lnTo>
                <a:lnTo>
                  <a:pt x="32" y="4"/>
                </a:lnTo>
                <a:lnTo>
                  <a:pt x="47" y="11"/>
                </a:lnTo>
                <a:lnTo>
                  <a:pt x="63" y="19"/>
                </a:lnTo>
                <a:lnTo>
                  <a:pt x="77" y="32"/>
                </a:lnTo>
                <a:lnTo>
                  <a:pt x="93" y="44"/>
                </a:lnTo>
                <a:lnTo>
                  <a:pt x="108" y="54"/>
                </a:lnTo>
                <a:lnTo>
                  <a:pt x="124" y="6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79800" y="2901960"/>
            <a:ext cx="196920" cy="119160"/>
          </a:xfrm>
          <a:custGeom>
            <a:avLst/>
            <a:gdLst/>
            <a:ahLst/>
            <a:rect l="l" t="t" r="r" b="b"/>
            <a:pathLst>
              <a:path w="124" h="75">
                <a:moveTo>
                  <a:pt x="0" y="0"/>
                </a:moveTo>
                <a:lnTo>
                  <a:pt x="16" y="9"/>
                </a:lnTo>
                <a:lnTo>
                  <a:pt x="32" y="16"/>
                </a:lnTo>
                <a:lnTo>
                  <a:pt x="61" y="29"/>
                </a:lnTo>
                <a:lnTo>
                  <a:pt x="77" y="38"/>
                </a:lnTo>
                <a:lnTo>
                  <a:pt x="93" y="49"/>
                </a:lnTo>
                <a:lnTo>
                  <a:pt x="109" y="59"/>
                </a:lnTo>
                <a:lnTo>
                  <a:pt x="124" y="7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76720" y="302112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0" y="0"/>
                </a:moveTo>
                <a:lnTo>
                  <a:pt x="7" y="9"/>
                </a:lnTo>
                <a:lnTo>
                  <a:pt x="16" y="21"/>
                </a:lnTo>
                <a:lnTo>
                  <a:pt x="23" y="33"/>
                </a:lnTo>
                <a:lnTo>
                  <a:pt x="32" y="47"/>
                </a:lnTo>
                <a:lnTo>
                  <a:pt x="47" y="79"/>
                </a:lnTo>
                <a:lnTo>
                  <a:pt x="63" y="110"/>
                </a:lnTo>
                <a:lnTo>
                  <a:pt x="79" y="140"/>
                </a:lnTo>
                <a:lnTo>
                  <a:pt x="88" y="154"/>
                </a:lnTo>
                <a:lnTo>
                  <a:pt x="95" y="166"/>
                </a:lnTo>
                <a:lnTo>
                  <a:pt x="103" y="175"/>
                </a:lnTo>
                <a:lnTo>
                  <a:pt x="110" y="182"/>
                </a:lnTo>
                <a:lnTo>
                  <a:pt x="119" y="187"/>
                </a:lnTo>
                <a:lnTo>
                  <a:pt x="126" y="189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6880" y="3021120"/>
            <a:ext cx="196920" cy="299880"/>
          </a:xfrm>
          <a:custGeom>
            <a:avLst/>
            <a:gdLst/>
            <a:ahLst/>
            <a:rect l="l" t="t" r="r" b="b"/>
            <a:pathLst>
              <a:path w="124" h="189">
                <a:moveTo>
                  <a:pt x="0" y="189"/>
                </a:moveTo>
                <a:lnTo>
                  <a:pt x="7" y="187"/>
                </a:lnTo>
                <a:lnTo>
                  <a:pt x="16" y="182"/>
                </a:lnTo>
                <a:lnTo>
                  <a:pt x="23" y="173"/>
                </a:lnTo>
                <a:lnTo>
                  <a:pt x="32" y="162"/>
                </a:lnTo>
                <a:lnTo>
                  <a:pt x="39" y="148"/>
                </a:lnTo>
                <a:lnTo>
                  <a:pt x="47" y="134"/>
                </a:lnTo>
                <a:lnTo>
                  <a:pt x="63" y="101"/>
                </a:lnTo>
                <a:lnTo>
                  <a:pt x="77" y="68"/>
                </a:lnTo>
                <a:lnTo>
                  <a:pt x="86" y="52"/>
                </a:lnTo>
                <a:lnTo>
                  <a:pt x="93" y="37"/>
                </a:lnTo>
                <a:lnTo>
                  <a:pt x="102" y="24"/>
                </a:lnTo>
                <a:lnTo>
                  <a:pt x="109" y="14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473800" y="3017880"/>
            <a:ext cx="196920" cy="12996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2"/>
                </a:moveTo>
                <a:lnTo>
                  <a:pt x="12" y="0"/>
                </a:lnTo>
                <a:lnTo>
                  <a:pt x="26" y="0"/>
                </a:lnTo>
                <a:lnTo>
                  <a:pt x="44" y="4"/>
                </a:lnTo>
                <a:lnTo>
                  <a:pt x="61" y="12"/>
                </a:lnTo>
                <a:lnTo>
                  <a:pt x="81" y="23"/>
                </a:lnTo>
                <a:lnTo>
                  <a:pt x="98" y="39"/>
                </a:lnTo>
                <a:lnTo>
                  <a:pt x="112" y="58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670720" y="3147840"/>
            <a:ext cx="199800" cy="927360"/>
          </a:xfrm>
          <a:custGeom>
            <a:avLst/>
            <a:gdLst/>
            <a:ahLst/>
            <a:rect l="l" t="t" r="r" b="b"/>
            <a:pathLst>
              <a:path w="126" h="584">
                <a:moveTo>
                  <a:pt x="0" y="0"/>
                </a:moveTo>
                <a:lnTo>
                  <a:pt x="7" y="23"/>
                </a:lnTo>
                <a:lnTo>
                  <a:pt x="16" y="48"/>
                </a:lnTo>
                <a:lnTo>
                  <a:pt x="23" y="75"/>
                </a:lnTo>
                <a:lnTo>
                  <a:pt x="32" y="107"/>
                </a:lnTo>
                <a:lnTo>
                  <a:pt x="39" y="140"/>
                </a:lnTo>
                <a:lnTo>
                  <a:pt x="48" y="175"/>
                </a:lnTo>
                <a:lnTo>
                  <a:pt x="55" y="212"/>
                </a:lnTo>
                <a:lnTo>
                  <a:pt x="63" y="250"/>
                </a:lnTo>
                <a:lnTo>
                  <a:pt x="72" y="289"/>
                </a:lnTo>
                <a:lnTo>
                  <a:pt x="79" y="329"/>
                </a:lnTo>
                <a:lnTo>
                  <a:pt x="95" y="413"/>
                </a:lnTo>
                <a:lnTo>
                  <a:pt x="110" y="498"/>
                </a:lnTo>
                <a:lnTo>
                  <a:pt x="126" y="58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70520" y="4075200"/>
            <a:ext cx="196920" cy="1216080"/>
          </a:xfrm>
          <a:custGeom>
            <a:avLst/>
            <a:gdLst/>
            <a:ahLst/>
            <a:rect l="l" t="t" r="r" b="b"/>
            <a:pathLst>
              <a:path w="124" h="766">
                <a:moveTo>
                  <a:pt x="0" y="0"/>
                </a:moveTo>
                <a:lnTo>
                  <a:pt x="7" y="44"/>
                </a:lnTo>
                <a:lnTo>
                  <a:pt x="16" y="91"/>
                </a:lnTo>
                <a:lnTo>
                  <a:pt x="23" y="142"/>
                </a:lnTo>
                <a:lnTo>
                  <a:pt x="32" y="194"/>
                </a:lnTo>
                <a:lnTo>
                  <a:pt x="39" y="248"/>
                </a:lnTo>
                <a:lnTo>
                  <a:pt x="47" y="302"/>
                </a:lnTo>
                <a:lnTo>
                  <a:pt x="63" y="413"/>
                </a:lnTo>
                <a:lnTo>
                  <a:pt x="70" y="467"/>
                </a:lnTo>
                <a:lnTo>
                  <a:pt x="77" y="519"/>
                </a:lnTo>
                <a:lnTo>
                  <a:pt x="86" y="570"/>
                </a:lnTo>
                <a:lnTo>
                  <a:pt x="93" y="617"/>
                </a:lnTo>
                <a:lnTo>
                  <a:pt x="102" y="661"/>
                </a:lnTo>
                <a:lnTo>
                  <a:pt x="109" y="701"/>
                </a:lnTo>
                <a:lnTo>
                  <a:pt x="112" y="718"/>
                </a:lnTo>
                <a:lnTo>
                  <a:pt x="117" y="736"/>
                </a:lnTo>
                <a:lnTo>
                  <a:pt x="121" y="752"/>
                </a:lnTo>
                <a:lnTo>
                  <a:pt x="124" y="76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67440" y="5291280"/>
            <a:ext cx="19692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0" y="0"/>
                </a:moveTo>
                <a:lnTo>
                  <a:pt x="6" y="14"/>
                </a:lnTo>
                <a:lnTo>
                  <a:pt x="11" y="28"/>
                </a:lnTo>
                <a:lnTo>
                  <a:pt x="27" y="52"/>
                </a:lnTo>
                <a:lnTo>
                  <a:pt x="44" y="73"/>
                </a:lnTo>
                <a:lnTo>
                  <a:pt x="61" y="90"/>
                </a:lnTo>
                <a:lnTo>
                  <a:pt x="72" y="97"/>
                </a:lnTo>
                <a:lnTo>
                  <a:pt x="81" y="103"/>
                </a:lnTo>
                <a:lnTo>
                  <a:pt x="89" y="106"/>
                </a:lnTo>
                <a:lnTo>
                  <a:pt x="98" y="108"/>
                </a:lnTo>
                <a:lnTo>
                  <a:pt x="107" y="108"/>
                </a:lnTo>
                <a:lnTo>
                  <a:pt x="114" y="106"/>
                </a:lnTo>
                <a:lnTo>
                  <a:pt x="119" y="103"/>
                </a:lnTo>
                <a:lnTo>
                  <a:pt x="124" y="9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264360" y="4657680"/>
            <a:ext cx="199800" cy="787320"/>
          </a:xfrm>
          <a:custGeom>
            <a:avLst/>
            <a:gdLst/>
            <a:ahLst/>
            <a:rect l="l" t="t" r="r" b="b"/>
            <a:pathLst>
              <a:path w="126" h="496">
                <a:moveTo>
                  <a:pt x="0" y="496"/>
                </a:moveTo>
                <a:lnTo>
                  <a:pt x="4" y="489"/>
                </a:lnTo>
                <a:lnTo>
                  <a:pt x="7" y="481"/>
                </a:lnTo>
                <a:lnTo>
                  <a:pt x="16" y="461"/>
                </a:lnTo>
                <a:lnTo>
                  <a:pt x="23" y="437"/>
                </a:lnTo>
                <a:lnTo>
                  <a:pt x="32" y="409"/>
                </a:lnTo>
                <a:lnTo>
                  <a:pt x="39" y="378"/>
                </a:lnTo>
                <a:lnTo>
                  <a:pt x="48" y="343"/>
                </a:lnTo>
                <a:lnTo>
                  <a:pt x="55" y="308"/>
                </a:lnTo>
                <a:lnTo>
                  <a:pt x="63" y="269"/>
                </a:lnTo>
                <a:lnTo>
                  <a:pt x="79" y="194"/>
                </a:lnTo>
                <a:lnTo>
                  <a:pt x="88" y="157"/>
                </a:lnTo>
                <a:lnTo>
                  <a:pt x="95" y="121"/>
                </a:lnTo>
                <a:lnTo>
                  <a:pt x="104" y="86"/>
                </a:lnTo>
                <a:lnTo>
                  <a:pt x="110" y="54"/>
                </a:lnTo>
                <a:lnTo>
                  <a:pt x="117" y="2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64160" y="4264200"/>
            <a:ext cx="196920" cy="393480"/>
          </a:xfrm>
          <a:custGeom>
            <a:avLst/>
            <a:gdLst/>
            <a:ahLst/>
            <a:rect l="l" t="t" r="r" b="b"/>
            <a:pathLst>
              <a:path w="124" h="248">
                <a:moveTo>
                  <a:pt x="0" y="248"/>
                </a:moveTo>
                <a:lnTo>
                  <a:pt x="16" y="203"/>
                </a:lnTo>
                <a:lnTo>
                  <a:pt x="32" y="161"/>
                </a:lnTo>
                <a:lnTo>
                  <a:pt x="47" y="122"/>
                </a:lnTo>
                <a:lnTo>
                  <a:pt x="63" y="87"/>
                </a:lnTo>
                <a:lnTo>
                  <a:pt x="70" y="72"/>
                </a:lnTo>
                <a:lnTo>
                  <a:pt x="77" y="56"/>
                </a:lnTo>
                <a:lnTo>
                  <a:pt x="86" y="44"/>
                </a:lnTo>
                <a:lnTo>
                  <a:pt x="93" y="31"/>
                </a:lnTo>
                <a:lnTo>
                  <a:pt x="102" y="21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661080" y="4260960"/>
            <a:ext cx="196920" cy="172800"/>
          </a:xfrm>
          <a:custGeom>
            <a:avLst/>
            <a:gdLst/>
            <a:ahLst/>
            <a:rect l="l" t="t" r="r" b="b"/>
            <a:pathLst>
              <a:path w="124" h="109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3" y="5"/>
                </a:lnTo>
                <a:lnTo>
                  <a:pt x="32" y="12"/>
                </a:lnTo>
                <a:lnTo>
                  <a:pt x="39" y="21"/>
                </a:lnTo>
                <a:lnTo>
                  <a:pt x="48" y="32"/>
                </a:lnTo>
                <a:lnTo>
                  <a:pt x="62" y="56"/>
                </a:lnTo>
                <a:lnTo>
                  <a:pt x="77" y="81"/>
                </a:lnTo>
                <a:lnTo>
                  <a:pt x="86" y="91"/>
                </a:lnTo>
                <a:lnTo>
                  <a:pt x="93" y="98"/>
                </a:lnTo>
                <a:lnTo>
                  <a:pt x="102" y="105"/>
                </a:lnTo>
                <a:lnTo>
                  <a:pt x="109" y="109"/>
                </a:lnTo>
                <a:lnTo>
                  <a:pt x="117" y="109"/>
                </a:lnTo>
                <a:lnTo>
                  <a:pt x="124" y="10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0" y="3960720"/>
            <a:ext cx="200160" cy="46692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7" y="289"/>
                </a:lnTo>
                <a:lnTo>
                  <a:pt x="14" y="280"/>
                </a:lnTo>
                <a:lnTo>
                  <a:pt x="23" y="270"/>
                </a:lnTo>
                <a:lnTo>
                  <a:pt x="30" y="259"/>
                </a:lnTo>
                <a:lnTo>
                  <a:pt x="39" y="245"/>
                </a:lnTo>
                <a:lnTo>
                  <a:pt x="46" y="229"/>
                </a:lnTo>
                <a:lnTo>
                  <a:pt x="55" y="214"/>
                </a:lnTo>
                <a:lnTo>
                  <a:pt x="63" y="194"/>
                </a:lnTo>
                <a:lnTo>
                  <a:pt x="72" y="175"/>
                </a:lnTo>
                <a:lnTo>
                  <a:pt x="81" y="154"/>
                </a:lnTo>
                <a:lnTo>
                  <a:pt x="88" y="131"/>
                </a:lnTo>
                <a:lnTo>
                  <a:pt x="97" y="109"/>
                </a:lnTo>
                <a:lnTo>
                  <a:pt x="112" y="5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058160" y="2717640"/>
            <a:ext cx="196560" cy="1243080"/>
          </a:xfrm>
          <a:custGeom>
            <a:avLst/>
            <a:gdLst/>
            <a:ahLst/>
            <a:rect l="l" t="t" r="r" b="b"/>
            <a:pathLst>
              <a:path w="124" h="783">
                <a:moveTo>
                  <a:pt x="0" y="783"/>
                </a:moveTo>
                <a:lnTo>
                  <a:pt x="7" y="748"/>
                </a:lnTo>
                <a:lnTo>
                  <a:pt x="16" y="708"/>
                </a:lnTo>
                <a:lnTo>
                  <a:pt x="23" y="665"/>
                </a:lnTo>
                <a:lnTo>
                  <a:pt x="32" y="619"/>
                </a:lnTo>
                <a:lnTo>
                  <a:pt x="39" y="570"/>
                </a:lnTo>
                <a:lnTo>
                  <a:pt x="47" y="519"/>
                </a:lnTo>
                <a:lnTo>
                  <a:pt x="54" y="467"/>
                </a:lnTo>
                <a:lnTo>
                  <a:pt x="63" y="415"/>
                </a:lnTo>
                <a:lnTo>
                  <a:pt x="77" y="305"/>
                </a:lnTo>
                <a:lnTo>
                  <a:pt x="93" y="198"/>
                </a:lnTo>
                <a:lnTo>
                  <a:pt x="102" y="145"/>
                </a:lnTo>
                <a:lnTo>
                  <a:pt x="109" y="95"/>
                </a:lnTo>
                <a:lnTo>
                  <a:pt x="117" y="4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54720" y="1697040"/>
            <a:ext cx="196920" cy="1020600"/>
          </a:xfrm>
          <a:custGeom>
            <a:avLst/>
            <a:gdLst/>
            <a:ahLst/>
            <a:rect l="l" t="t" r="r" b="b"/>
            <a:pathLst>
              <a:path w="124" h="643">
                <a:moveTo>
                  <a:pt x="0" y="643"/>
                </a:moveTo>
                <a:lnTo>
                  <a:pt x="7" y="598"/>
                </a:lnTo>
                <a:lnTo>
                  <a:pt x="16" y="551"/>
                </a:lnTo>
                <a:lnTo>
                  <a:pt x="32" y="456"/>
                </a:lnTo>
                <a:lnTo>
                  <a:pt x="48" y="360"/>
                </a:lnTo>
                <a:lnTo>
                  <a:pt x="55" y="315"/>
                </a:lnTo>
                <a:lnTo>
                  <a:pt x="62" y="269"/>
                </a:lnTo>
                <a:lnTo>
                  <a:pt x="70" y="226"/>
                </a:lnTo>
                <a:lnTo>
                  <a:pt x="77" y="184"/>
                </a:lnTo>
                <a:lnTo>
                  <a:pt x="86" y="144"/>
                </a:lnTo>
                <a:lnTo>
                  <a:pt x="93" y="109"/>
                </a:lnTo>
                <a:lnTo>
                  <a:pt x="102" y="75"/>
                </a:lnTo>
                <a:lnTo>
                  <a:pt x="109" y="46"/>
                </a:lnTo>
                <a:lnTo>
                  <a:pt x="117" y="2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1640" y="1663560"/>
            <a:ext cx="200160" cy="13680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21"/>
                </a:moveTo>
                <a:lnTo>
                  <a:pt x="6" y="11"/>
                </a:lnTo>
                <a:lnTo>
                  <a:pt x="13" y="4"/>
                </a:lnTo>
                <a:lnTo>
                  <a:pt x="20" y="2"/>
                </a:lnTo>
                <a:lnTo>
                  <a:pt x="28" y="0"/>
                </a:lnTo>
                <a:lnTo>
                  <a:pt x="37" y="4"/>
                </a:lnTo>
                <a:lnTo>
                  <a:pt x="46" y="7"/>
                </a:lnTo>
                <a:lnTo>
                  <a:pt x="55" y="14"/>
                </a:lnTo>
                <a:lnTo>
                  <a:pt x="63" y="21"/>
                </a:lnTo>
                <a:lnTo>
                  <a:pt x="81" y="39"/>
                </a:lnTo>
                <a:lnTo>
                  <a:pt x="98" y="58"/>
                </a:lnTo>
                <a:lnTo>
                  <a:pt x="114" y="74"/>
                </a:lnTo>
                <a:lnTo>
                  <a:pt x="121" y="81"/>
                </a:lnTo>
                <a:lnTo>
                  <a:pt x="126" y="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51800" y="1800360"/>
            <a:ext cx="196920" cy="225360"/>
          </a:xfrm>
          <a:custGeom>
            <a:avLst/>
            <a:gdLst/>
            <a:ahLst/>
            <a:rect l="l" t="t" r="r" b="b"/>
            <a:pathLst>
              <a:path w="124" h="142">
                <a:moveTo>
                  <a:pt x="0" y="0"/>
                </a:moveTo>
                <a:lnTo>
                  <a:pt x="7" y="7"/>
                </a:lnTo>
                <a:lnTo>
                  <a:pt x="16" y="17"/>
                </a:lnTo>
                <a:lnTo>
                  <a:pt x="23" y="28"/>
                </a:lnTo>
                <a:lnTo>
                  <a:pt x="32" y="40"/>
                </a:lnTo>
                <a:lnTo>
                  <a:pt x="48" y="68"/>
                </a:lnTo>
                <a:lnTo>
                  <a:pt x="63" y="96"/>
                </a:lnTo>
                <a:lnTo>
                  <a:pt x="70" y="108"/>
                </a:lnTo>
                <a:lnTo>
                  <a:pt x="77" y="119"/>
                </a:lnTo>
                <a:lnTo>
                  <a:pt x="86" y="129"/>
                </a:lnTo>
                <a:lnTo>
                  <a:pt x="93" y="136"/>
                </a:lnTo>
                <a:lnTo>
                  <a:pt x="102" y="142"/>
                </a:lnTo>
                <a:lnTo>
                  <a:pt x="109" y="142"/>
                </a:lnTo>
                <a:lnTo>
                  <a:pt x="117" y="140"/>
                </a:lnTo>
                <a:lnTo>
                  <a:pt x="124" y="13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848720" y="1378080"/>
            <a:ext cx="198360" cy="636480"/>
          </a:xfrm>
          <a:custGeom>
            <a:avLst/>
            <a:gdLst/>
            <a:ahLst/>
            <a:rect l="l" t="t" r="r" b="b"/>
            <a:pathLst>
              <a:path w="125" h="401">
                <a:moveTo>
                  <a:pt x="0" y="401"/>
                </a:moveTo>
                <a:lnTo>
                  <a:pt x="4" y="395"/>
                </a:lnTo>
                <a:lnTo>
                  <a:pt x="7" y="388"/>
                </a:lnTo>
                <a:lnTo>
                  <a:pt x="13" y="380"/>
                </a:lnTo>
                <a:lnTo>
                  <a:pt x="16" y="369"/>
                </a:lnTo>
                <a:lnTo>
                  <a:pt x="20" y="355"/>
                </a:lnTo>
                <a:lnTo>
                  <a:pt x="23" y="341"/>
                </a:lnTo>
                <a:lnTo>
                  <a:pt x="32" y="310"/>
                </a:lnTo>
                <a:lnTo>
                  <a:pt x="39" y="275"/>
                </a:lnTo>
                <a:lnTo>
                  <a:pt x="48" y="238"/>
                </a:lnTo>
                <a:lnTo>
                  <a:pt x="55" y="198"/>
                </a:lnTo>
                <a:lnTo>
                  <a:pt x="62" y="159"/>
                </a:lnTo>
                <a:lnTo>
                  <a:pt x="70" y="123"/>
                </a:lnTo>
                <a:lnTo>
                  <a:pt x="77" y="88"/>
                </a:lnTo>
                <a:lnTo>
                  <a:pt x="83" y="72"/>
                </a:lnTo>
                <a:lnTo>
                  <a:pt x="86" y="56"/>
                </a:lnTo>
                <a:lnTo>
                  <a:pt x="90" y="44"/>
                </a:lnTo>
                <a:lnTo>
                  <a:pt x="93" y="32"/>
                </a:lnTo>
                <a:lnTo>
                  <a:pt x="97" y="21"/>
                </a:lnTo>
                <a:lnTo>
                  <a:pt x="102" y="13"/>
                </a:lnTo>
                <a:lnTo>
                  <a:pt x="105" y="7"/>
                </a:lnTo>
                <a:lnTo>
                  <a:pt x="109" y="2"/>
                </a:lnTo>
                <a:lnTo>
                  <a:pt x="112" y="0"/>
                </a:lnTo>
                <a:lnTo>
                  <a:pt x="116" y="2"/>
                </a:lnTo>
                <a:lnTo>
                  <a:pt x="121" y="4"/>
                </a:lnTo>
                <a:lnTo>
                  <a:pt x="125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047080" y="1395360"/>
            <a:ext cx="198360" cy="1387440"/>
          </a:xfrm>
          <a:custGeom>
            <a:avLst/>
            <a:gdLst/>
            <a:ahLst/>
            <a:rect l="l" t="t" r="r" b="b"/>
            <a:pathLst>
              <a:path w="125" h="874">
                <a:moveTo>
                  <a:pt x="0" y="0"/>
                </a:moveTo>
                <a:lnTo>
                  <a:pt x="3" y="9"/>
                </a:lnTo>
                <a:lnTo>
                  <a:pt x="6" y="21"/>
                </a:lnTo>
                <a:lnTo>
                  <a:pt x="12" y="35"/>
                </a:lnTo>
                <a:lnTo>
                  <a:pt x="15" y="52"/>
                </a:lnTo>
                <a:lnTo>
                  <a:pt x="19" y="71"/>
                </a:lnTo>
                <a:lnTo>
                  <a:pt x="22" y="92"/>
                </a:lnTo>
                <a:lnTo>
                  <a:pt x="27" y="115"/>
                </a:lnTo>
                <a:lnTo>
                  <a:pt x="31" y="141"/>
                </a:lnTo>
                <a:lnTo>
                  <a:pt x="34" y="168"/>
                </a:lnTo>
                <a:lnTo>
                  <a:pt x="38" y="196"/>
                </a:lnTo>
                <a:lnTo>
                  <a:pt x="43" y="225"/>
                </a:lnTo>
                <a:lnTo>
                  <a:pt x="47" y="257"/>
                </a:lnTo>
                <a:lnTo>
                  <a:pt x="54" y="321"/>
                </a:lnTo>
                <a:lnTo>
                  <a:pt x="62" y="388"/>
                </a:lnTo>
                <a:lnTo>
                  <a:pt x="71" y="458"/>
                </a:lnTo>
                <a:lnTo>
                  <a:pt x="78" y="526"/>
                </a:lnTo>
                <a:lnTo>
                  <a:pt x="87" y="594"/>
                </a:lnTo>
                <a:lnTo>
                  <a:pt x="94" y="660"/>
                </a:lnTo>
                <a:lnTo>
                  <a:pt x="103" y="722"/>
                </a:lnTo>
                <a:lnTo>
                  <a:pt x="106" y="751"/>
                </a:lnTo>
                <a:lnTo>
                  <a:pt x="110" y="779"/>
                </a:lnTo>
                <a:lnTo>
                  <a:pt x="113" y="805"/>
                </a:lnTo>
                <a:lnTo>
                  <a:pt x="117" y="830"/>
                </a:lnTo>
                <a:lnTo>
                  <a:pt x="122" y="853"/>
                </a:lnTo>
                <a:lnTo>
                  <a:pt x="125" y="87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45440" y="27828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0" y="0"/>
                </a:moveTo>
                <a:lnTo>
                  <a:pt x="7" y="29"/>
                </a:lnTo>
                <a:lnTo>
                  <a:pt x="14" y="57"/>
                </a:lnTo>
                <a:lnTo>
                  <a:pt x="21" y="82"/>
                </a:lnTo>
                <a:lnTo>
                  <a:pt x="30" y="104"/>
                </a:lnTo>
                <a:lnTo>
                  <a:pt x="37" y="125"/>
                </a:lnTo>
                <a:lnTo>
                  <a:pt x="46" y="145"/>
                </a:lnTo>
                <a:lnTo>
                  <a:pt x="63" y="181"/>
                </a:lnTo>
                <a:lnTo>
                  <a:pt x="70" y="201"/>
                </a:lnTo>
                <a:lnTo>
                  <a:pt x="79" y="222"/>
                </a:lnTo>
                <a:lnTo>
                  <a:pt x="88" y="243"/>
                </a:lnTo>
                <a:lnTo>
                  <a:pt x="95" y="265"/>
                </a:lnTo>
                <a:lnTo>
                  <a:pt x="103" y="291"/>
                </a:lnTo>
                <a:lnTo>
                  <a:pt x="110" y="319"/>
                </a:lnTo>
                <a:lnTo>
                  <a:pt x="117" y="351"/>
                </a:lnTo>
                <a:lnTo>
                  <a:pt x="124" y="3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42360" y="3395520"/>
            <a:ext cx="198360" cy="1714680"/>
          </a:xfrm>
          <a:custGeom>
            <a:avLst/>
            <a:gdLst/>
            <a:ahLst/>
            <a:rect l="l" t="t" r="r" b="b"/>
            <a:pathLst>
              <a:path w="125" h="1080">
                <a:moveTo>
                  <a:pt x="0" y="0"/>
                </a:moveTo>
                <a:lnTo>
                  <a:pt x="4" y="23"/>
                </a:lnTo>
                <a:lnTo>
                  <a:pt x="7" y="49"/>
                </a:lnTo>
                <a:lnTo>
                  <a:pt x="16" y="101"/>
                </a:lnTo>
                <a:lnTo>
                  <a:pt x="23" y="159"/>
                </a:lnTo>
                <a:lnTo>
                  <a:pt x="32" y="222"/>
                </a:lnTo>
                <a:lnTo>
                  <a:pt x="39" y="286"/>
                </a:lnTo>
                <a:lnTo>
                  <a:pt x="48" y="355"/>
                </a:lnTo>
                <a:lnTo>
                  <a:pt x="55" y="425"/>
                </a:lnTo>
                <a:lnTo>
                  <a:pt x="62" y="496"/>
                </a:lnTo>
                <a:lnTo>
                  <a:pt x="70" y="570"/>
                </a:lnTo>
                <a:lnTo>
                  <a:pt x="77" y="645"/>
                </a:lnTo>
                <a:lnTo>
                  <a:pt x="93" y="793"/>
                </a:lnTo>
                <a:lnTo>
                  <a:pt x="102" y="867"/>
                </a:lnTo>
                <a:lnTo>
                  <a:pt x="109" y="940"/>
                </a:lnTo>
                <a:lnTo>
                  <a:pt x="118" y="1012"/>
                </a:lnTo>
                <a:lnTo>
                  <a:pt x="125" y="108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960" y="421632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0" y="0"/>
                </a:moveTo>
                <a:lnTo>
                  <a:pt x="31" y="46"/>
                </a:lnTo>
                <a:lnTo>
                  <a:pt x="61" y="91"/>
                </a:lnTo>
                <a:lnTo>
                  <a:pt x="77" y="114"/>
                </a:lnTo>
                <a:lnTo>
                  <a:pt x="93" y="138"/>
                </a:lnTo>
                <a:lnTo>
                  <a:pt x="108" y="163"/>
                </a:lnTo>
                <a:lnTo>
                  <a:pt x="124" y="19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20880" y="4519440"/>
            <a:ext cx="196560" cy="424080"/>
          </a:xfrm>
          <a:custGeom>
            <a:avLst/>
            <a:gdLst/>
            <a:ahLst/>
            <a:rect l="l" t="t" r="r" b="b"/>
            <a:pathLst>
              <a:path w="124" h="267">
                <a:moveTo>
                  <a:pt x="0" y="0"/>
                </a:moveTo>
                <a:lnTo>
                  <a:pt x="16" y="31"/>
                </a:lnTo>
                <a:lnTo>
                  <a:pt x="31" y="64"/>
                </a:lnTo>
                <a:lnTo>
                  <a:pt x="47" y="101"/>
                </a:lnTo>
                <a:lnTo>
                  <a:pt x="61" y="138"/>
                </a:lnTo>
                <a:lnTo>
                  <a:pt x="77" y="174"/>
                </a:lnTo>
                <a:lnTo>
                  <a:pt x="93" y="209"/>
                </a:lnTo>
                <a:lnTo>
                  <a:pt x="108" y="241"/>
                </a:lnTo>
                <a:lnTo>
                  <a:pt x="117" y="255"/>
                </a:lnTo>
                <a:lnTo>
                  <a:pt x="124" y="26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17440" y="4943520"/>
            <a:ext cx="200160" cy="19188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0"/>
                </a:moveTo>
                <a:lnTo>
                  <a:pt x="16" y="23"/>
                </a:lnTo>
                <a:lnTo>
                  <a:pt x="32" y="42"/>
                </a:lnTo>
                <a:lnTo>
                  <a:pt x="47" y="58"/>
                </a:lnTo>
                <a:lnTo>
                  <a:pt x="63" y="73"/>
                </a:lnTo>
                <a:lnTo>
                  <a:pt x="79" y="86"/>
                </a:lnTo>
                <a:lnTo>
                  <a:pt x="95" y="98"/>
                </a:lnTo>
                <a:lnTo>
                  <a:pt x="126" y="12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7600" y="51354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0" y="0"/>
                </a:moveTo>
                <a:lnTo>
                  <a:pt x="16" y="10"/>
                </a:lnTo>
                <a:lnTo>
                  <a:pt x="31" y="21"/>
                </a:lnTo>
                <a:lnTo>
                  <a:pt x="63" y="36"/>
                </a:lnTo>
                <a:lnTo>
                  <a:pt x="93" y="50"/>
                </a:lnTo>
                <a:lnTo>
                  <a:pt x="124" y="6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4520" y="5235480"/>
            <a:ext cx="196920" cy="60480"/>
          </a:xfrm>
          <a:custGeom>
            <a:avLst/>
            <a:gdLst/>
            <a:ahLst/>
            <a:rect l="l" t="t" r="r" b="b"/>
            <a:pathLst>
              <a:path w="124" h="38">
                <a:moveTo>
                  <a:pt x="0" y="0"/>
                </a:moveTo>
                <a:lnTo>
                  <a:pt x="32" y="12"/>
                </a:lnTo>
                <a:lnTo>
                  <a:pt x="61" y="22"/>
                </a:lnTo>
                <a:lnTo>
                  <a:pt x="93" y="33"/>
                </a:lnTo>
                <a:lnTo>
                  <a:pt x="124" y="3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11440" y="5291280"/>
            <a:ext cx="199800" cy="41040"/>
          </a:xfrm>
          <a:custGeom>
            <a:avLst/>
            <a:gdLst/>
            <a:ahLst/>
            <a:rect l="l" t="t" r="r" b="b"/>
            <a:pathLst>
              <a:path w="126" h="26">
                <a:moveTo>
                  <a:pt x="0" y="3"/>
                </a:moveTo>
                <a:lnTo>
                  <a:pt x="14" y="7"/>
                </a:lnTo>
                <a:lnTo>
                  <a:pt x="30" y="12"/>
                </a:lnTo>
                <a:lnTo>
                  <a:pt x="46" y="17"/>
                </a:lnTo>
                <a:lnTo>
                  <a:pt x="63" y="22"/>
                </a:lnTo>
                <a:lnTo>
                  <a:pt x="81" y="26"/>
                </a:lnTo>
                <a:lnTo>
                  <a:pt x="89" y="24"/>
                </a:lnTo>
                <a:lnTo>
                  <a:pt x="96" y="22"/>
                </a:lnTo>
                <a:lnTo>
                  <a:pt x="105" y="21"/>
                </a:lnTo>
                <a:lnTo>
                  <a:pt x="112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11240" y="4687920"/>
            <a:ext cx="196920" cy="603360"/>
          </a:xfrm>
          <a:custGeom>
            <a:avLst/>
            <a:gdLst/>
            <a:ahLst/>
            <a:rect l="l" t="t" r="r" b="b"/>
            <a:pathLst>
              <a:path w="124" h="380">
                <a:moveTo>
                  <a:pt x="0" y="380"/>
                </a:moveTo>
                <a:lnTo>
                  <a:pt x="7" y="366"/>
                </a:lnTo>
                <a:lnTo>
                  <a:pt x="16" y="350"/>
                </a:lnTo>
                <a:lnTo>
                  <a:pt x="23" y="332"/>
                </a:lnTo>
                <a:lnTo>
                  <a:pt x="31" y="313"/>
                </a:lnTo>
                <a:lnTo>
                  <a:pt x="38" y="290"/>
                </a:lnTo>
                <a:lnTo>
                  <a:pt x="47" y="268"/>
                </a:lnTo>
                <a:lnTo>
                  <a:pt x="54" y="243"/>
                </a:lnTo>
                <a:lnTo>
                  <a:pt x="63" y="217"/>
                </a:lnTo>
                <a:lnTo>
                  <a:pt x="77" y="163"/>
                </a:lnTo>
                <a:lnTo>
                  <a:pt x="93" y="109"/>
                </a:lnTo>
                <a:lnTo>
                  <a:pt x="108" y="5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08160" y="3997440"/>
            <a:ext cx="196920" cy="690480"/>
          </a:xfrm>
          <a:custGeom>
            <a:avLst/>
            <a:gdLst/>
            <a:ahLst/>
            <a:rect l="l" t="t" r="r" b="b"/>
            <a:pathLst>
              <a:path w="124" h="435">
                <a:moveTo>
                  <a:pt x="0" y="435"/>
                </a:moveTo>
                <a:lnTo>
                  <a:pt x="7" y="409"/>
                </a:lnTo>
                <a:lnTo>
                  <a:pt x="16" y="381"/>
                </a:lnTo>
                <a:lnTo>
                  <a:pt x="23" y="351"/>
                </a:lnTo>
                <a:lnTo>
                  <a:pt x="32" y="320"/>
                </a:lnTo>
                <a:lnTo>
                  <a:pt x="47" y="257"/>
                </a:lnTo>
                <a:lnTo>
                  <a:pt x="61" y="194"/>
                </a:lnTo>
                <a:lnTo>
                  <a:pt x="70" y="163"/>
                </a:lnTo>
                <a:lnTo>
                  <a:pt x="77" y="135"/>
                </a:lnTo>
                <a:lnTo>
                  <a:pt x="86" y="107"/>
                </a:lnTo>
                <a:lnTo>
                  <a:pt x="93" y="79"/>
                </a:lnTo>
                <a:lnTo>
                  <a:pt x="101" y="56"/>
                </a:lnTo>
                <a:lnTo>
                  <a:pt x="108" y="33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05080" y="3933720"/>
            <a:ext cx="200160" cy="63720"/>
          </a:xfrm>
          <a:custGeom>
            <a:avLst/>
            <a:gdLst/>
            <a:ahLst/>
            <a:rect l="l" t="t" r="r" b="b"/>
            <a:pathLst>
              <a:path w="126" h="40">
                <a:moveTo>
                  <a:pt x="0" y="40"/>
                </a:moveTo>
                <a:lnTo>
                  <a:pt x="12" y="24"/>
                </a:lnTo>
                <a:lnTo>
                  <a:pt x="28" y="10"/>
                </a:lnTo>
                <a:lnTo>
                  <a:pt x="46" y="3"/>
                </a:lnTo>
                <a:lnTo>
                  <a:pt x="63" y="0"/>
                </a:lnTo>
                <a:lnTo>
                  <a:pt x="81" y="2"/>
                </a:lnTo>
                <a:lnTo>
                  <a:pt x="89" y="5"/>
                </a:lnTo>
                <a:lnTo>
                  <a:pt x="98" y="9"/>
                </a:lnTo>
                <a:lnTo>
                  <a:pt x="107" y="16"/>
                </a:lnTo>
                <a:lnTo>
                  <a:pt x="114" y="23"/>
                </a:lnTo>
                <a:lnTo>
                  <a:pt x="121" y="30"/>
                </a:lnTo>
                <a:lnTo>
                  <a:pt x="126" y="4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05240" y="3997440"/>
            <a:ext cx="196560" cy="776160"/>
          </a:xfrm>
          <a:custGeom>
            <a:avLst/>
            <a:gdLst/>
            <a:ahLst/>
            <a:rect l="l" t="t" r="r" b="b"/>
            <a:pathLst>
              <a:path w="124" h="489">
                <a:moveTo>
                  <a:pt x="0" y="0"/>
                </a:moveTo>
                <a:lnTo>
                  <a:pt x="7" y="18"/>
                </a:lnTo>
                <a:lnTo>
                  <a:pt x="16" y="39"/>
                </a:lnTo>
                <a:lnTo>
                  <a:pt x="23" y="65"/>
                </a:lnTo>
                <a:lnTo>
                  <a:pt x="32" y="93"/>
                </a:lnTo>
                <a:lnTo>
                  <a:pt x="38" y="122"/>
                </a:lnTo>
                <a:lnTo>
                  <a:pt x="47" y="156"/>
                </a:lnTo>
                <a:lnTo>
                  <a:pt x="54" y="189"/>
                </a:lnTo>
                <a:lnTo>
                  <a:pt x="63" y="226"/>
                </a:lnTo>
                <a:lnTo>
                  <a:pt x="77" y="297"/>
                </a:lnTo>
                <a:lnTo>
                  <a:pt x="86" y="332"/>
                </a:lnTo>
                <a:lnTo>
                  <a:pt x="93" y="367"/>
                </a:lnTo>
                <a:lnTo>
                  <a:pt x="101" y="402"/>
                </a:lnTo>
                <a:lnTo>
                  <a:pt x="108" y="434"/>
                </a:lnTo>
                <a:lnTo>
                  <a:pt x="117" y="463"/>
                </a:lnTo>
                <a:lnTo>
                  <a:pt x="124" y="48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01800" y="4773600"/>
            <a:ext cx="196920" cy="503280"/>
          </a:xfrm>
          <a:custGeom>
            <a:avLst/>
            <a:gdLst/>
            <a:ahLst/>
            <a:rect l="l" t="t" r="r" b="b"/>
            <a:pathLst>
              <a:path w="124" h="317">
                <a:moveTo>
                  <a:pt x="0" y="0"/>
                </a:moveTo>
                <a:lnTo>
                  <a:pt x="16" y="51"/>
                </a:lnTo>
                <a:lnTo>
                  <a:pt x="32" y="102"/>
                </a:lnTo>
                <a:lnTo>
                  <a:pt x="47" y="151"/>
                </a:lnTo>
                <a:lnTo>
                  <a:pt x="61" y="196"/>
                </a:lnTo>
                <a:lnTo>
                  <a:pt x="70" y="217"/>
                </a:lnTo>
                <a:lnTo>
                  <a:pt x="77" y="236"/>
                </a:lnTo>
                <a:lnTo>
                  <a:pt x="86" y="256"/>
                </a:lnTo>
                <a:lnTo>
                  <a:pt x="93" y="271"/>
                </a:lnTo>
                <a:lnTo>
                  <a:pt x="102" y="287"/>
                </a:lnTo>
                <a:lnTo>
                  <a:pt x="109" y="299"/>
                </a:lnTo>
                <a:lnTo>
                  <a:pt x="117" y="310"/>
                </a:lnTo>
                <a:lnTo>
                  <a:pt x="124" y="31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8720" y="5095800"/>
            <a:ext cx="200160" cy="19224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114"/>
                </a:moveTo>
                <a:lnTo>
                  <a:pt x="7" y="119"/>
                </a:lnTo>
                <a:lnTo>
                  <a:pt x="16" y="121"/>
                </a:lnTo>
                <a:lnTo>
                  <a:pt x="23" y="119"/>
                </a:lnTo>
                <a:lnTo>
                  <a:pt x="32" y="116"/>
                </a:lnTo>
                <a:lnTo>
                  <a:pt x="39" y="110"/>
                </a:lnTo>
                <a:lnTo>
                  <a:pt x="47" y="103"/>
                </a:lnTo>
                <a:lnTo>
                  <a:pt x="54" y="95"/>
                </a:lnTo>
                <a:lnTo>
                  <a:pt x="63" y="86"/>
                </a:lnTo>
                <a:lnTo>
                  <a:pt x="79" y="63"/>
                </a:lnTo>
                <a:lnTo>
                  <a:pt x="95" y="40"/>
                </a:lnTo>
                <a:lnTo>
                  <a:pt x="110" y="18"/>
                </a:lnTo>
                <a:lnTo>
                  <a:pt x="119" y="9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98880" y="487692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0" y="138"/>
                </a:moveTo>
                <a:lnTo>
                  <a:pt x="16" y="121"/>
                </a:lnTo>
                <a:lnTo>
                  <a:pt x="32" y="103"/>
                </a:lnTo>
                <a:lnTo>
                  <a:pt x="63" y="65"/>
                </a:lnTo>
                <a:lnTo>
                  <a:pt x="77" y="46"/>
                </a:lnTo>
                <a:lnTo>
                  <a:pt x="93" y="28"/>
                </a:lnTo>
                <a:lnTo>
                  <a:pt x="108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95800" y="4805280"/>
            <a:ext cx="196560" cy="71640"/>
          </a:xfrm>
          <a:custGeom>
            <a:avLst/>
            <a:gdLst/>
            <a:ahLst/>
            <a:rect l="l" t="t" r="r" b="b"/>
            <a:pathLst>
              <a:path w="124" h="45">
                <a:moveTo>
                  <a:pt x="0" y="45"/>
                </a:moveTo>
                <a:lnTo>
                  <a:pt x="16" y="35"/>
                </a:lnTo>
                <a:lnTo>
                  <a:pt x="32" y="24"/>
                </a:lnTo>
                <a:lnTo>
                  <a:pt x="47" y="17"/>
                </a:lnTo>
                <a:lnTo>
                  <a:pt x="61" y="10"/>
                </a:lnTo>
                <a:lnTo>
                  <a:pt x="77" y="5"/>
                </a:lnTo>
                <a:lnTo>
                  <a:pt x="93" y="1"/>
                </a:lnTo>
                <a:lnTo>
                  <a:pt x="109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2360" y="4805280"/>
            <a:ext cx="200160" cy="10800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lnTo>
                  <a:pt x="16" y="3"/>
                </a:lnTo>
                <a:lnTo>
                  <a:pt x="32" y="10"/>
                </a:lnTo>
                <a:lnTo>
                  <a:pt x="47" y="21"/>
                </a:lnTo>
                <a:lnTo>
                  <a:pt x="63" y="31"/>
                </a:lnTo>
                <a:lnTo>
                  <a:pt x="79" y="43"/>
                </a:lnTo>
                <a:lnTo>
                  <a:pt x="95" y="54"/>
                </a:lnTo>
                <a:lnTo>
                  <a:pt x="110" y="63"/>
                </a:lnTo>
                <a:lnTo>
                  <a:pt x="126" y="6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92520" y="4906800"/>
            <a:ext cx="196920" cy="11160"/>
          </a:xfrm>
          <a:custGeom>
            <a:avLst/>
            <a:gdLst/>
            <a:ahLst/>
            <a:rect l="l" t="t" r="r" b="b"/>
            <a:pathLst>
              <a:path w="124" h="7">
                <a:moveTo>
                  <a:pt x="0" y="4"/>
                </a:moveTo>
                <a:lnTo>
                  <a:pt x="16" y="7"/>
                </a:lnTo>
                <a:lnTo>
                  <a:pt x="32" y="7"/>
                </a:lnTo>
                <a:lnTo>
                  <a:pt x="47" y="7"/>
                </a:lnTo>
                <a:lnTo>
                  <a:pt x="63" y="6"/>
                </a:lnTo>
                <a:lnTo>
                  <a:pt x="93" y="2"/>
                </a:lnTo>
                <a:lnTo>
                  <a:pt x="108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89440" y="4906800"/>
            <a:ext cx="196920" cy="25560"/>
          </a:xfrm>
          <a:custGeom>
            <a:avLst/>
            <a:gdLst/>
            <a:ahLst/>
            <a:rect l="l" t="t" r="r" b="b"/>
            <a:pathLst>
              <a:path w="124" h="16">
                <a:moveTo>
                  <a:pt x="0" y="0"/>
                </a:moveTo>
                <a:lnTo>
                  <a:pt x="16" y="2"/>
                </a:lnTo>
                <a:lnTo>
                  <a:pt x="32" y="4"/>
                </a:lnTo>
                <a:lnTo>
                  <a:pt x="61" y="11"/>
                </a:lnTo>
                <a:lnTo>
                  <a:pt x="93" y="16"/>
                </a:lnTo>
                <a:lnTo>
                  <a:pt x="109" y="16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86360" y="4861080"/>
            <a:ext cx="199800" cy="71280"/>
          </a:xfrm>
          <a:custGeom>
            <a:avLst/>
            <a:gdLst/>
            <a:ahLst/>
            <a:rect l="l" t="t" r="r" b="b"/>
            <a:pathLst>
              <a:path w="126" h="45">
                <a:moveTo>
                  <a:pt x="0" y="45"/>
                </a:moveTo>
                <a:lnTo>
                  <a:pt x="32" y="43"/>
                </a:lnTo>
                <a:lnTo>
                  <a:pt x="48" y="42"/>
                </a:lnTo>
                <a:lnTo>
                  <a:pt x="63" y="38"/>
                </a:lnTo>
                <a:lnTo>
                  <a:pt x="79" y="35"/>
                </a:lnTo>
                <a:lnTo>
                  <a:pt x="95" y="26"/>
                </a:lnTo>
                <a:lnTo>
                  <a:pt x="110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86160" y="4471920"/>
            <a:ext cx="196920" cy="38916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0" y="245"/>
                </a:moveTo>
                <a:lnTo>
                  <a:pt x="7" y="234"/>
                </a:lnTo>
                <a:lnTo>
                  <a:pt x="16" y="222"/>
                </a:lnTo>
                <a:lnTo>
                  <a:pt x="23" y="210"/>
                </a:lnTo>
                <a:lnTo>
                  <a:pt x="32" y="194"/>
                </a:lnTo>
                <a:lnTo>
                  <a:pt x="47" y="161"/>
                </a:lnTo>
                <a:lnTo>
                  <a:pt x="61" y="126"/>
                </a:lnTo>
                <a:lnTo>
                  <a:pt x="77" y="89"/>
                </a:lnTo>
                <a:lnTo>
                  <a:pt x="93" y="56"/>
                </a:lnTo>
                <a:lnTo>
                  <a:pt x="102" y="40"/>
                </a:lnTo>
                <a:lnTo>
                  <a:pt x="109" y="24"/>
                </a:lnTo>
                <a:lnTo>
                  <a:pt x="117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83080" y="431640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0" y="98"/>
                </a:moveTo>
                <a:lnTo>
                  <a:pt x="16" y="77"/>
                </a:lnTo>
                <a:lnTo>
                  <a:pt x="32" y="60"/>
                </a:lnTo>
                <a:lnTo>
                  <a:pt x="47" y="42"/>
                </a:lnTo>
                <a:lnTo>
                  <a:pt x="63" y="28"/>
                </a:lnTo>
                <a:lnTo>
                  <a:pt x="79" y="18"/>
                </a:lnTo>
                <a:lnTo>
                  <a:pt x="95" y="9"/>
                </a:lnTo>
                <a:lnTo>
                  <a:pt x="110" y="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240" y="4316400"/>
            <a:ext cx="196560" cy="13032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0"/>
                </a:moveTo>
                <a:lnTo>
                  <a:pt x="16" y="2"/>
                </a:lnTo>
                <a:lnTo>
                  <a:pt x="32" y="5"/>
                </a:lnTo>
                <a:lnTo>
                  <a:pt x="47" y="14"/>
                </a:lnTo>
                <a:lnTo>
                  <a:pt x="63" y="25"/>
                </a:lnTo>
                <a:lnTo>
                  <a:pt x="77" y="37"/>
                </a:lnTo>
                <a:lnTo>
                  <a:pt x="93" y="53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9800" y="4446720"/>
            <a:ext cx="196920" cy="26172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16" y="18"/>
                </a:lnTo>
                <a:lnTo>
                  <a:pt x="32" y="39"/>
                </a:lnTo>
                <a:lnTo>
                  <a:pt x="47" y="63"/>
                </a:lnTo>
                <a:lnTo>
                  <a:pt x="61" y="88"/>
                </a:lnTo>
                <a:lnTo>
                  <a:pt x="77" y="112"/>
                </a:lnTo>
                <a:lnTo>
                  <a:pt x="93" y="133"/>
                </a:lnTo>
                <a:lnTo>
                  <a:pt x="109" y="152"/>
                </a:lnTo>
                <a:lnTo>
                  <a:pt x="117" y="159"/>
                </a:lnTo>
                <a:lnTo>
                  <a:pt x="124" y="1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76720" y="4702320"/>
            <a:ext cx="200160" cy="298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0" y="4"/>
                </a:moveTo>
                <a:lnTo>
                  <a:pt x="16" y="12"/>
                </a:lnTo>
                <a:lnTo>
                  <a:pt x="32" y="18"/>
                </a:lnTo>
                <a:lnTo>
                  <a:pt x="47" y="19"/>
                </a:lnTo>
                <a:lnTo>
                  <a:pt x="63" y="19"/>
                </a:lnTo>
                <a:lnTo>
                  <a:pt x="79" y="18"/>
                </a:lnTo>
                <a:lnTo>
                  <a:pt x="95" y="14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76880" y="4508640"/>
            <a:ext cx="196920" cy="193680"/>
          </a:xfrm>
          <a:custGeom>
            <a:avLst/>
            <a:gdLst/>
            <a:ahLst/>
            <a:rect l="l" t="t" r="r" b="b"/>
            <a:pathLst>
              <a:path w="124" h="122">
                <a:moveTo>
                  <a:pt x="0" y="122"/>
                </a:moveTo>
                <a:lnTo>
                  <a:pt x="7" y="117"/>
                </a:lnTo>
                <a:lnTo>
                  <a:pt x="16" y="112"/>
                </a:lnTo>
                <a:lnTo>
                  <a:pt x="32" y="94"/>
                </a:lnTo>
                <a:lnTo>
                  <a:pt x="47" y="75"/>
                </a:lnTo>
                <a:lnTo>
                  <a:pt x="63" y="54"/>
                </a:lnTo>
                <a:lnTo>
                  <a:pt x="77" y="35"/>
                </a:lnTo>
                <a:lnTo>
                  <a:pt x="93" y="17"/>
                </a:lnTo>
                <a:lnTo>
                  <a:pt x="102" y="10"/>
                </a:lnTo>
                <a:lnTo>
                  <a:pt x="109" y="5"/>
                </a:lnTo>
                <a:lnTo>
                  <a:pt x="117" y="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473800" y="4508640"/>
            <a:ext cx="196920" cy="160200"/>
          </a:xfrm>
          <a:custGeom>
            <a:avLst/>
            <a:gdLst/>
            <a:ahLst/>
            <a:rect l="l" t="t" r="r" b="b"/>
            <a:pathLst>
              <a:path w="124" h="101">
                <a:moveTo>
                  <a:pt x="0" y="0"/>
                </a:moveTo>
                <a:lnTo>
                  <a:pt x="7" y="0"/>
                </a:lnTo>
                <a:lnTo>
                  <a:pt x="16" y="1"/>
                </a:lnTo>
                <a:lnTo>
                  <a:pt x="23" y="5"/>
                </a:lnTo>
                <a:lnTo>
                  <a:pt x="32" y="8"/>
                </a:lnTo>
                <a:lnTo>
                  <a:pt x="47" y="21"/>
                </a:lnTo>
                <a:lnTo>
                  <a:pt x="61" y="36"/>
                </a:lnTo>
                <a:lnTo>
                  <a:pt x="77" y="52"/>
                </a:lnTo>
                <a:lnTo>
                  <a:pt x="93" y="70"/>
                </a:lnTo>
                <a:lnTo>
                  <a:pt x="109" y="87"/>
                </a:lnTo>
                <a:lnTo>
                  <a:pt x="124" y="10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70720" y="4668840"/>
            <a:ext cx="199800" cy="182520"/>
          </a:xfrm>
          <a:custGeom>
            <a:avLst/>
            <a:gdLst/>
            <a:ahLst/>
            <a:rect l="l" t="t" r="r" b="b"/>
            <a:pathLst>
              <a:path w="126" h="115">
                <a:moveTo>
                  <a:pt x="0" y="0"/>
                </a:moveTo>
                <a:lnTo>
                  <a:pt x="16" y="14"/>
                </a:lnTo>
                <a:lnTo>
                  <a:pt x="32" y="30"/>
                </a:lnTo>
                <a:lnTo>
                  <a:pt x="63" y="63"/>
                </a:lnTo>
                <a:lnTo>
                  <a:pt x="79" y="79"/>
                </a:lnTo>
                <a:lnTo>
                  <a:pt x="95" y="93"/>
                </a:lnTo>
                <a:lnTo>
                  <a:pt x="110" y="105"/>
                </a:lnTo>
                <a:lnTo>
                  <a:pt x="126" y="11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70520" y="4851360"/>
            <a:ext cx="196920" cy="36720"/>
          </a:xfrm>
          <a:custGeom>
            <a:avLst/>
            <a:gdLst/>
            <a:ahLst/>
            <a:rect l="l" t="t" r="r" b="b"/>
            <a:pathLst>
              <a:path w="124" h="23">
                <a:moveTo>
                  <a:pt x="0" y="0"/>
                </a:moveTo>
                <a:lnTo>
                  <a:pt x="16" y="7"/>
                </a:lnTo>
                <a:lnTo>
                  <a:pt x="32" y="14"/>
                </a:lnTo>
                <a:lnTo>
                  <a:pt x="47" y="18"/>
                </a:lnTo>
                <a:lnTo>
                  <a:pt x="63" y="21"/>
                </a:lnTo>
                <a:lnTo>
                  <a:pt x="77" y="23"/>
                </a:lnTo>
                <a:lnTo>
                  <a:pt x="93" y="21"/>
                </a:lnTo>
                <a:lnTo>
                  <a:pt x="109" y="20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67440" y="4732200"/>
            <a:ext cx="196920" cy="144720"/>
          </a:xfrm>
          <a:custGeom>
            <a:avLst/>
            <a:gdLst/>
            <a:ahLst/>
            <a:rect l="l" t="t" r="r" b="b"/>
            <a:pathLst>
              <a:path w="124" h="91">
                <a:moveTo>
                  <a:pt x="0" y="91"/>
                </a:moveTo>
                <a:lnTo>
                  <a:pt x="7" y="88"/>
                </a:lnTo>
                <a:lnTo>
                  <a:pt x="16" y="84"/>
                </a:lnTo>
                <a:lnTo>
                  <a:pt x="32" y="72"/>
                </a:lnTo>
                <a:lnTo>
                  <a:pt x="47" y="58"/>
                </a:lnTo>
                <a:lnTo>
                  <a:pt x="61" y="44"/>
                </a:lnTo>
                <a:lnTo>
                  <a:pt x="77" y="28"/>
                </a:lnTo>
                <a:lnTo>
                  <a:pt x="93" y="16"/>
                </a:lnTo>
                <a:lnTo>
                  <a:pt x="109" y="5"/>
                </a:lnTo>
                <a:lnTo>
                  <a:pt x="117" y="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64360" y="473220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0"/>
                </a:moveTo>
                <a:lnTo>
                  <a:pt x="16" y="0"/>
                </a:lnTo>
                <a:lnTo>
                  <a:pt x="32" y="2"/>
                </a:lnTo>
                <a:lnTo>
                  <a:pt x="48" y="7"/>
                </a:lnTo>
                <a:lnTo>
                  <a:pt x="63" y="16"/>
                </a:lnTo>
                <a:lnTo>
                  <a:pt x="95" y="33"/>
                </a:lnTo>
                <a:lnTo>
                  <a:pt x="110" y="42"/>
                </a:lnTo>
                <a:lnTo>
                  <a:pt x="126" y="4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464160" y="4809960"/>
            <a:ext cx="196920" cy="95400"/>
          </a:xfrm>
          <a:custGeom>
            <a:avLst/>
            <a:gdLst/>
            <a:ahLst/>
            <a:rect l="l" t="t" r="r" b="b"/>
            <a:pathLst>
              <a:path w="124" h="60">
                <a:moveTo>
                  <a:pt x="0" y="0"/>
                </a:moveTo>
                <a:lnTo>
                  <a:pt x="16" y="9"/>
                </a:lnTo>
                <a:lnTo>
                  <a:pt x="32" y="18"/>
                </a:lnTo>
                <a:lnTo>
                  <a:pt x="47" y="30"/>
                </a:lnTo>
                <a:lnTo>
                  <a:pt x="63" y="40"/>
                </a:lnTo>
                <a:lnTo>
                  <a:pt x="77" y="49"/>
                </a:lnTo>
                <a:lnTo>
                  <a:pt x="93" y="56"/>
                </a:lnTo>
                <a:lnTo>
                  <a:pt x="109" y="60"/>
                </a:lnTo>
                <a:lnTo>
                  <a:pt x="117" y="60"/>
                </a:lnTo>
                <a:lnTo>
                  <a:pt x="124" y="5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1080" y="4702320"/>
            <a:ext cx="19692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126"/>
                </a:moveTo>
                <a:lnTo>
                  <a:pt x="7" y="122"/>
                </a:lnTo>
                <a:lnTo>
                  <a:pt x="16" y="119"/>
                </a:lnTo>
                <a:lnTo>
                  <a:pt x="32" y="108"/>
                </a:lnTo>
                <a:lnTo>
                  <a:pt x="48" y="93"/>
                </a:lnTo>
                <a:lnTo>
                  <a:pt x="62" y="75"/>
                </a:lnTo>
                <a:lnTo>
                  <a:pt x="77" y="56"/>
                </a:lnTo>
                <a:lnTo>
                  <a:pt x="93" y="37"/>
                </a:lnTo>
                <a:lnTo>
                  <a:pt x="109" y="18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4471920"/>
            <a:ext cx="20016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0" y="145"/>
                </a:moveTo>
                <a:lnTo>
                  <a:pt x="16" y="128"/>
                </a:lnTo>
                <a:lnTo>
                  <a:pt x="32" y="108"/>
                </a:lnTo>
                <a:lnTo>
                  <a:pt x="63" y="70"/>
                </a:lnTo>
                <a:lnTo>
                  <a:pt x="95" y="33"/>
                </a:lnTo>
                <a:lnTo>
                  <a:pt x="111" y="1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58160" y="4322880"/>
            <a:ext cx="19656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94"/>
                </a:moveTo>
                <a:lnTo>
                  <a:pt x="32" y="66"/>
                </a:lnTo>
                <a:lnTo>
                  <a:pt x="63" y="40"/>
                </a:lnTo>
                <a:lnTo>
                  <a:pt x="93" y="19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54720" y="4257720"/>
            <a:ext cx="196920" cy="65160"/>
          </a:xfrm>
          <a:custGeom>
            <a:avLst/>
            <a:gdLst/>
            <a:ahLst/>
            <a:rect l="l" t="t" r="r" b="b"/>
            <a:pathLst>
              <a:path w="124" h="41">
                <a:moveTo>
                  <a:pt x="0" y="41"/>
                </a:moveTo>
                <a:lnTo>
                  <a:pt x="4" y="39"/>
                </a:lnTo>
                <a:lnTo>
                  <a:pt x="11" y="39"/>
                </a:lnTo>
                <a:lnTo>
                  <a:pt x="25" y="39"/>
                </a:lnTo>
                <a:lnTo>
                  <a:pt x="42" y="41"/>
                </a:lnTo>
                <a:lnTo>
                  <a:pt x="62" y="41"/>
                </a:lnTo>
                <a:lnTo>
                  <a:pt x="83" y="39"/>
                </a:lnTo>
                <a:lnTo>
                  <a:pt x="91" y="35"/>
                </a:lnTo>
                <a:lnTo>
                  <a:pt x="100" y="32"/>
                </a:lnTo>
                <a:lnTo>
                  <a:pt x="109" y="27"/>
                </a:lnTo>
                <a:lnTo>
                  <a:pt x="114" y="20"/>
                </a:lnTo>
                <a:lnTo>
                  <a:pt x="121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51640" y="2940120"/>
            <a:ext cx="200160" cy="1317600"/>
          </a:xfrm>
          <a:custGeom>
            <a:avLst/>
            <a:gdLst/>
            <a:ahLst/>
            <a:rect l="l" t="t" r="r" b="b"/>
            <a:pathLst>
              <a:path w="126" h="830">
                <a:moveTo>
                  <a:pt x="0" y="830"/>
                </a:moveTo>
                <a:lnTo>
                  <a:pt x="4" y="816"/>
                </a:lnTo>
                <a:lnTo>
                  <a:pt x="7" y="799"/>
                </a:lnTo>
                <a:lnTo>
                  <a:pt x="13" y="781"/>
                </a:lnTo>
                <a:lnTo>
                  <a:pt x="16" y="762"/>
                </a:lnTo>
                <a:lnTo>
                  <a:pt x="20" y="741"/>
                </a:lnTo>
                <a:lnTo>
                  <a:pt x="23" y="719"/>
                </a:lnTo>
                <a:lnTo>
                  <a:pt x="32" y="671"/>
                </a:lnTo>
                <a:lnTo>
                  <a:pt x="39" y="619"/>
                </a:lnTo>
                <a:lnTo>
                  <a:pt x="48" y="563"/>
                </a:lnTo>
                <a:lnTo>
                  <a:pt x="55" y="505"/>
                </a:lnTo>
                <a:lnTo>
                  <a:pt x="63" y="446"/>
                </a:lnTo>
                <a:lnTo>
                  <a:pt x="79" y="324"/>
                </a:lnTo>
                <a:lnTo>
                  <a:pt x="88" y="264"/>
                </a:lnTo>
                <a:lnTo>
                  <a:pt x="95" y="205"/>
                </a:lnTo>
                <a:lnTo>
                  <a:pt x="104" y="149"/>
                </a:lnTo>
                <a:lnTo>
                  <a:pt x="111" y="95"/>
                </a:lnTo>
                <a:lnTo>
                  <a:pt x="118" y="46"/>
                </a:lnTo>
                <a:lnTo>
                  <a:pt x="123" y="21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651800" y="2100240"/>
            <a:ext cx="196920" cy="839880"/>
          </a:xfrm>
          <a:custGeom>
            <a:avLst/>
            <a:gdLst/>
            <a:ahLst/>
            <a:rect l="l" t="t" r="r" b="b"/>
            <a:pathLst>
              <a:path w="124" h="529">
                <a:moveTo>
                  <a:pt x="0" y="529"/>
                </a:moveTo>
                <a:lnTo>
                  <a:pt x="7" y="487"/>
                </a:lnTo>
                <a:lnTo>
                  <a:pt x="16" y="447"/>
                </a:lnTo>
                <a:lnTo>
                  <a:pt x="23" y="409"/>
                </a:lnTo>
                <a:lnTo>
                  <a:pt x="32" y="372"/>
                </a:lnTo>
                <a:lnTo>
                  <a:pt x="48" y="302"/>
                </a:lnTo>
                <a:lnTo>
                  <a:pt x="63" y="236"/>
                </a:lnTo>
                <a:lnTo>
                  <a:pt x="77" y="173"/>
                </a:lnTo>
                <a:lnTo>
                  <a:pt x="93" y="113"/>
                </a:lnTo>
                <a:lnTo>
                  <a:pt x="109" y="5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48720" y="1506600"/>
            <a:ext cx="198360" cy="59364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0" y="374"/>
                </a:moveTo>
                <a:lnTo>
                  <a:pt x="7" y="344"/>
                </a:lnTo>
                <a:lnTo>
                  <a:pt x="16" y="313"/>
                </a:lnTo>
                <a:lnTo>
                  <a:pt x="32" y="248"/>
                </a:lnTo>
                <a:lnTo>
                  <a:pt x="48" y="181"/>
                </a:lnTo>
                <a:lnTo>
                  <a:pt x="55" y="150"/>
                </a:lnTo>
                <a:lnTo>
                  <a:pt x="62" y="120"/>
                </a:lnTo>
                <a:lnTo>
                  <a:pt x="70" y="92"/>
                </a:lnTo>
                <a:lnTo>
                  <a:pt x="77" y="66"/>
                </a:lnTo>
                <a:lnTo>
                  <a:pt x="86" y="45"/>
                </a:lnTo>
                <a:lnTo>
                  <a:pt x="93" y="26"/>
                </a:lnTo>
                <a:lnTo>
                  <a:pt x="102" y="12"/>
                </a:lnTo>
                <a:lnTo>
                  <a:pt x="105" y="7"/>
                </a:lnTo>
                <a:lnTo>
                  <a:pt x="109" y="3"/>
                </a:lnTo>
                <a:lnTo>
                  <a:pt x="112" y="1"/>
                </a:lnTo>
                <a:lnTo>
                  <a:pt x="118" y="0"/>
                </a:lnTo>
                <a:lnTo>
                  <a:pt x="121" y="1"/>
                </a:lnTo>
                <a:lnTo>
                  <a:pt x="125" y="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47080" y="1511280"/>
            <a:ext cx="198360" cy="897120"/>
          </a:xfrm>
          <a:custGeom>
            <a:avLst/>
            <a:gdLst/>
            <a:ahLst/>
            <a:rect l="l" t="t" r="r" b="b"/>
            <a:pathLst>
              <a:path w="125" h="565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12" y="18"/>
                </a:lnTo>
                <a:lnTo>
                  <a:pt x="15" y="28"/>
                </a:lnTo>
                <a:lnTo>
                  <a:pt x="19" y="39"/>
                </a:lnTo>
                <a:lnTo>
                  <a:pt x="22" y="51"/>
                </a:lnTo>
                <a:lnTo>
                  <a:pt x="27" y="67"/>
                </a:lnTo>
                <a:lnTo>
                  <a:pt x="31" y="81"/>
                </a:lnTo>
                <a:lnTo>
                  <a:pt x="38" y="116"/>
                </a:lnTo>
                <a:lnTo>
                  <a:pt x="47" y="154"/>
                </a:lnTo>
                <a:lnTo>
                  <a:pt x="54" y="196"/>
                </a:lnTo>
                <a:lnTo>
                  <a:pt x="62" y="240"/>
                </a:lnTo>
                <a:lnTo>
                  <a:pt x="71" y="283"/>
                </a:lnTo>
                <a:lnTo>
                  <a:pt x="78" y="329"/>
                </a:lnTo>
                <a:lnTo>
                  <a:pt x="87" y="374"/>
                </a:lnTo>
                <a:lnTo>
                  <a:pt x="94" y="418"/>
                </a:lnTo>
                <a:lnTo>
                  <a:pt x="103" y="460"/>
                </a:lnTo>
                <a:lnTo>
                  <a:pt x="110" y="500"/>
                </a:lnTo>
                <a:lnTo>
                  <a:pt x="117" y="535"/>
                </a:lnTo>
                <a:lnTo>
                  <a:pt x="122" y="551"/>
                </a:lnTo>
                <a:lnTo>
                  <a:pt x="125" y="5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245440" y="2408400"/>
            <a:ext cx="196920" cy="515880"/>
          </a:xfrm>
          <a:custGeom>
            <a:avLst/>
            <a:gdLst/>
            <a:ahLst/>
            <a:rect l="l" t="t" r="r" b="b"/>
            <a:pathLst>
              <a:path w="124" h="325">
                <a:moveTo>
                  <a:pt x="0" y="0"/>
                </a:moveTo>
                <a:lnTo>
                  <a:pt x="7" y="26"/>
                </a:lnTo>
                <a:lnTo>
                  <a:pt x="16" y="50"/>
                </a:lnTo>
                <a:lnTo>
                  <a:pt x="23" y="73"/>
                </a:lnTo>
                <a:lnTo>
                  <a:pt x="32" y="94"/>
                </a:lnTo>
                <a:lnTo>
                  <a:pt x="48" y="133"/>
                </a:lnTo>
                <a:lnTo>
                  <a:pt x="63" y="169"/>
                </a:lnTo>
                <a:lnTo>
                  <a:pt x="77" y="204"/>
                </a:lnTo>
                <a:lnTo>
                  <a:pt x="93" y="239"/>
                </a:lnTo>
                <a:lnTo>
                  <a:pt x="102" y="258"/>
                </a:lnTo>
                <a:lnTo>
                  <a:pt x="109" y="279"/>
                </a:lnTo>
                <a:lnTo>
                  <a:pt x="117" y="302"/>
                </a:lnTo>
                <a:lnTo>
                  <a:pt x="124" y="32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42360" y="2924280"/>
            <a:ext cx="198360" cy="728640"/>
          </a:xfrm>
          <a:custGeom>
            <a:avLst/>
            <a:gdLst/>
            <a:ahLst/>
            <a:rect l="l" t="t" r="r" b="b"/>
            <a:pathLst>
              <a:path w="125" h="459">
                <a:moveTo>
                  <a:pt x="0" y="0"/>
                </a:moveTo>
                <a:lnTo>
                  <a:pt x="16" y="50"/>
                </a:lnTo>
                <a:lnTo>
                  <a:pt x="32" y="105"/>
                </a:lnTo>
                <a:lnTo>
                  <a:pt x="48" y="162"/>
                </a:lnTo>
                <a:lnTo>
                  <a:pt x="62" y="222"/>
                </a:lnTo>
                <a:lnTo>
                  <a:pt x="93" y="341"/>
                </a:lnTo>
                <a:lnTo>
                  <a:pt x="109" y="402"/>
                </a:lnTo>
                <a:lnTo>
                  <a:pt x="125" y="45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080" y="554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6080" y="50734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0840" y="4602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280" y="412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5280" y="365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82320" y="3184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2320" y="2712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232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2320" y="176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232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128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19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368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1620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1648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8184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9112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9140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65676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6604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663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841960" y="5545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841960" y="493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802360" y="433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802360" y="3722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802360" y="31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802360" y="250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802360" y="1903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80236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548000" y="1600200"/>
            <a:ext cx="621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66ff33"/>
                </a:solidFill>
                <a:latin typeface="Arial"/>
              </a:rPr>
              <a:t>Exchange Rate Depreciation accumulated in 3 months in t-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66ff33"/>
                </a:solidFill>
                <a:latin typeface="Arial"/>
              </a:rPr>
              <a:t>Lef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66880" y="5502240"/>
            <a:ext cx="5334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Accumulated Inflation in 3 months, ann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ffff00"/>
                </a:solidFill>
                <a:latin typeface="Arial"/>
              </a:rPr>
              <a:t>Righ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447920" y="2438280"/>
            <a:ext cx="761760" cy="0"/>
          </a:xfrm>
          <a:prstGeom prst="line">
            <a:avLst/>
          </a:prstGeom>
          <a:ln w="0">
            <a:solidFill>
              <a:srgbClr val="66ff33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5029200"/>
            <a:ext cx="685800" cy="0"/>
          </a:xfrm>
          <a:prstGeom prst="line">
            <a:avLst/>
          </a:prstGeom>
          <a:ln w="0">
            <a:solidFill>
              <a:srgbClr val="ffff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cursive estimate: Change in the pass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1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219320" y="1751040"/>
            <a:ext cx="7315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3048120" y="838080"/>
            <a:ext cx="609588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6520" y="2438280"/>
            <a:ext cx="52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r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,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46120" y="2251080"/>
            <a:ext cx="546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z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,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00960" y="2743200"/>
            <a:ext cx="685800" cy="533520"/>
          </a:xfrm>
          <a:prstGeom prst="line">
            <a:avLst/>
          </a:prstGeom>
          <a:ln w="0">
            <a:solidFill>
              <a:srgbClr val="ffffff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259920" y="29433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34160" y="2166840"/>
            <a:ext cx="762120" cy="576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244520" y="2219400"/>
            <a:ext cx="874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2000" y="2219400"/>
            <a:ext cx="73080" cy="1746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05080" y="2394000"/>
            <a:ext cx="87120" cy="176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92200" y="2570040"/>
            <a:ext cx="87480" cy="203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79680" y="2773440"/>
            <a:ext cx="8712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66800" y="2919240"/>
            <a:ext cx="87480" cy="174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4280" y="3094200"/>
            <a:ext cx="730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27360" y="3181320"/>
            <a:ext cx="8712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14480" y="32986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01960" y="3444840"/>
            <a:ext cx="87120" cy="1602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89080" y="3605040"/>
            <a:ext cx="730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62160" y="375120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249640" y="3765600"/>
            <a:ext cx="889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338560" y="380844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25680" y="38084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13160" y="3867120"/>
            <a:ext cx="72720" cy="1033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85880" y="3970440"/>
            <a:ext cx="874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73360" y="4057560"/>
            <a:ext cx="8748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17348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960" y="423216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21040" y="424656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08160" y="424656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95640" y="427500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82760" y="4275000"/>
            <a:ext cx="87480" cy="59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0240" y="4334040"/>
            <a:ext cx="730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43320" y="4348080"/>
            <a:ext cx="8712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30440" y="4363920"/>
            <a:ext cx="8892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519360" y="443556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06840" y="4435560"/>
            <a:ext cx="730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79920" y="4494240"/>
            <a:ext cx="8712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67040" y="4538520"/>
            <a:ext cx="8748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54520" y="4611600"/>
            <a:ext cx="87120" cy="28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41640" y="464040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029120" y="4668840"/>
            <a:ext cx="730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02200" y="4699080"/>
            <a:ext cx="8712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89320" y="471312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76800" y="4640400"/>
            <a:ext cx="87120" cy="72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363920" y="4552560"/>
            <a:ext cx="730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437000" y="4508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24480" y="4508640"/>
            <a:ext cx="871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4611600" y="4508280"/>
            <a:ext cx="889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700520" y="4363920"/>
            <a:ext cx="87480" cy="144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788000" y="4217760"/>
            <a:ext cx="7308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861080" y="414468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948200" y="39988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5035680" y="3852720"/>
            <a:ext cx="8712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122800" y="382392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95880" y="382428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283360" y="3838680"/>
            <a:ext cx="8712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70480" y="3954600"/>
            <a:ext cx="8748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57960" y="4071960"/>
            <a:ext cx="727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30680" y="408636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618160" y="411480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705640" y="4057200"/>
            <a:ext cx="8856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94200" y="3954600"/>
            <a:ext cx="87480" cy="102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81680" y="3954600"/>
            <a:ext cx="730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54760" y="3970440"/>
            <a:ext cx="87120" cy="129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41880" y="410040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129360" y="418788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16480" y="4187880"/>
            <a:ext cx="730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89560" y="4144680"/>
            <a:ext cx="8748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377040" y="413064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464160" y="41004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551640" y="4057200"/>
            <a:ext cx="8712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638760" y="4012920"/>
            <a:ext cx="730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11840" y="4013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99320" y="405756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86440" y="4130640"/>
            <a:ext cx="889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975360" y="4041360"/>
            <a:ext cx="71640" cy="88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7047000" y="3984120"/>
            <a:ext cx="8892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35920" y="39844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23040" y="398448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0520" y="398448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7397640" y="397008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7470720" y="39402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58200" y="394020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45320" y="3970440"/>
            <a:ext cx="874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32800" y="398448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05880" y="39988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7893000" y="39398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980480" y="388116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8067600" y="3574800"/>
            <a:ext cx="88920" cy="306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156520" y="3385800"/>
            <a:ext cx="73080" cy="1890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8229600" y="3138480"/>
            <a:ext cx="87480" cy="247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8317080" y="3033360"/>
            <a:ext cx="5688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8404200" y="289044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5640" y="4815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5640" y="4202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2960" y="359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32960" y="297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2960" y="2365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2960" y="1752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rot="16200000">
            <a:off x="9723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128088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16437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rot="16200000">
            <a:off x="1978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6200000">
            <a:off x="22856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6200000">
            <a:off x="26503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16200000">
            <a:off x="2999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6200000">
            <a:off x="33062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6200000">
            <a:off x="3670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4007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431280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46760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50126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53193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16200000">
            <a:off x="56822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60188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3399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6703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70398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16200000">
            <a:off x="734652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7711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80445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8339040" y="2971440"/>
            <a:ext cx="5724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89080" y="304920"/>
            <a:ext cx="710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Humanst521 Cn BT"/>
              </a:rPr>
              <a:t>Accumulated Inflation –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cks and adjusted targets: the case of Brazil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accommodate its direct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fight secondary effects, but choosing some horizon to weed out these effects – some weight to output variability in the objective fu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shocks (supply sho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mmodate direct impact, and fight part of inertia inherited from the previous year (secondary eff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 different inflation and output trajectories associated with different interest rat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ooses the optimal path based on CB’s aversion to inflation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ed target is publicly annou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zil: Adjusted target 2003 and 20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6564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flation 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rcRect l="0" t="8669" r="0" b="80941"/>
          <a:stretch/>
        </p:blipFill>
        <p:spPr>
          <a:xfrm>
            <a:off x="533520" y="1981080"/>
            <a:ext cx="7543800" cy="45720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609480" y="2496960"/>
            <a:ext cx="77724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: developments and the disinflation proces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V) Challenges: Fiscal Domina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29528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304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f a Country has a high debt level, Fiscal Dominance (F.D.) is a 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6172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lanchard (2003) discusses this efect for the Brazil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04920" y="1905120"/>
            <a:ext cx="8686800" cy="4041000"/>
            <a:chOff x="304920" y="1905120"/>
            <a:chExt cx="8686800" cy="4041000"/>
          </a:xfrm>
        </p:grpSpPr>
        <p:sp>
          <p:nvSpPr>
            <p:cNvPr id="1621" name=""/>
            <p:cNvSpPr/>
            <p:nvPr/>
          </p:nvSpPr>
          <p:spPr>
            <a:xfrm>
              <a:off x="380880" y="28195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terest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8680" y="21337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24080" y="1905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Output 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81280" y="3048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057400" y="2361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04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8128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38680" y="2133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69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5740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53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105520" y="28195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905120"/>
              <a:ext cx="17528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radicional Chann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81080" y="3886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81952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8120" y="41911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obability of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4832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543800" y="4343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580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10280" y="3657600"/>
              <a:ext cx="1981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F.Do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56272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62720" y="4191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74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6479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6200" y="502920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99"/>
                  </a:solidFill>
                  <a:latin typeface="Tahoma"/>
                </a:rPr>
                <a:t>(Feedback, in case o dolar linked deb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6" name=""/>
          <p:cNvGraphicFramePr/>
          <p:nvPr/>
        </p:nvGraphicFramePr>
        <p:xfrm>
          <a:off x="1066680" y="1828800"/>
          <a:ext cx="723924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13716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al exchange rate depreciation due to the 2001 crisis (energy + Argentina) and 2002 crises (confidence) push the debt/GDP rati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1447920" y="1844640"/>
            <a:ext cx="7162560" cy="50133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3716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d also did the monetary tigh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EMEs has been relatively successful but has shown to be a more challenging task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building cred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reducing infl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external sh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Fiscal domi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 has been a stress test for the reg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: “sudden stop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 tend to play a more important role in EMEs than in developed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s are subject to “sudden stop” in capital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xchange rate depreciations lea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reaches of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volatility of inflation, output, exchange rate and interes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I: Response to sh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ptimal response will depend on the nature of the shock, on a number of economic parameters and elasticities, and on the preferences of society relative to the inflation versus output-gap volatility trade-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V: Horiz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magic number. It depends on the type, size and persistence of the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MEs are more subject to larger shocks -&gt; longer target hori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t, with a central bank building credibility, longer horizons could be interpreted as len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V: How to deal with higher volat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o build credi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oo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e fiscal and external frag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Use flexibility to deal with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cial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unication and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cro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e liberalization 199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stabilization, Real plan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nking reform,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targeting adopted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oating exchange rate in January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und fiscal policy: agreement with local governments 1997, primary surpluses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High inflation period ended in 199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8156" r="0" b="11284"/>
          <a:stretch/>
        </p:blipFill>
        <p:spPr>
          <a:xfrm>
            <a:off x="685800" y="26668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0" y="1981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CA, YoY % 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7360" y="76212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cal Primary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1560600"/>
            <a:ext cx="7086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0:33Z</dcterms:created>
  <dc:creator>"a</dc:creator>
  <dc:description/>
  <dc:language>en-US</dc:language>
  <cp:lastModifiedBy>Administrador</cp:lastModifiedBy>
  <dcterms:modified xsi:type="dcterms:W3CDTF">2004-09-27T23:09:05Z</dcterms:modified>
  <cp:revision>184</cp:revision>
  <dc:subject/>
  <dc:title>Inflation Targeting in Emerging Market Econom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9781796</vt:r8>
  </property>
  <property fmtid="{D5CDD505-2E9C-101B-9397-08002B2CF9AE}" pid="3" name="_AuthorEmail">
    <vt:lpwstr>ibarenboim@gaveainvest.com.br</vt:lpwstr>
  </property>
  <property fmtid="{D5CDD505-2E9C-101B-9397-08002B2CF9AE}" pid="4" name="_AuthorEmailDisplayName">
    <vt:lpwstr>Igor Barenboim (RJ)</vt:lpwstr>
  </property>
  <property fmtid="{D5CDD505-2E9C-101B-9397-08002B2CF9AE}" pid="5" name="_EmailSubject">
    <vt:lpwstr>consegui abrir a apresentação</vt:lpwstr>
  </property>
  <property fmtid="{D5CDD505-2E9C-101B-9397-08002B2CF9AE}" pid="6" name="_PreviousAdHocReviewCycleID">
    <vt:r8>-1433890333</vt:r8>
  </property>
  <property fmtid="{D5CDD505-2E9C-101B-9397-08002B2CF9AE}" pid="7" name="_ReviewingToolsShownOnce">
    <vt:lpwstr/>
  </property>
</Properties>
</file>