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0EC-AD87-446E-B1E2-AB6FD2B8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DEF-5669-4D0F-B3A4-BFEC35F05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466-0354-4B67-BB89-5E97F61F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8F7-331B-44A7-9287-2766D13B2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0E545-7FFE-45BA-8553-C1643AEB2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F7FA-3E59-4E21-A62E-F0CFA6DE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0A7D-7C2C-4891-81C7-6276A2C69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BE37-9353-4FE2-A5E5-9BE5BD34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D1CD-41CD-4498-BB9D-FEC09585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79ED-28F3-40ED-9E55-76FFFFC60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D6A9-BC89-4758-8823-66731EC3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2CD6-B541-4102-A582-D25E5BF4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9699-014B-47E7-9F37-1C9279F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F0C2-4236-4FF0-8C68-46924DE0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E5CD-7827-498D-91FC-05F8C6810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9CD6-5D82-4060-BADC-BE704E516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2B743-F48C-40C7-8BED-22C0EB7F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A30-3A8E-4975-A667-A683325A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5543-A708-4D9B-AA97-83C4FF713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31E-D5F7-4292-B325-3A2CE2B3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6428-B9CA-4A6A-9F95-64398137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656F-4620-4DCD-8E75-B61A97EC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599-19E3-4607-BBA1-F8266287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90A7-5612-44EC-8C84-87928C95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e0dee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e0dee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EC03-17A9-40E6-9ED0-11150C947C4E}" type="datetime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0de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0451-FC8B-434A-B970-759AD4D24C35}" type="slidenum">
              <a:rPr b="0" lang="en-US" sz="1400" spc="-1" strike="noStrike">
                <a:solidFill>
                  <a:srgbClr val="e0dee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hatch_title" descr=""/>
          <p:cNvPicPr/>
          <p:nvPr/>
        </p:nvPicPr>
        <p:blipFill>
          <a:blip r:embed="rId3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99840" y="10663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0deed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67D0-D836-4A36-8EB4-A877AC7177B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F621-7E06-45C6-A495-08DA26ED0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0dee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0dee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0dee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0deed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0deed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0dee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94920"/>
            <a:ext cx="80773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BANKERS ASSOCIATION OF TURKEY -  MONEY LAUNDERING CONFERENCE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3962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Current International Developments in Combating Money Laundering &amp; 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John Carlson, FATF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Istanbul, 24 May 2002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3. Non-financial businesses and profess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pply the 40 Recommendations to -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asinos and other gambling business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Dealers in real estate and high value item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Company and trust service provid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Lawye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Notari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Accounting Professional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vestment advisor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Arial"/>
              </a:rPr>
              <a:t>Suspicious Transaction Reporting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n effective STR system is critical to the anti-money laundering system and the bank: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required by the FATF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discourages criminals from misusing banks, as they would be concerned about discove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part of banks due diligence systems, and helps to protect against fraud and other crimes affecting the solvency of the bank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0dee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t is essential to protect the banks reputat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685800" y="1268280"/>
          <a:ext cx="7772400" cy="4319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268280"/>
                    <a:ext cx="777240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3053880" y="357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Results in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5800" y="2895480"/>
          <a:ext cx="7772400" cy="25671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895480"/>
                    <a:ext cx="777240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2436480" y="1523160"/>
            <a:ext cx="420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STR in three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Improved STR Effectivenes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ing the level of feedback to reporting institutions, and also creating a closer working relationship between the FIU, the regulator and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Increased education and training for front-line and other staff of financial institu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compliance officers are filtering reports in an appropriate w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6212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financial institutions and their staff have appropriate legal protection from criminal and civil proceedings, which will thus encourage them to make report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 algn="just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ocussing increased attention on the NBFI sector, and also on non-cash transactions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Ensuring that all institutions within each sector make reports where appropriate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0deed"/>
                </a:solidFill>
                <a:uFillTx/>
                <a:latin typeface="Arial"/>
              </a:rPr>
              <a:t>Topics covered in this Presentation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2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current status of the Non-Cooperative Countries and Territories (NCCT) exercise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Review of the FATF 40 Recommendation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importance and role of Suspicious Transaction Reports (STR)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1295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5 Non-Cooperative Countries and Territories June 2000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Bahama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ayman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iechtenstei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1160" indent="-28116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47960" y="2666520"/>
            <a:ext cx="38098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anam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-28800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7 NCCTs - June 2001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arshall Islands </a:t>
            </a: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0deed"/>
                </a:solidFill>
                <a:latin typeface="Arial"/>
              </a:rPr>
              <a:t>19 NCCT - May 2002</a:t>
            </a:r>
            <a:endParaRPr b="0" lang="en-US" sz="36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Cook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Dominic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Egypt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renad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Guatemal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Hungary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ndone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Israel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Lebanon 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arshall Island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1640" y="19807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Myanmar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auru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ger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Niu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Philipp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Russia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Kitts and Nevi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St. Vincent and the Grenadines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0deed"/>
              </a:buClr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0deed"/>
                </a:solidFill>
                <a:latin typeface="Arial"/>
              </a:rPr>
              <a:t>Ukraine</a:t>
            </a:r>
            <a:endParaRPr b="0" lang="en-US" sz="24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0deed"/>
                </a:solidFill>
                <a:latin typeface="Arial"/>
              </a:rPr>
              <a:t>Extra counter-measures</a:t>
            </a:r>
            <a:endParaRPr b="0" lang="en-US" sz="32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cter requirements to identify clients from NCC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d or systematic reporting of financial transac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NCCT based bank requests establishing a subsidiary, branch or representative office take into account that jurisdiction is NCCT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rn non-financial sector businesses of the risk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1460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1460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Major issues in Review of 40 Recommenda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Review begun last year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FATF has prepared a public consultation paper that sets out the issues and the risks, and provides one or more options for dealing with them.  Should be issued 30/31 May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The financial sector and all other interested parties are invited to provide comments to the FATF on the issues raised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ff66"/>
                </a:solidFill>
                <a:uFillTx/>
                <a:latin typeface="Times New Roman"/>
              </a:rPr>
              <a:t>1. Customer due diligence, suspicious transaction reporting and regulation and supervisio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efine the obligations to identify and verify the identity of the customer and the beneficial owner, and to perform necessary due diligence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Categories of customer or transactions where there is potentially a higher risk: politically exposed persons, correspondent banking and electronic and other non face-to-face financial service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 algn="just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Simplified or alternative measures for lower risk scenarios, “introduced business” and reliance on third parties to perform some of the identification and verification functions;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ffff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Role of financial intelligence units (MASAK), the need for feedback to reporting institutions, and the regulation and supervision of institutions.</a:t>
            </a:r>
            <a:endParaRPr b="0" lang="en-US" sz="20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66"/>
                </a:solidFill>
                <a:uFillTx/>
                <a:latin typeface="Arial"/>
              </a:rPr>
              <a:t>2. Information on beneficial ownership and control of companies, trusts etc.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ccess to information by law enforcement, regulators and financial institution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66"/>
                </a:solidFill>
                <a:latin typeface="Arial"/>
              </a:rPr>
              <a:t>Paper examines the risks, the current obligations, the purposes for which beneficial ownership and control information is required, the essential requirements and possible measures that could be taken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easures to take regarding bearer shares and trusts</a:t>
            </a:r>
            <a:endParaRPr b="0" lang="en-US" sz="2800" spc="-1" strike="noStrike">
              <a:solidFill>
                <a:srgbClr val="e0deed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66880" y="0"/>
          <a:ext cx="385776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0"/>
                    <a:ext cx="385776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13:49:44Z</dcterms:created>
  <dc:creator>OECD</dc:creator>
  <dc:description/>
  <dc:language>en-US</dc:language>
  <cp:lastModifiedBy>EILEEN</cp:lastModifiedBy>
  <cp:lastPrinted>2002-05-23T12:58:07Z</cp:lastPrinted>
  <dcterms:modified xsi:type="dcterms:W3CDTF">2002-05-23T13:38:46Z</dcterms:modified>
  <cp:revision>30</cp:revision>
  <dc:subject/>
  <dc:title>Title</dc:title>
</cp:coreProperties>
</file>