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E481-25C4-453F-A45A-705E381A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4C30-ACE5-4487-8CEF-D83EBFA9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FB84-C607-4473-9C73-EB7D5F9B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CEF-9D46-4470-A8C2-C638C94C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A00-A57C-4352-92B5-AABAB44A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F5B-7B4D-4010-A412-F2D4B331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1203-22FF-4810-9136-8420C23F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E62F-94CE-47C8-95B3-FE84C27B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A16-9F71-44BA-938E-3B83B48C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B11-4178-43ED-AABE-8E165EC9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2ACD-C588-4FE7-9E64-FFC841B0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B28E-1676-4BAE-B1E8-AB979E97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853F-53FE-4C47-BEF9-AFB97AB0D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8380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43828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30492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ÖRNEĞİ - KAR ZA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532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58200" y="3200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666880" y="914400"/>
          <a:ext cx="5410440" cy="4724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914400"/>
                    <a:ext cx="5410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6:15Z</dcterms:modified>
  <cp:revision>27</cp:revision>
  <dc:subject/>
  <dc:title>No Slide Title</dc:title>
</cp:coreProperties>
</file>