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FCB-AF47-4B3D-833C-52039C4B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DE5-0B5C-4CD3-BD75-39CD0001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7FA-898B-4916-8620-04E85525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96F-664E-4480-B305-4516941E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5A4-EF53-4098-99E4-BC587D98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DA3-716C-4C8A-A1F3-D93926D9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3ED-72BA-402F-80C6-F9A1EF77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800-FC6B-4AC9-A5F2-BCEF34D3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F18-452A-4CB3-8605-EA09E902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EC0-82A0-4A52-9663-661EAA33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9E1-5919-4226-9734-2F2FBBCD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ECA-69D2-4F24-BF25-C7D72125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2D1D-957A-40E1-8FF7-26F62FEED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762120"/>
            <a:ext cx="6400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UMS 29 UYGULAMASININ REVİZE UMS 12 AÇISINDAN ERTELENMİŞ                     VERGİ ETKİS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2133720"/>
            <a:ext cx="51814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BİT KIYMET ALIM DEĞERİ                 (UMS 29 değerlemesine tabi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UNİ KAYITLARDA YENİDEN           DEĞERLENMİŞ DEĞER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S 29 DEĞERLEMES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3526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886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3526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105520"/>
            <a:ext cx="4495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EÇİCİ FARKLILIK DEĞERİ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1:54Z</dcterms:modified>
  <cp:revision>27</cp:revision>
  <dc:subject/>
  <dc:title>No Slide Title</dc:title>
</cp:coreProperties>
</file>