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A8D3-E85E-4038-BB73-1AEF1F1B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4C0C-89F5-48EF-8AC9-AB861CE9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F38B-B596-44EC-8767-2DCDEB08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B9BB-E8B5-4DE8-8D85-3EC310A95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90DE-AD4D-482C-A62F-89D5B32D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A125-F7BC-47BA-96DA-55C837A2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ACAD-ED8E-4741-94A3-7B9C7FB0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EF38-C713-42AE-9C27-A3DD9776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6949-18DB-4098-8910-0FD9CAAD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3FEF-DB54-4EB9-ABD3-01469931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BF05-C377-4D03-B80F-AE68FB8D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EAA8-5C52-4E8E-B7E7-8CC6AFAF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C486-8084-43D2-9CFD-23B5E5645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228600"/>
            <a:ext cx="81532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S 29 / 21 KARŞILAŞTIRM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010280" y="762120"/>
          <a:ext cx="16765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762120"/>
                    <a:ext cx="1676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7010280" y="236232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236232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533520" y="762120"/>
          <a:ext cx="6430680" cy="4800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762120"/>
                    <a:ext cx="64306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4:59Z</dcterms:modified>
  <cp:revision>27</cp:revision>
  <dc:subject/>
  <dc:title>No Slide Title</dc:title>
</cp:coreProperties>
</file>