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90D9-B683-4217-80E2-2C944814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2DC3-58B8-4193-8670-F46D1517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1942-A4C8-4006-B568-C5B59722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5FA2-E5EA-43A2-BB22-188C6059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D542-4EBE-4752-A48E-01F18229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DF95-3701-4F21-B5ED-84173F6D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812B-7417-44FA-A281-D66ABCDE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D75D-B7D5-4E70-820C-EAD2E08B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5EDA-C0AE-4C5F-AD3B-FBA3BA58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BCFA-A3C3-41FB-BFEB-9BB11196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A7C6-98E6-49E4-9910-AEDC5DE4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7705-545D-4FE8-92D0-DA4B4554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9232-421B-43F6-9C33-4135B2AA4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838080"/>
          <a:ext cx="16765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16765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880" y="243828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43828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80880" y="304920"/>
            <a:ext cx="77724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ÖRNEĞİ - BİLAN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38280" y="914400"/>
          <a:ext cx="5715000" cy="5029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914400"/>
                    <a:ext cx="5715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7:21Z</dcterms:modified>
  <cp:revision>27</cp:revision>
  <dc:subject/>
  <dc:title>No Slide Title</dc:title>
</cp:coreProperties>
</file>